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6E5-C2A3-42FD-B434-071078B0C4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849E-D068-48F7-83F7-76DA71FBD6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C66-1F17-4993-9EF8-03FD937D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1C1-05B7-4D72-B1AC-2EB36C0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6EC-2AEE-4BB4-A18B-F01C2B22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040-76A0-4378-A5ED-3B5B318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2BD-D425-433E-A815-3B52FDA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317-23C2-407E-A7C3-E8CBD26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F19-48C2-43EB-8B02-7D1509C7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A7F-042B-4583-952F-96C0649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780-8826-48D4-AB5C-4A5BA45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B98-6C95-432C-98C0-E039E2B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97E-4EBD-4FA1-A6B6-1A6381D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EB7-16AE-4886-A433-E8D8F6C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A15-7FD3-4595-B60B-6AAE53167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会变色的报春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17618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含羞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200912251726493593.jpg"/>
          <p:cNvPicPr/>
          <p:nvPr/>
        </p:nvPicPr>
        <p:blipFill>
          <a:blip r:embed="rId1"/>
          <a:stretch/>
        </p:blipFill>
        <p:spPr>
          <a:xfrm>
            <a:off x="1327320" y="1857240"/>
            <a:ext cx="6459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热情的罗马尼亚主人为什么不顺着次序介绍各种花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因为他要带我们先去看“中国草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主人为什么认为中国人像含羞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因为中国人表现得都很谦虚，含羞草也正有着这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965160" y="6043680"/>
            <a:ext cx="60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人们为什么把植物拟人化？你还知道哪些植物象征着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因为有些植物的生长特点、形状得到了人们的喜爱，联想到人类的一些优秀品质，就采取了这种拟人化的手法。如荷花被喻为“出淤泥而不染”，象征着纯洁；青松挺拔且不惧严寒，被人们作为勇敢和坚强不屈的象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20001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生活中的自然现象与科学知识无处不在，请同学们围绕本课 “花儿的颜色与含羞草的象征”这一话题展开讨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B692-5793-471C-96D1-5C3EA2EAFC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同学们，你们认识报春花吗？知道报春花有哪几种颜色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3" descr="14300000877827129593976063924.jpg"/>
          <p:cNvPicPr/>
          <p:nvPr/>
        </p:nvPicPr>
        <p:blipFill>
          <a:blip r:embed="rId1"/>
          <a:stretch/>
        </p:blipFill>
        <p:spPr>
          <a:xfrm>
            <a:off x="0" y="3214800"/>
            <a:ext cx="592920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200912301722017327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内容占位符 3" descr="300000764046131304732400316_950.jpg"/>
          <p:cNvPicPr/>
          <p:nvPr/>
        </p:nvPicPr>
        <p:blipFill>
          <a:blip r:embed="rId1"/>
          <a:stretch/>
        </p:blipFill>
        <p:spPr>
          <a:xfrm>
            <a:off x="0" y="0"/>
            <a:ext cx="4429080" cy="3319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u=3874527877,3680508151&amp;fm=23&amp;gp=0.jpg"/>
          <p:cNvPicPr/>
          <p:nvPr/>
        </p:nvPicPr>
        <p:blipFill>
          <a:blip r:embed="rId2"/>
          <a:stretch/>
        </p:blipFill>
        <p:spPr>
          <a:xfrm>
            <a:off x="3786120" y="3375000"/>
            <a:ext cx="53578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字词学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ú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cì               r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壶               钓                赐              柔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ū                  cù                jǔ                      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舒展                簇               举动             幼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4"/>
          <p:cNvSpPr/>
          <p:nvPr/>
        </p:nvSpPr>
        <p:spPr>
          <a:xfrm>
            <a:off x="270036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词语解释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幼稚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头脑简单，缺乏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为所欲为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想干什么就干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果真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真的，确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冒尖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刚露出叶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恭敬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十分尊敬；严肃有礼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文理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小达尔文为什么认为报春花应该是各种颜色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因为人可以改变花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从这件事可以看出小达尔文是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小就是一个热爱花草、爱劳动和爱动脑筋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父亲对小达尔文的新奇想法是什么态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认为这是小孩子的幼稚想法，完全是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对于父亲的回答，小达尔文是怎样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从心里不服。他想：“我一定想法让花改变颜色，变出一朵红色的报春花给你瞧瞧。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小达尔文是怎样培养出红色的报春花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把一束白色的报春花插在红墨水瓶里，第二天她就变得红艳艳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小达尔文身上有什么与众不同之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善于观察事物，更善于动脑筋，想别人不敢想的事，做别人不敢做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5:39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29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