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11.jpeg" ContentType="image/jpeg"/>
  <Override PartName="/ppt/media/chimes.wav" ContentType="audio/x-wav"/>
  <Override PartName="/ppt/media/image16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25" end="4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3D36-88B4-4745-9095-EEEFC009B4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D4D5-EB8B-485C-A214-4E0E91AA95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31C-6A8E-4822-9666-384C8B66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B84-3B79-4BE3-8A40-013032D4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C30-BD83-4173-B626-1D428507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F94-A977-4AF9-99B1-2338985A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53B-15E9-497A-9E35-CDA13EC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B18-85CA-4414-BB79-047E647A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47E-001E-4585-AE89-FEC877D7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ED4-89FF-46DF-BAEE-5744DDDE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53B-E6F7-42D0-BDE6-D29590D4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A26-EF44-4472-B9E8-4AC8FDE4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1F7-0FE2-4ED3-B5F5-D27D5805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EB8-5275-49BC-89F2-EF915D44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4AE5-328A-4DE5-9170-276539DB16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gif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258920" y="1792440"/>
            <a:ext cx="6624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虎口藏宝</a:t>
            </a:r>
            <a:endParaRPr b="1" lang="en-US" sz="6000" spc="-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775520" y="5661000"/>
            <a:ext cx="5721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954080" y="1052640"/>
            <a:ext cx="70106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疲惫不堪   琢磨    瞥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忧心忡忡   戛然停下  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喜出望外   翻箱倒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栩栩如生   不禁   看守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复件 读一读"/>
          <p:cNvPicPr/>
          <p:nvPr/>
        </p:nvPicPr>
        <p:blipFill>
          <a:blip r:embed="rId1"/>
          <a:stretch/>
        </p:blipFill>
        <p:spPr>
          <a:xfrm>
            <a:off x="0" y="0"/>
            <a:ext cx="21146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187280" y="0"/>
            <a:ext cx="67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词语采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268280"/>
            <a:ext cx="9144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瞥见  陶瓷  琢磨  眼眶遮掩  胶卷  陌生  歹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宋体"/>
              </a:rPr>
              <a:t>栩栩如生  价值连城  疲惫不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宋体"/>
              </a:rPr>
              <a:t>忧心忡忡  迷惑不解  翻箱倒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宋体"/>
              </a:rPr>
              <a:t>无能为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多音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ó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ng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（灯笼）（牢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ǒ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ng 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（笼罩）（笼统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近义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神秘—神奇     搜寻—搜索     迷惑不解—疑惑不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戛然—突然     凝视—注视     价值连城—无价之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反义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陌生—熟悉     价值连城—一文不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喜出望外—大失所望   忧心忡忡—欣喜若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洋洋得意—垂头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923760"/>
            <a:ext cx="16002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栩栩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如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生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价值连城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琢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磨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出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望外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疲惫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不堪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忧心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忡忡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迷惑不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解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81280" y="157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词语积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495680" y="930240"/>
            <a:ext cx="16002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翻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箱倒柜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洋洋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得意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歹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徒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无能为力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戛然：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凝视</a:t>
            </a:r>
            <a:r>
              <a:rPr b="1" lang="en-US" sz="2400" spc="-1" strike="noStrike">
                <a:solidFill>
                  <a:srgbClr val="cc00cc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432080" y="685800"/>
            <a:ext cx="31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活泼生动的样子。指艺术形象非常逼真，如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活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样。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栩栩：活泼生动的样子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432080" y="1978200"/>
            <a:ext cx="31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容物品价值特别高，极其珍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98560" y="260352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uó mo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思索，考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(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z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uó mó )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动词，雕琢、打磨（玉石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喻对待诗文等反复加工，精益求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447920" y="411480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遇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超过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望，因而感到特别高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447920" y="47242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容非常疲乏。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不堪：不能忍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447920" y="5334120"/>
            <a:ext cx="29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容心事重重，非常忧愁。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忡忡：忧愁不安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447920" y="6156360"/>
            <a:ext cx="28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指对某事非常疑惑，很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理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927760" y="762120"/>
            <a:ext cx="32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把箱子柜子都翻倒过来。形容彻底地翻检、搜查。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翻：倒，反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5927760" y="2057400"/>
            <a:ext cx="32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容神气十足，非常得意。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洋洋：得意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297400" y="3200400"/>
            <a:ext cx="38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歹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坏人。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歹：坏（人、事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943600" y="3733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不上力量；没有能力或能力达不到。 多指没有力量完成某件事情或解决某个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4100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聚精会神地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5334120" y="53341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声音忽然停止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指事情突然中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042920" y="7650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二、多音字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1079640" y="1557720"/>
            <a:ext cx="2133360" cy="2127960"/>
            <a:chOff x="1079640" y="1557720"/>
            <a:chExt cx="2133360" cy="2127960"/>
          </a:xfrm>
        </p:grpSpPr>
        <p:sp>
          <p:nvSpPr>
            <p:cNvPr id="108" name="Rectangle 4"/>
            <p:cNvSpPr/>
            <p:nvPr/>
          </p:nvSpPr>
          <p:spPr>
            <a:xfrm>
              <a:off x="1079640" y="1557720"/>
              <a:ext cx="2133360" cy="21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GB Pinyinok-C"/>
                  <a:ea typeface="GB Pinyinok-C"/>
                </a:rPr>
                <a:t>m5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GB Pinyinok-C"/>
                  <a:ea typeface="GB Pinyinok-C"/>
                </a:rPr>
                <a:t>m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5"/>
            <p:cNvSpPr/>
            <p:nvPr/>
          </p:nvSpPr>
          <p:spPr>
            <a:xfrm>
              <a:off x="1917360" y="1949400"/>
              <a:ext cx="228240" cy="144792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241"/>
                  </a:lnTo>
                  <a:cubicBezTo>
                    <a:pt x="10800" y="10140"/>
                    <a:pt x="5400" y="11038"/>
                    <a:pt x="0" y="11038"/>
                  </a:cubicBezTo>
                  <a:cubicBezTo>
                    <a:pt x="5400" y="11038"/>
                    <a:pt x="10800" y="11937"/>
                    <a:pt x="10800" y="12835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6"/>
          <p:cNvGrpSpPr/>
          <p:nvPr/>
        </p:nvGrpSpPr>
        <p:grpSpPr>
          <a:xfrm>
            <a:off x="4051440" y="1089720"/>
            <a:ext cx="2133360" cy="3042000"/>
            <a:chOff x="4051440" y="1089720"/>
            <a:chExt cx="2133360" cy="3042000"/>
          </a:xfrm>
        </p:grpSpPr>
        <p:sp>
          <p:nvSpPr>
            <p:cNvPr id="111" name="Rectangle 7"/>
            <p:cNvSpPr/>
            <p:nvPr/>
          </p:nvSpPr>
          <p:spPr>
            <a:xfrm>
              <a:off x="4051440" y="1089720"/>
              <a:ext cx="2133360" cy="30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GB Pinyinok-C"/>
                  <a:ea typeface="GB Pinyinok-C"/>
                </a:rPr>
                <a:t>ju2n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GB Pinyinok-C"/>
                  <a:ea typeface="GB Pinyinok-C"/>
                </a:rPr>
                <a:t>ju3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>
              <a:off x="4889160" y="1938240"/>
              <a:ext cx="228240" cy="144792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241"/>
                  </a:lnTo>
                  <a:cubicBezTo>
                    <a:pt x="10800" y="10140"/>
                    <a:pt x="5400" y="11038"/>
                    <a:pt x="0" y="11038"/>
                  </a:cubicBezTo>
                  <a:cubicBezTo>
                    <a:pt x="5400" y="11038"/>
                    <a:pt x="10800" y="11937"/>
                    <a:pt x="10800" y="12835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1079640" y="3919680"/>
            <a:ext cx="2133360" cy="2127960"/>
            <a:chOff x="1079640" y="3919680"/>
            <a:chExt cx="2133360" cy="2127960"/>
          </a:xfrm>
        </p:grpSpPr>
        <p:sp>
          <p:nvSpPr>
            <p:cNvPr id="114" name="Rectangle 10"/>
            <p:cNvSpPr/>
            <p:nvPr/>
          </p:nvSpPr>
          <p:spPr>
            <a:xfrm>
              <a:off x="1079640" y="3919680"/>
              <a:ext cx="2133360" cy="21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GB Pinyinok-C"/>
                  <a:ea typeface="GB Pinyinok-C"/>
                </a:rPr>
                <a:t>ji`n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GB Pinyinok-C"/>
                  <a:ea typeface="GB Pinyinok-C"/>
                </a:rPr>
                <a:t>ji3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1"/>
            <p:cNvSpPr/>
            <p:nvPr/>
          </p:nvSpPr>
          <p:spPr>
            <a:xfrm>
              <a:off x="1917360" y="4311360"/>
              <a:ext cx="228240" cy="144792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241"/>
                  </a:lnTo>
                  <a:cubicBezTo>
                    <a:pt x="10800" y="10140"/>
                    <a:pt x="5400" y="11038"/>
                    <a:pt x="0" y="11038"/>
                  </a:cubicBezTo>
                  <a:cubicBezTo>
                    <a:pt x="5400" y="11038"/>
                    <a:pt x="10800" y="11937"/>
                    <a:pt x="10800" y="12835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2"/>
          <p:cNvGrpSpPr/>
          <p:nvPr/>
        </p:nvGrpSpPr>
        <p:grpSpPr>
          <a:xfrm>
            <a:off x="4051440" y="3462840"/>
            <a:ext cx="2133360" cy="3042000"/>
            <a:chOff x="4051440" y="3462840"/>
            <a:chExt cx="2133360" cy="3042000"/>
          </a:xfrm>
        </p:grpSpPr>
        <p:sp>
          <p:nvSpPr>
            <p:cNvPr id="117" name="Rectangle 13"/>
            <p:cNvSpPr/>
            <p:nvPr/>
          </p:nvSpPr>
          <p:spPr>
            <a:xfrm>
              <a:off x="4051440" y="3462840"/>
              <a:ext cx="2133360" cy="30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GB Pinyinok-C"/>
                  <a:ea typeface="GB Pinyinok-C"/>
                </a:rPr>
                <a:t>di3o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GB Pinyinok-C"/>
                  <a:ea typeface="GB Pinyinok-C"/>
                </a:rPr>
                <a:t>ti1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4889160" y="4311360"/>
              <a:ext cx="228240" cy="144792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241"/>
                  </a:lnTo>
                  <a:cubicBezTo>
                    <a:pt x="10800" y="10140"/>
                    <a:pt x="5400" y="11038"/>
                    <a:pt x="0" y="11038"/>
                  </a:cubicBezTo>
                  <a:cubicBezTo>
                    <a:pt x="5400" y="11038"/>
                    <a:pt x="10800" y="11937"/>
                    <a:pt x="10800" y="12835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768040" y="1633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2768040" y="31719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809680" y="1633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809680" y="31719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2761560" y="3995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2761560" y="5533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5892120" y="3995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5892120" y="5533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复件 初读感知"/>
          <p:cNvPicPr/>
          <p:nvPr/>
        </p:nvPicPr>
        <p:blipFill>
          <a:blip r:embed="rId1"/>
          <a:stretch/>
        </p:blipFill>
        <p:spPr>
          <a:xfrm>
            <a:off x="152280" y="99072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复件 小女孩"/>
          <p:cNvPicPr/>
          <p:nvPr/>
        </p:nvPicPr>
        <p:blipFill>
          <a:blip r:embed="rId2"/>
          <a:stretch/>
        </p:blipFill>
        <p:spPr>
          <a:xfrm>
            <a:off x="380880" y="1828800"/>
            <a:ext cx="1967040" cy="50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胶卷"/>
          <p:cNvPicPr/>
          <p:nvPr/>
        </p:nvPicPr>
        <p:blipFill>
          <a:blip r:embed="rId3"/>
          <a:stretch/>
        </p:blipFill>
        <p:spPr>
          <a:xfrm>
            <a:off x="2484360" y="4581360"/>
            <a:ext cx="6659640" cy="2276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2436840" y="1676520"/>
            <a:ext cx="609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胶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线索，写了纳塔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陌生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纳塔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歹徒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威廉叔叔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68360" y="0"/>
            <a:ext cx="40672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初读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虎口藏宝_插图"/>
          <p:cNvPicPr/>
          <p:nvPr/>
        </p:nvPicPr>
        <p:blipFill>
          <a:blip r:embed="rId1"/>
          <a:stretch/>
        </p:blipFill>
        <p:spPr>
          <a:xfrm>
            <a:off x="0" y="1125360"/>
            <a:ext cx="6012000" cy="5256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179280" y="981000"/>
            <a:ext cx="161928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</a:rPr>
              <a:t>虎口藏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076720" y="170028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课文讲了一个什么故事？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复件 初读感知"/>
          <p:cNvPicPr/>
          <p:nvPr/>
        </p:nvPicPr>
        <p:blipFill>
          <a:blip r:embed="rId2"/>
          <a:stretch/>
        </p:blipFill>
        <p:spPr>
          <a:xfrm>
            <a:off x="0" y="0"/>
            <a:ext cx="25560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0" y="4221000"/>
            <a:ext cx="4427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初读感知"/>
          <p:cNvPicPr/>
          <p:nvPr/>
        </p:nvPicPr>
        <p:blipFill>
          <a:blip r:embed="rId1"/>
          <a:stretch/>
        </p:blipFill>
        <p:spPr>
          <a:xfrm>
            <a:off x="7064280" y="33336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900000" y="1125360"/>
            <a:ext cx="772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课文围绕这卷胶卷讲了一个什   么故事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语文S版五年级下册《第18课虎口藏宝》课件素材之课文朗读.mp3" descr=""/>
          <p:cNvPicPr/>
          <p:nvPr/>
        </p:nvPicPr>
        <p:blipFill>
          <a:blip r:embed="rId2"/>
          <a:stretch/>
        </p:blipFill>
        <p:spPr>
          <a:xfrm>
            <a:off x="3505320" y="685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539640" y="256536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纳塔莉在十分危急的情况下，机敏地将陶瓷虎口里藏的宝物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胶卷进行调包，躲过了歹徒的搜查，保护了胶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http_imgload参加"/>
          <p:cNvPicPr/>
          <p:nvPr/>
        </p:nvPicPr>
        <p:blipFill>
          <a:blip r:embed="rId3"/>
          <a:stretch/>
        </p:blipFill>
        <p:spPr>
          <a:xfrm>
            <a:off x="7010280" y="53341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463053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4"/>
          <p:cNvSpPr/>
          <p:nvPr/>
        </p:nvSpPr>
        <p:spPr>
          <a:xfrm>
            <a:off x="2987640" y="3645000"/>
            <a:ext cx="4356000" cy="1655640"/>
          </a:xfrm>
          <a:prstGeom prst="ellipse">
            <a:avLst/>
          </a:prstGeom>
          <a:solidFill>
            <a:srgbClr val="ffffcc">
              <a:alpha val="93000"/>
            </a:srgbClr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77760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按照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事情发展的顺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课文分成三个   部分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132000" y="4148280"/>
            <a:ext cx="4043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生→发展→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572000" y="1770120"/>
            <a:ext cx="517680" cy="1730160"/>
          </a:xfrm>
          <a:prstGeom prst="downArrow">
            <a:avLst>
              <a:gd name="adj1" fmla="val 50000"/>
              <a:gd name="adj2" fmla="val 83507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00532889101895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967360"/>
            <a:ext cx="685800" cy="642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发生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发展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结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863640" y="1341360"/>
            <a:ext cx="1763280" cy="1150920"/>
            <a:chOff x="863640" y="1341360"/>
            <a:chExt cx="1763280" cy="1150920"/>
          </a:xfrm>
        </p:grpSpPr>
        <p:sp>
          <p:nvSpPr>
            <p:cNvPr id="149" name="Oval 5"/>
            <p:cNvSpPr/>
            <p:nvPr/>
          </p:nvSpPr>
          <p:spPr>
            <a:xfrm>
              <a:off x="863640" y="134136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cde5d8"/>
                </a:gs>
                <a:gs pos="100000">
                  <a:srgbClr val="458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>
              <a:off x="979560" y="1453680"/>
              <a:ext cx="1012680" cy="925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>
              <a:off x="2106720" y="1902960"/>
              <a:ext cx="520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8"/>
          <p:cNvSpPr/>
          <p:nvPr/>
        </p:nvSpPr>
        <p:spPr>
          <a:xfrm>
            <a:off x="2698920" y="126828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735280" y="141300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~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纳塔莉从陶瓷虎口中发现了一卷胶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863640" y="2890800"/>
            <a:ext cx="1763280" cy="1150920"/>
            <a:chOff x="863640" y="2890800"/>
            <a:chExt cx="1763280" cy="1150920"/>
          </a:xfrm>
        </p:grpSpPr>
        <p:sp>
          <p:nvSpPr>
            <p:cNvPr id="155" name="Oval 11"/>
            <p:cNvSpPr/>
            <p:nvPr/>
          </p:nvSpPr>
          <p:spPr>
            <a:xfrm>
              <a:off x="863640" y="289080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979560" y="3003120"/>
              <a:ext cx="1012680" cy="9255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>
              <a:off x="2106720" y="3452400"/>
              <a:ext cx="52020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14"/>
          <p:cNvSpPr/>
          <p:nvPr/>
        </p:nvSpPr>
        <p:spPr>
          <a:xfrm>
            <a:off x="2666880" y="2743200"/>
            <a:ext cx="521820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735280" y="29624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~2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陌生人来家里搜查胶卷，纳塔莉巧妙地调包，保护了胶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6"/>
          <p:cNvGrpSpPr/>
          <p:nvPr/>
        </p:nvGrpSpPr>
        <p:grpSpPr>
          <a:xfrm>
            <a:off x="828720" y="4510080"/>
            <a:ext cx="1763280" cy="1150920"/>
            <a:chOff x="828720" y="4510080"/>
            <a:chExt cx="1763280" cy="1150920"/>
          </a:xfrm>
        </p:grpSpPr>
        <p:sp>
          <p:nvSpPr>
            <p:cNvPr id="161" name="Oval 17"/>
            <p:cNvSpPr/>
            <p:nvPr/>
          </p:nvSpPr>
          <p:spPr>
            <a:xfrm>
              <a:off x="828720" y="451008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cde5d8"/>
                </a:gs>
                <a:gs pos="100000">
                  <a:srgbClr val="458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>
              <a:off x="944640" y="4622400"/>
              <a:ext cx="1012680" cy="9255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2071800" y="5071680"/>
              <a:ext cx="520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20"/>
          <p:cNvSpPr/>
          <p:nvPr/>
        </p:nvSpPr>
        <p:spPr>
          <a:xfrm>
            <a:off x="2664000" y="4267080"/>
            <a:ext cx="5184720" cy="15242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2700360" y="4581360"/>
            <a:ext cx="518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8~3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威廉叔叔知道纳塔莉巧妙地保住了胶卷惊呆了，高兴地夸她是个聪明的孩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2514600" y="14130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一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2743200" y="2971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2743200" y="4343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3520" y="7113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预习，你们知道这虎口里的宝物是什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创设情境"/>
          <p:cNvPicPr/>
          <p:nvPr/>
        </p:nvPicPr>
        <p:blipFill>
          <a:blip r:embed="rId1"/>
          <a:stretch/>
        </p:blipFill>
        <p:spPr>
          <a:xfrm>
            <a:off x="0" y="0"/>
            <a:ext cx="2303640" cy="6318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4"/>
          <p:cNvGrpSpPr/>
          <p:nvPr/>
        </p:nvGrpSpPr>
        <p:grpSpPr>
          <a:xfrm>
            <a:off x="3124080" y="2057400"/>
            <a:ext cx="6019560" cy="4800600"/>
            <a:chOff x="3124080" y="2057400"/>
            <a:chExt cx="6019560" cy="4800600"/>
          </a:xfrm>
        </p:grpSpPr>
        <p:pic>
          <p:nvPicPr>
            <p:cNvPr id="53" name="Picture 5" descr="jp-052"/>
            <p:cNvPicPr/>
            <p:nvPr/>
          </p:nvPicPr>
          <p:blipFill>
            <a:blip r:embed="rId2"/>
            <a:stretch/>
          </p:blipFill>
          <p:spPr>
            <a:xfrm>
              <a:off x="4409280" y="2857680"/>
              <a:ext cx="473436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124080" y="2057400"/>
              <a:ext cx="1352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7" descr="jp-008"/>
          <p:cNvPicPr/>
          <p:nvPr/>
        </p:nvPicPr>
        <p:blipFill>
          <a:blip r:embed="rId3"/>
          <a:stretch/>
        </p:blipFill>
        <p:spPr>
          <a:xfrm>
            <a:off x="0" y="2819520"/>
            <a:ext cx="3581280" cy="4038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1677240" y="16002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隶书"/>
              </a:rPr>
              <a:t>胶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124080" y="19810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（能够证明两个歹徒是间谍的胶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57200" y="609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“胶卷”为线索，简要的概括课文的发展顺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1440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纳塔莉藏起胶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334120" y="3276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歹徒抢走被调包的胶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09680" y="48006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纳塔莉保住胶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19112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2b91a"/>
          </a:solidFill>
          <a:ln w="9360">
            <a:solidFill>
              <a:srgbClr val="f2b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228600" y="38098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2b91a"/>
          </a:solidFill>
          <a:ln w="9360">
            <a:solidFill>
              <a:srgbClr val="f2b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4419720" y="38098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2b91a"/>
          </a:solidFill>
          <a:ln w="9360">
            <a:solidFill>
              <a:srgbClr val="f2b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295280" y="5029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2b91a"/>
          </a:solidFill>
          <a:ln w="9360">
            <a:solidFill>
              <a:srgbClr val="f2b9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200532889101895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562720"/>
            <a:ext cx="685800" cy="6429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1">
            <a:hlinkClick r:id="rId3" action="ppaction://hlinksldjump"/>
          </p:cNvPr>
          <p:cNvSpPr/>
          <p:nvPr/>
        </p:nvSpPr>
        <p:spPr>
          <a:xfrm>
            <a:off x="609480" y="2286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纳塔莉发现胶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823360" y="2286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陌生人搜查胶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404280"/>
            <a:ext cx="75261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再读课文，理清脉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19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虎口藏宝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宝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什么？是谁藏的？为什么藏？怎么藏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68360" y="3789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全文围绕着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藏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字，分几部分来写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035600" y="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学习课文第一部分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755640" y="836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朗读第一部分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1628640"/>
            <a:ext cx="914400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课文第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自然段在文中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神秘的色彩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与下文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封信的内容说明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971640" y="25210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为下文故事的发生作铺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79280" y="43210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为下文描写陶瓷虎中藏有胶卷埋下了伏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24000" y="58960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说明了发现胶卷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836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.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第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自然段话中可以看出纳塔莉是个怎样的女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.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第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自然段是什么描写？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755640" y="2276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是个善于思考的女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24000" y="4437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是心理描写，突出了纳塔莉勤于思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33520" y="685800"/>
            <a:ext cx="7696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纳塔莉，你父母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威廉叔叔看上去既疲惫不堪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忧心忡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4876920" y="1981080"/>
            <a:ext cx="1853640" cy="88920"/>
            <a:chOff x="4876920" y="1981080"/>
            <a:chExt cx="1853640" cy="88920"/>
          </a:xfrm>
        </p:grpSpPr>
        <p:sp>
          <p:nvSpPr>
            <p:cNvPr id="194" name="Oval 4"/>
            <p:cNvSpPr/>
            <p:nvPr/>
          </p:nvSpPr>
          <p:spPr>
            <a:xfrm>
              <a:off x="4876920" y="1981080"/>
              <a:ext cx="7596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>
              <a:off x="5324400" y="1982520"/>
              <a:ext cx="7560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>
              <a:off x="5748120" y="1993680"/>
              <a:ext cx="7596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7"/>
            <p:cNvSpPr/>
            <p:nvPr/>
          </p:nvSpPr>
          <p:spPr>
            <a:xfrm>
              <a:off x="6229080" y="1982520"/>
              <a:ext cx="7596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8"/>
            <p:cNvSpPr/>
            <p:nvPr/>
          </p:nvSpPr>
          <p:spPr>
            <a:xfrm>
              <a:off x="6654600" y="1981080"/>
              <a:ext cx="7596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9"/>
          <p:cNvGrpSpPr/>
          <p:nvPr/>
        </p:nvGrpSpPr>
        <p:grpSpPr>
          <a:xfrm>
            <a:off x="1295280" y="2666880"/>
            <a:ext cx="1854360" cy="88920"/>
            <a:chOff x="1295280" y="2666880"/>
            <a:chExt cx="1854360" cy="88920"/>
          </a:xfrm>
        </p:grpSpPr>
        <p:sp>
          <p:nvSpPr>
            <p:cNvPr id="200" name="Oval 10"/>
            <p:cNvSpPr/>
            <p:nvPr/>
          </p:nvSpPr>
          <p:spPr>
            <a:xfrm>
              <a:off x="1295280" y="2666880"/>
              <a:ext cx="7632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1"/>
            <p:cNvSpPr/>
            <p:nvPr/>
          </p:nvSpPr>
          <p:spPr>
            <a:xfrm>
              <a:off x="1743120" y="2668320"/>
              <a:ext cx="7596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2"/>
            <p:cNvSpPr/>
            <p:nvPr/>
          </p:nvSpPr>
          <p:spPr>
            <a:xfrm>
              <a:off x="2166840" y="2679480"/>
              <a:ext cx="7632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3"/>
            <p:cNvSpPr/>
            <p:nvPr/>
          </p:nvSpPr>
          <p:spPr>
            <a:xfrm>
              <a:off x="2647800" y="2668320"/>
              <a:ext cx="7632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4"/>
            <p:cNvSpPr/>
            <p:nvPr/>
          </p:nvSpPr>
          <p:spPr>
            <a:xfrm>
              <a:off x="3073320" y="2666880"/>
              <a:ext cx="7632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5"/>
          <p:cNvSpPr/>
          <p:nvPr/>
        </p:nvSpPr>
        <p:spPr>
          <a:xfrm>
            <a:off x="6384960" y="5127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6" descr="200532889101895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990720"/>
            <a:ext cx="685800" cy="642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7"/>
          <p:cNvSpPr/>
          <p:nvPr/>
        </p:nvSpPr>
        <p:spPr>
          <a:xfrm>
            <a:off x="762120" y="3048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威廉叔叔为什么会有这种神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304920" y="3962520"/>
            <a:ext cx="82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疲惫不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因为长途跋涉和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04920" y="46483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忧心忡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威廉叔叔担心能证明那两个家伙是间谍的唯一证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胶卷会被夺走，更担心纳塔莉一家会因为此事受牵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9080" y="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学习课文第二部分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疲惫不堪”“忧心忡忡”两个成语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疲惫不堪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说明威廉叔叔为了逃避歹徒的追击，经过了很久的躲避，而显得非常劳累。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“忧心忡忡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是因为怕胶卷被歹徒搜到而非常担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第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自然段是什么描写？表现了纳塔莉怎样的性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心理描写，表现了纳塔莉的聪明、机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47440" y="9810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自读课文第二部分，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4762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找出第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18—27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段中的动词，这些动词写出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来到、扫视、“关上”“搜索”“取出”“装了进去”“塞进”等一系列动词形象地写出了纳塔莉换胶卷的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23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段话中“感到一阵头晕”说明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说明纳塔莉为威廉叔叔的信而担心、紧张、害怕的心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066680" y="45720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胶卷算什么宝物呢？”纳塔莉想，“难道威廉叔叔是在同我开玩笑吗？他为什么又要让我再把它藏起来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200532889101895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967360"/>
            <a:ext cx="685800" cy="642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1371600" y="3581280"/>
            <a:ext cx="678168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段话中连续提出＿＿＿个问题，这是纳塔莉看到威廉叔叔发回的信和胶卷后所产生的＿＿＿，表明纳塔莉是个十分＿＿＿＿＿＿＿的好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5105880" y="3556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114800" y="4572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疑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743200" y="51055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天真、爱动脑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32200" y="-157320"/>
            <a:ext cx="667800" cy="231336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心理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457200" y="166356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胶卷！纳塔莉有点儿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心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在口袋里摸摸。“原来他们是要找这玩意儿！为什么呀？他们肯定不是好人。我得把胶卷快藏起来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200532889101895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967360"/>
            <a:ext cx="685800" cy="6429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4"/>
          <p:cNvSpPr/>
          <p:nvPr/>
        </p:nvSpPr>
        <p:spPr>
          <a:xfrm>
            <a:off x="3048120" y="0"/>
            <a:ext cx="3276360" cy="1523880"/>
          </a:xfrm>
          <a:prstGeom prst="cloudCallout">
            <a:avLst>
              <a:gd name="adj1" fmla="val 66958"/>
              <a:gd name="adj2" fmla="val 6625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做错了事怕人知道。这里指纳塔莉怕陌生人知道胶卷在她这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00200" y="4419720"/>
            <a:ext cx="618804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段话写纳塔莉通过观察，知道了陌生人的目的，她很快作出判断并拿定主意，这表明纳塔莉非常＿＿＿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438280" y="594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机敏、果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200532889101895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715000"/>
            <a:ext cx="685800" cy="642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1143000" y="6858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突然，她仿佛觉得有一只虎眼朝她眨了一下，好像在说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真有你的，纳塔莉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981080" y="3276720"/>
            <a:ext cx="617220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写纳塔莉回望虎眼时的感受，这也是人物＿＿＿＿＿＿＿＿描写，纳塔莉用自己的智慧和勇敢保住了胶卷，她为此而十分＿＿＿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105520" y="3733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心理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6477120" y="4724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自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胶卷1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3964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胶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304920" y="1523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默读课文，找出文中有关描写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纳塔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心理活动和动作的语句并用笔划出来，有体会的地方作好批注。（</a:t>
            </a: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心理活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句子用“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表示，</a:t>
            </a: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动作描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~~~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表示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细读感悟"/>
          <p:cNvPicPr/>
          <p:nvPr/>
        </p:nvPicPr>
        <p:blipFill>
          <a:blip r:embed="rId1"/>
          <a:stretch/>
        </p:blipFill>
        <p:spPr>
          <a:xfrm>
            <a:off x="533520" y="609480"/>
            <a:ext cx="2303280" cy="6159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762120" y="4267080"/>
            <a:ext cx="5790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）小组讨论，合作探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）交流反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W020080925419958302006"/>
          <p:cNvPicPr/>
          <p:nvPr/>
        </p:nvPicPr>
        <p:blipFill>
          <a:blip r:embed="rId2"/>
          <a:stretch/>
        </p:blipFill>
        <p:spPr>
          <a:xfrm>
            <a:off x="6324480" y="5181480"/>
            <a:ext cx="2016360" cy="10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533520" y="685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纳塔莉一边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琢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这些字句的意思，一边用手去摸陶瓷虎的那对眼睛。突然，在右眼眶的旁边，她的手指碰到了一处鼓起的地方，虎纹将这里巧妙地遮掩着。她用力一按，只见虎嘴慢慢张开，露出一个小洞，里面放着一卷胶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533520" y="59436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200532889101895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685800" cy="64296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5"/>
          <p:cNvSpPr/>
          <p:nvPr/>
        </p:nvSpPr>
        <p:spPr>
          <a:xfrm>
            <a:off x="3733920" y="0"/>
            <a:ext cx="2209680" cy="609480"/>
          </a:xfrm>
          <a:prstGeom prst="wedgeEllipseCallout">
            <a:avLst>
              <a:gd name="adj1" fmla="val -23564"/>
              <a:gd name="adj2" fmla="val 94273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思索；考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52280" y="5486400"/>
            <a:ext cx="784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一段主要写的是：＿＿＿＿＿＿＿＿＿＿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3200400" y="548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纳塔莉善于思考，发现了胶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228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纳塔莉来到楼上自己的卧室，朝四周扫视了一遍，书架、梳妆台、写字台、床头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却没有找到最适合藏胶卷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04920" y="2666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纳塔莉关上房门，眼睛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拼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四处搜索着。突然，她看见了自己的照相机，眼睛不禁一亮。她迅速取出照相机里的胶卷，把威廉叔叔的胶卷装了进去，然后把自己的胶卷塞进口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90720" y="59436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纳塔莉这时在想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5867280" y="3657600"/>
            <a:ext cx="2209680" cy="85680"/>
            <a:chOff x="5867280" y="3657600"/>
            <a:chExt cx="2209680" cy="85680"/>
          </a:xfrm>
        </p:grpSpPr>
        <p:sp>
          <p:nvSpPr>
            <p:cNvPr id="245" name="Oval 6"/>
            <p:cNvSpPr/>
            <p:nvPr/>
          </p:nvSpPr>
          <p:spPr>
            <a:xfrm>
              <a:off x="5867280" y="3666960"/>
              <a:ext cx="7884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6261480" y="3657600"/>
              <a:ext cx="7884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6712560" y="3657600"/>
              <a:ext cx="7848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7130160" y="3657600"/>
              <a:ext cx="7848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7547760" y="3666960"/>
              <a:ext cx="7848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1"/>
            <p:cNvSpPr/>
            <p:nvPr/>
          </p:nvSpPr>
          <p:spPr>
            <a:xfrm>
              <a:off x="7998120" y="3657600"/>
              <a:ext cx="7884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6324480" y="685800"/>
            <a:ext cx="1854360" cy="88920"/>
            <a:chOff x="6324480" y="685800"/>
            <a:chExt cx="1854360" cy="88920"/>
          </a:xfrm>
        </p:grpSpPr>
        <p:sp>
          <p:nvSpPr>
            <p:cNvPr id="252" name="Oval 13"/>
            <p:cNvSpPr/>
            <p:nvPr/>
          </p:nvSpPr>
          <p:spPr>
            <a:xfrm>
              <a:off x="6324480" y="685800"/>
              <a:ext cx="7632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4"/>
            <p:cNvSpPr/>
            <p:nvPr/>
          </p:nvSpPr>
          <p:spPr>
            <a:xfrm>
              <a:off x="6772320" y="687240"/>
              <a:ext cx="7596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5"/>
            <p:cNvSpPr/>
            <p:nvPr/>
          </p:nvSpPr>
          <p:spPr>
            <a:xfrm>
              <a:off x="7196040" y="698400"/>
              <a:ext cx="7632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6"/>
            <p:cNvSpPr/>
            <p:nvPr/>
          </p:nvSpPr>
          <p:spPr>
            <a:xfrm>
              <a:off x="7677000" y="687240"/>
              <a:ext cx="7632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7"/>
            <p:cNvSpPr/>
            <p:nvPr/>
          </p:nvSpPr>
          <p:spPr>
            <a:xfrm>
              <a:off x="8102520" y="685800"/>
              <a:ext cx="7632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8"/>
          <p:cNvGrpSpPr/>
          <p:nvPr/>
        </p:nvGrpSpPr>
        <p:grpSpPr>
          <a:xfrm>
            <a:off x="1828800" y="3657600"/>
            <a:ext cx="457200" cy="76320"/>
            <a:chOff x="1828800" y="3657600"/>
            <a:chExt cx="457200" cy="76320"/>
          </a:xfrm>
        </p:grpSpPr>
        <p:sp>
          <p:nvSpPr>
            <p:cNvPr id="258" name="Oval 19"/>
            <p:cNvSpPr/>
            <p:nvPr/>
          </p:nvSpPr>
          <p:spPr>
            <a:xfrm>
              <a:off x="1828800" y="36576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0"/>
            <p:cNvSpPr/>
            <p:nvPr/>
          </p:nvSpPr>
          <p:spPr>
            <a:xfrm>
              <a:off x="2209680" y="36576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1"/>
          <p:cNvGrpSpPr/>
          <p:nvPr/>
        </p:nvGrpSpPr>
        <p:grpSpPr>
          <a:xfrm>
            <a:off x="1371600" y="4191120"/>
            <a:ext cx="457200" cy="75960"/>
            <a:chOff x="1371600" y="4191120"/>
            <a:chExt cx="457200" cy="75960"/>
          </a:xfrm>
        </p:grpSpPr>
        <p:sp>
          <p:nvSpPr>
            <p:cNvPr id="261" name="Oval 22"/>
            <p:cNvSpPr/>
            <p:nvPr/>
          </p:nvSpPr>
          <p:spPr>
            <a:xfrm>
              <a:off x="1371600" y="419112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3"/>
            <p:cNvSpPr/>
            <p:nvPr/>
          </p:nvSpPr>
          <p:spPr>
            <a:xfrm>
              <a:off x="1752480" y="419112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Oval 24"/>
          <p:cNvSpPr/>
          <p:nvPr/>
        </p:nvSpPr>
        <p:spPr>
          <a:xfrm>
            <a:off x="8763120" y="4191120"/>
            <a:ext cx="75960" cy="75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5"/>
          <p:cNvSpPr/>
          <p:nvPr/>
        </p:nvSpPr>
        <p:spPr>
          <a:xfrm>
            <a:off x="5486400" y="4648320"/>
            <a:ext cx="76320" cy="75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6"/>
          <p:cNvSpPr/>
          <p:nvPr/>
        </p:nvSpPr>
        <p:spPr>
          <a:xfrm>
            <a:off x="4800600" y="1752480"/>
            <a:ext cx="2057400" cy="914400"/>
          </a:xfrm>
          <a:prstGeom prst="wedgeRoundRectCallout">
            <a:avLst>
              <a:gd name="adj1" fmla="val -28393"/>
              <a:gd name="adj2" fmla="val 65106"/>
              <a:gd name="adj3" fmla="val 16667"/>
            </a:avLst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明纳塔莉当时心里非常焦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1170000" y="1828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能把胶卷藏到哪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0" y="48006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了，我可以把胶卷放进照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里，用对换的方法来保护真胶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9" descr="W020080324536696640273"/>
          <p:cNvPicPr/>
          <p:nvPr/>
        </p:nvPicPr>
        <p:blipFill>
          <a:blip r:embed="rId1"/>
          <a:stretch/>
        </p:blipFill>
        <p:spPr>
          <a:xfrm>
            <a:off x="6400800" y="5486400"/>
            <a:ext cx="923760" cy="8539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0"/>
          <p:cNvSpPr/>
          <p:nvPr/>
        </p:nvSpPr>
        <p:spPr>
          <a:xfrm>
            <a:off x="8138160" y="4671720"/>
            <a:ext cx="667800" cy="231336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动作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28600" y="304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纳塔莉背对着那个高个子，手里攥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uà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着胶卷，在陶瓷虎右眼眶鼓起的地方按了一下。老虎的嘴慢慢张开，纳塔莉一松手，赶忙把胶卷放进老虎口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3733920" y="144792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1447920" y="304812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5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990720" y="47242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7"/>
          <p:cNvGrpSpPr/>
          <p:nvPr/>
        </p:nvGrpSpPr>
        <p:grpSpPr>
          <a:xfrm>
            <a:off x="2895480" y="838080"/>
            <a:ext cx="457200" cy="76320"/>
            <a:chOff x="2895480" y="838080"/>
            <a:chExt cx="457200" cy="76320"/>
          </a:xfrm>
        </p:grpSpPr>
        <p:sp>
          <p:nvSpPr>
            <p:cNvPr id="276" name="Oval 8"/>
            <p:cNvSpPr/>
            <p:nvPr/>
          </p:nvSpPr>
          <p:spPr>
            <a:xfrm>
              <a:off x="2895480" y="838080"/>
              <a:ext cx="7632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9"/>
            <p:cNvSpPr/>
            <p:nvPr/>
          </p:nvSpPr>
          <p:spPr>
            <a:xfrm>
              <a:off x="3276360" y="838080"/>
              <a:ext cx="7632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380880" y="5105520"/>
            <a:ext cx="754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一连串的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动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具体展示了纳塔莉将胶卷＿＿＿的过程，由此可一看出纳塔莉是个＿＿＿＿＿＿＿＿＿的小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66294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藏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724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机智、勇敢、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3" descr="QQ截图未命名"/>
          <p:cNvPicPr/>
          <p:nvPr/>
        </p:nvPicPr>
        <p:blipFill>
          <a:blip r:embed="rId1"/>
          <a:stretch/>
        </p:blipFill>
        <p:spPr>
          <a:xfrm>
            <a:off x="5181480" y="0"/>
            <a:ext cx="336708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2359080" y="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学习课文第三部分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0" y="32115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惊呆”和“连连摇着头”分别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惊呆”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表现出了威廉叔吃惊的神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连连摇着头”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是因为威廉叔叔为纳塔莉的冒险举动而担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611280" y="98100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287280" y="873000"/>
            <a:ext cx="81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威廉叔叔简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惊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连连摇着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高兴地说：“你可真是个聪明的孩子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5228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威廉叔叔简直惊呆了，连连摇着头，高兴地说：“你可真是个聪明的孩子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80880" y="28954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威廉叔叔高兴地夸奖纳塔莉，但为什么又</a:t>
            </a:r>
            <a:r>
              <a:rPr b="1" lang="zh-CN" sz="4000" spc="-1" strike="noStrike">
                <a:solidFill>
                  <a:srgbClr val="990099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连连摇着头</a:t>
            </a:r>
            <a:r>
              <a:rPr b="1" lang="zh-CN" sz="4000" spc="-1" strike="noStrike">
                <a:solidFill>
                  <a:srgbClr val="990099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380880" y="1828800"/>
            <a:ext cx="3047400" cy="151560"/>
            <a:chOff x="380880" y="1828800"/>
            <a:chExt cx="3047400" cy="151560"/>
          </a:xfrm>
        </p:grpSpPr>
        <p:sp>
          <p:nvSpPr>
            <p:cNvPr id="289" name="Oval 5"/>
            <p:cNvSpPr/>
            <p:nvPr/>
          </p:nvSpPr>
          <p:spPr>
            <a:xfrm>
              <a:off x="380880" y="1828800"/>
              <a:ext cx="125280" cy="130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6"/>
            <p:cNvSpPr/>
            <p:nvPr/>
          </p:nvSpPr>
          <p:spPr>
            <a:xfrm>
              <a:off x="1116720" y="1830960"/>
              <a:ext cx="124560" cy="130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"/>
            <p:cNvSpPr/>
            <p:nvPr/>
          </p:nvSpPr>
          <p:spPr>
            <a:xfrm>
              <a:off x="1813320" y="1850040"/>
              <a:ext cx="125280" cy="130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8"/>
            <p:cNvSpPr/>
            <p:nvPr/>
          </p:nvSpPr>
          <p:spPr>
            <a:xfrm>
              <a:off x="2603880" y="1830960"/>
              <a:ext cx="125280" cy="130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9"/>
            <p:cNvSpPr/>
            <p:nvPr/>
          </p:nvSpPr>
          <p:spPr>
            <a:xfrm>
              <a:off x="3303000" y="1828800"/>
              <a:ext cx="125280" cy="130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Picture 10" descr="200532889101895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791320"/>
            <a:ext cx="685800" cy="6429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1"/>
          <p:cNvSpPr/>
          <p:nvPr/>
        </p:nvSpPr>
        <p:spPr>
          <a:xfrm>
            <a:off x="1295280" y="434340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连摇着头”在这里不是否定的意思，而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可思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意思。因为威廉叔叔觉得太不可思议了，想不到纳塔莉这么小，但在歹徒面前却如此的镇定、勇敢、聪明，保护了真胶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9810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2.</a:t>
            </a: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最后一段话中对陶瓷虎的描写，其用意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用意是：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表现出了纳塔莉聪明、机智、勇敢的精神品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050920" y="40464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95280" y="170028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课文讲的是纳塔莉在十分危急的情况下，机敏地将陶瓷虎口里藏的宝物——胶卷进行了调包，保护了胶卷里的秘密，赞扬了纳塔莉的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聪明、机智和勇敢</a:t>
            </a: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0" y="9907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认为纳塔莉是一个怎样的孩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8088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默读课文，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威廉叔叔为什么夸奖纳塔莉是个聪明的孩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530440" y="167652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纳塔莉是一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智、勇敢、聪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好孩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5338800"/>
            <a:ext cx="9144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、纳塔莉用自己的聪明才智和勇敢成功保护了胶卷，对于这种结果威廉叔叔有什么反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0" y="27432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在危机中纳塔莉能表现得如此的镇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能够读懂叔叔写的字谜，找到胶卷所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在危机情况下能够把胶卷放进照相机里，巧妙地将掉包后的胶卷放进虎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22"/>
          <p:cNvPicPr/>
          <p:nvPr/>
        </p:nvPicPr>
        <p:blipFill>
          <a:blip r:embed="rId1"/>
          <a:stretch/>
        </p:blipFill>
        <p:spPr>
          <a:xfrm>
            <a:off x="2057400" y="1981080"/>
            <a:ext cx="4883040" cy="4876920"/>
          </a:xfrm>
          <a:prstGeom prst="rect">
            <a:avLst/>
          </a:prstGeom>
          <a:ln w="0">
            <a:noFill/>
          </a:ln>
        </p:spPr>
      </p:pic>
      <p:sp>
        <p:nvSpPr>
          <p:cNvPr id="306" name="WordArt 3"/>
          <p:cNvSpPr txBox="1"/>
          <p:nvPr/>
        </p:nvSpPr>
        <p:spPr>
          <a:xfrm>
            <a:off x="1327320" y="816120"/>
            <a:ext cx="6172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用自己的话赞一赞纳塔莉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7" name="Picture 4" descr="632867777753125000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胶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219640" y="5013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胶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体现娜塔莉机智、勇敢、聪明的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1341360"/>
            <a:ext cx="7724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、娜塔莉一边琢磨这些字句的意思，一边用手指去摸陶瓷虎的那对眼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、“胶卷算什么宝物呢？”娜塔莉想，“难道威廉叔叔是在同我开玩笑吗？他为什么又要让我再把它藏起来呢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、胶卷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!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娜塔莉有点心虚地在口袋里摸摸。“原来他们是要找这玩意儿！为什么呀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!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他们肯定不是好人。我得把胶卷快藏起来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、还是藏在那只陶瓷虎里最保险，对，应该把胶卷放回那儿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、娜塔莉关上房门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然后把自己的胶卷塞进口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、娜塔莉竭力把目光避开照相机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她顿时感到一阵头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、娜塔莉点了点头，跟他一起来到过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、娜塔莉背对着那个高个子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赶忙把胶卷放进老虎口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200532889101895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967360"/>
            <a:ext cx="685800" cy="6429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1066680" y="8380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课后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父母合作把这个故事演一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练笔：学会通过对人物心理活动和动作的刻画，来表现人物的特点的写作方法，动笔写一个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"/>
          <p:cNvSpPr/>
          <p:nvPr/>
        </p:nvSpPr>
        <p:spPr>
          <a:xfrm>
            <a:off x="2031840" y="5602320"/>
            <a:ext cx="508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500" autoRev="1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0,-52)"/>
                                      </p:to>
                                    </p:set>
                                    <p:set>
                                      <p:cBhvr>
                                        <p:cTn id="610" dur="500" autoRev="1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0,-52)"/>
                                      </p:to>
                                    </p:set>
                                    <p:set>
                                      <p:cBhvr>
                                        <p:cTn id="611" dur="500" autoRev="1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8A8A-877B-45A0-9A11-6989C69D86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2916360" y="4076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陶瓷虎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468360" y="162864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</a:rPr>
              <a:t>陶瓷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4000" y="691920"/>
            <a:ext cx="4079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97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掌握生字新词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阅读课文，提出不懂的问题，把握课文内 容，了解威廉叔叔为什么夸奖纳塔莉是个聪明的孩子，学习纳塔莉聪明、机智和勇敢的精神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领悟作者是怎样通过对人物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心理活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动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刻画，来表现人物特点的写作方法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pi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瞥</a:t>
            </a:r>
            <a:r>
              <a:rPr b="0" lang="zh-CN" sz="3200" spc="-1" strike="noStrike">
                <a:solidFill>
                  <a:srgbClr val="cc00cc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（瞥见）（瞥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宋体"/>
              </a:rPr>
              <a:t>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瓷 </a:t>
            </a: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（青瓷）（瓷器）（瓷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宋体"/>
              </a:rPr>
              <a:t>x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栩   </a:t>
            </a:r>
            <a:r>
              <a:rPr b="1" lang="en-US" sz="3200" spc="-1" strike="noStrike">
                <a:solidFill>
                  <a:srgbClr val="009999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栩栩）</a:t>
            </a: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（栩栩如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宋体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寄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（寄信）（寄钱）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zuó           ku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琢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（琢磨）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    眶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（眼眶）（夺眶而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宋体"/>
              </a:rPr>
              <a:t>zh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遮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（遮盖）（遮蔽）（遮挡</a:t>
            </a:r>
            <a:r>
              <a:rPr b="1" lang="en-US" sz="3200" spc="-1" strike="noStrike">
                <a:solidFill>
                  <a:srgbClr val="009999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j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胶（胶带）（胶泥）（胶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ò                                kā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陌（陌生）（陌生人）  堪（堪称）（难堪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yūn                                dǎ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晕（晕倒）（头晕）     歹（歹徒）（好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t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徒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徒弟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)      (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徒劳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（徒步）（歹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hōng                             d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忡（忧心忡忡）             谍（间谍）（谍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09680" y="99072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cí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x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z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ku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3657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ē   jiāo  mò    kān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chō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d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62320" y="20574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瞥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瓷      栩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4920" y="47242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遮     胶     陌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忡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971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瞥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08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遮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复件 读一读"/>
          <p:cNvPicPr/>
          <p:nvPr/>
        </p:nvPicPr>
        <p:blipFill>
          <a:blip r:embed="rId1"/>
          <a:stretch/>
        </p:blipFill>
        <p:spPr>
          <a:xfrm>
            <a:off x="0" y="0"/>
            <a:ext cx="211464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3352680" y="29718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陶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267080" y="2971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栩栩如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172200" y="2971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琢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7620120" y="29718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眼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5238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胶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274320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陌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733920" y="56386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疲惫不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5638680" y="56386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忧心忡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777240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间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0:49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