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8BDB-76FA-45E4-92B5-E3F153F4D1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74EF-EBEE-42A6-998A-6E05AA2DC4D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3C58-E65B-4C06-A2F2-FA52B530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DA55-1C1F-4220-814A-39D2C547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D83B-58EE-4AEA-B375-163AE579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784F-155A-4479-BA4E-D336700A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7D60-76FD-4583-9772-5F6DE785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3C09-C9EC-4C65-BC52-6140C4AF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3CAA-6034-4499-8F8C-719E7685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D08E-D947-4D69-B7A1-1F2CC1C2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A4B1-C861-4944-9A93-3AFD9F70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7F5D-F1B1-44FD-BBE9-8C3ABC3B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BEAC-74AB-4978-A26A-710D83EA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5382-0635-4732-804C-F9F9F2F8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577F-D92A-4C07-9A67-58B530D85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527120" y="2276640"/>
            <a:ext cx="6027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华文新魏"/>
                <a:ea typeface="华文新魏"/>
              </a:rPr>
              <a:t>花篱笆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527120" y="1073160"/>
            <a:ext cx="6120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794960" y="5589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7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685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要关注调皮的小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篱笆管住小鸡吗？你怎样理解这句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主人的做法给你留下什么印象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三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1280" y="256536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段中你知道了什么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问题：想像一下都送给什么人微笑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花篱笆真的会送微笑，迎客人吗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谁送上微笑，请客人喝芝麻豆子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主人给你留下什么印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四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花篱笆还有什么用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连着东院西院两户人家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 可以当球网打球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 可以隔着篱笆拉家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从这几句话中说明邻里关系怎么样？从那看出来的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齐读最后一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14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41402"/>
                </a:solidFill>
                <a:latin typeface="Arial"/>
              </a:rPr>
              <a:t>我喜欢花篱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414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你喜欢花篱笆吗？为什么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如果花篱笆想对你说几句话，你想它可能会对你说些什么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"/>
          <p:cNvSpPr/>
          <p:nvPr/>
        </p:nvSpPr>
        <p:spPr>
          <a:xfrm>
            <a:off x="1104840" y="5376960"/>
            <a:ext cx="58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2"/>
          <p:cNvSpPr txBox="1"/>
          <p:nvPr/>
        </p:nvSpPr>
        <p:spPr>
          <a:xfrm>
            <a:off x="1908000" y="1844640"/>
            <a:ext cx="4176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谢谢指导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21D6-223A-4759-AF3C-6D3BD962635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4000" y="1988640"/>
            <a:ext cx="78483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确流利的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解课文内容，体会花篱笆给人的亲切感，受到健康、美好情操的陶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确认读本课十九个生字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24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情境导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00000" y="2349360"/>
            <a:ext cx="633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同学们，你们见过篱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课文中的篱笆是什么样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724040" y="1528920"/>
            <a:ext cx="5695920" cy="38001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3"/>
          <p:cNvSpPr/>
          <p:nvPr/>
        </p:nvSpPr>
        <p:spPr>
          <a:xfrm>
            <a:off x="4205160" y="3645000"/>
            <a:ext cx="73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9129513eb5030ce3838b1325"/>
          <p:cNvPicPr/>
          <p:nvPr/>
        </p:nvPicPr>
        <p:blipFill>
          <a:blip r:embed="rId1"/>
          <a:stretch/>
        </p:blipFill>
        <p:spPr>
          <a:xfrm>
            <a:off x="762120" y="1047600"/>
            <a:ext cx="7619760" cy="47628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5uart08_yh182711a-x"/>
          <p:cNvPicPr/>
          <p:nvPr/>
        </p:nvPicPr>
        <p:blipFill>
          <a:blip r:embed="rId1"/>
          <a:stretch/>
        </p:blipFill>
        <p:spPr>
          <a:xfrm>
            <a:off x="2700360" y="2205000"/>
            <a:ext cx="3384360" cy="26859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3276720" y="112536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花篱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试读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19280" y="1989000"/>
            <a:ext cx="619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美丽的花篱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关不住院子里的春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欢迎客人屋里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喝碗芝麻豆子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美丽的花篱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连着东院、西院两户人家。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777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开头篱笆是什么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矮矮的，开满了喇叭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1483920"/>
            <a:ext cx="633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从第二段中你知道了什么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4000" y="3068280"/>
            <a:ext cx="7416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e4908"/>
                </a:solidFill>
                <a:latin typeface="Arial"/>
              </a:rPr>
              <a:t>关不住</a:t>
            </a:r>
            <a:r>
              <a:rPr b="1" lang="en-US" sz="2800" spc="-1" strike="noStrike">
                <a:solidFill>
                  <a:srgbClr val="be4908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be4908"/>
                </a:solidFill>
                <a:latin typeface="Arial"/>
              </a:rPr>
              <a:t>透过篱笆可以看到里面的春色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e4908"/>
                </a:solidFill>
                <a:latin typeface="Arial"/>
              </a:rPr>
              <a:t>挡不住</a:t>
            </a:r>
            <a:r>
              <a:rPr b="1" lang="en-US" sz="2800" spc="-1" strike="noStrike">
                <a:solidFill>
                  <a:srgbClr val="be4908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be4908"/>
                </a:solidFill>
                <a:latin typeface="Arial"/>
              </a:rPr>
              <a:t>透过篱笆可以看到外面的风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e4908"/>
                </a:solidFill>
                <a:latin typeface="Arial"/>
              </a:rPr>
              <a:t>管住</a:t>
            </a:r>
            <a:r>
              <a:rPr b="1" lang="en-US" sz="2800" spc="-1" strike="noStrike">
                <a:solidFill>
                  <a:srgbClr val="be4908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be4908"/>
                </a:solidFill>
                <a:latin typeface="Arial"/>
              </a:rPr>
              <a:t>去弄坏地理的庄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06:17:0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8:08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