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B836-23A9-4A6E-BC47-976D454CAD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A29-2D8C-4D15-A7A6-2B96BF946E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9CD-ADCC-4CB1-8634-EC98F4E1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78E-9006-422F-9FD6-A998078E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964-8325-43AF-8E29-E96313EB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61F-3DB4-48F9-928D-85A28AD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470-78F4-4F6E-8628-33573AB3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861-7DE9-4BBE-BA58-88C3EA1C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A24-C29B-435E-88CE-81D8B482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91E-EAB6-46A5-9E09-894C0D37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D99-2672-4352-AEF8-1BB10179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DDC-BC0B-4CAA-8D20-040E7571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2AE-C7A9-4182-B6F9-1F9C0AC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5FF-592D-4677-9477-7A0D8A19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A726-B6F2-475E-98D1-FC49F7A1BF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华2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6113520" y="765000"/>
            <a:ext cx="107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69764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003640" y="204840"/>
            <a:ext cx="35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冀教版二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u=1702571965,291840139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642960" y="64296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交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、你认为华罗庚是个怎样的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642960" y="385776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、你还知道哪些著名的人或事物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动作按钮: 前进或下一项 4">
            <a:hlinkClick r:id="" action="ppaction://hlinkshowjump?jump=nextslide"/>
          </p:cNvPr>
          <p:cNvSpPr/>
          <p:nvPr/>
        </p:nvSpPr>
        <p:spPr>
          <a:xfrm>
            <a:off x="8501040" y="614376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3794" y="4990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动作按钮: 前进或下一项 5">
            <a:hlinkClick r:id="" action="ppaction://hlinkshowjump?jump=lastslide"/>
          </p:cNvPr>
          <p:cNvSpPr/>
          <p:nvPr/>
        </p:nvSpPr>
        <p:spPr>
          <a:xfrm>
            <a:off x="7429680" y="635796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11501" y="3794"/>
                </a:moveTo>
                <a:lnTo>
                  <a:pt x="25514" y="10800"/>
                </a:lnTo>
                <a:lnTo>
                  <a:pt x="1150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2081160" y="5504040"/>
            <a:ext cx="64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201203070810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214200" y="50004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时候的华罗庚爱动脑筋，因思考问题过于专心，常被同伴们戏称为“罗呆子”，初中毕业后，华罗庚曾入上海中华职业学校就读，因拿不出学费而中途退学，故一生只有初中毕业文凭。此后，他开始顽强自学，每天达十个小时以上，他用五年的时间学完了高中和大学低年级的全部数学课程。他是一位自学成才、没有大学毕业文凭的数学家。他说：“不怕困难，刻苦学习，是我学好数学最主要的经验，所谓‘天才’就是靠坚持不断的努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动作按钮: 后退或前一项 3">
            <a:hlinkClick r:id="" action="ppaction://hlinkshowjump?jump=previousslide"/>
          </p:cNvPr>
          <p:cNvSpPr/>
          <p:nvPr/>
        </p:nvSpPr>
        <p:spPr>
          <a:xfrm>
            <a:off x="8501040" y="6072120"/>
            <a:ext cx="642960" cy="78588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85880"/>
              <a:gd name="textAreaBottom" fmla="*/ 744480 h 785880"/>
            </a:gdLst>
            <a:ahLst/>
            <a:rect l="textAreaLeft" t="textAreaTop" r="textAreaRight" b="textAreaBottom"/>
            <a:pathLst>
              <a:path w="21600" h="26399">
                <a:moveTo>
                  <a:pt x="0" y="0"/>
                </a:moveTo>
                <a:lnTo>
                  <a:pt x="21600" y="0"/>
                </a:lnTo>
                <a:lnTo>
                  <a:pt x="21600" y="26399"/>
                </a:lnTo>
                <a:lnTo>
                  <a:pt x="0" y="26399"/>
                </a:lnTo>
                <a:close/>
              </a:path>
              <a:path fill="lightenLess" w="21600" h="263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9">
                <a:moveTo>
                  <a:pt x="21600" y="0"/>
                </a:moveTo>
                <a:lnTo>
                  <a:pt x="21600" y="26399"/>
                </a:lnTo>
                <a:lnTo>
                  <a:pt x="20200" y="24999"/>
                </a:lnTo>
                <a:lnTo>
                  <a:pt x="20200" y="1400"/>
                </a:lnTo>
                <a:close/>
              </a:path>
              <a:path fill="darkenLess" w="21600" h="26399">
                <a:moveTo>
                  <a:pt x="21600" y="26399"/>
                </a:moveTo>
                <a:lnTo>
                  <a:pt x="0" y="26399"/>
                </a:lnTo>
                <a:lnTo>
                  <a:pt x="1400" y="24999"/>
                </a:lnTo>
                <a:lnTo>
                  <a:pt x="20200" y="24999"/>
                </a:lnTo>
                <a:close/>
              </a:path>
              <a:path fill="lighten" w="21600" h="26399">
                <a:moveTo>
                  <a:pt x="0" y="263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9"/>
                </a:lnTo>
                <a:close/>
              </a:path>
              <a:path fill="darken" w="21600" h="26399">
                <a:moveTo>
                  <a:pt x="3794" y="13199"/>
                </a:moveTo>
                <a:lnTo>
                  <a:pt x="17806" y="6193"/>
                </a:lnTo>
                <a:lnTo>
                  <a:pt x="17806" y="202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u=1702571965,291840139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928800" y="1428840"/>
            <a:ext cx="7643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搜集华罗庚的故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E148-F838-4CAD-88DF-8518F53A3B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ualuogeng1"/>
          <p:cNvPicPr/>
          <p:nvPr/>
        </p:nvPicPr>
        <p:blipFill>
          <a:blip r:embed="rId1"/>
          <a:stretch/>
        </p:blipFill>
        <p:spPr>
          <a:xfrm>
            <a:off x="5219640" y="1628640"/>
            <a:ext cx="3924360" cy="5229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42920" y="135720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中国现代数学家，中国科学院院士。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91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日生于江苏省金坛县一个贫苦家庭，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985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日在日本东京逝世。曾被授予法国南锡大学、香港中文大学和美国伊利诺伊大学荣誉博士学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图片17"/>
          <p:cNvPicPr/>
          <p:nvPr/>
        </p:nvPicPr>
        <p:blipFill>
          <a:blip r:embed="rId2"/>
          <a:stretch/>
        </p:blipFill>
        <p:spPr>
          <a:xfrm>
            <a:off x="1547640" y="260280"/>
            <a:ext cx="5761080" cy="952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2916360" y="2602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华罗庚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201203070810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642960" y="571680"/>
            <a:ext cx="814392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除了    课本     教授    文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认为    错误     鼓励    一篇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寄给    一段     拆开    附有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编辑    著名     喜欢    借书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一些        算一算      华罗庚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杂志社    邮递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2012032915594082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000160" y="500040"/>
            <a:ext cx="692964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除    课    教    授    章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认   误     鼓    励    篇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寄    段    拆    附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编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辑    著    喜    欢    借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些    算    华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杂    志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社    邮    递    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4356000" y="2160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" descr="201203070810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85840" y="714240"/>
            <a:ext cx="85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一次，他发现有位大教授写的有关数学的文章有些不对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85840" y="235728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在老师的鼓励下，华罗庚很快写好了一篇文章，寄给了杂志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85840" y="400068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、他拆开一看，里面是一本新的杂志，上面有他的那篇文章，还附有一封编辑写给他的表扬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u=1702571965,291840139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928800" y="1428840"/>
            <a:ext cx="73580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由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华罗庚为什么能成为数学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201203070810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85840" y="64296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次，他发现有位大教授写的有关数学的文章有些不对劲。他看了又看，算了又算，最后，认为这位教授真的错了。于是，他跑到老师那里，问：“我可以给大教授指出错误吗？”老是笑着说：“当然可以了，谁都会有错儿的！”在老师的鼓励下，华罗庚很快写好了一篇文章，寄给了杂志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201203070810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285840" y="64296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次，他发现有位大教授写的有关数学的文章有些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不对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他看了又看，算了又算，最后，认为这位教授真的错了。于是，他跑到老师那里，问：“我可以给大教授指出错误吗？”老是笑着说：“当然可以了，谁都会有错儿的！”在老师的鼓励下，华罗庚很快写好了一篇文章，寄给了杂志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20120307081015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428760" y="642960"/>
            <a:ext cx="84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过了一段时间，邮递员给华罗庚送来了一个小邮包。他拆来一看，里面是一本新的杂志，上面有他的那篇文章，还附有编辑写给他的一封表扬信。华罗庚心里别提多高兴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21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6:29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