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EB2E-8447-49C9-9CB5-8DD98C7BBF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42C4-3768-4496-817D-6B2D988808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7F8-101D-4E0B-ACFE-60D28703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1B6-CF03-46F3-B5B0-7F540C07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B98-A586-4095-A506-0868017C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8AB-3D5A-4DAA-B2D3-953ECFC6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0D2-15BF-424D-9343-2E7DD85B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7D7-789C-438E-952B-51F845AA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1DC-A5C4-4CC3-937A-EE2638D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92A-C5DE-4007-8847-154EC97A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ECE-37E5-46C2-AE04-C7144D29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4DC-3239-44A3-8F4B-5BF1BF3D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6DB-ECB5-4ABE-BB8B-C45D0219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D6B-218A-4F3D-801C-CC7CCA14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F475-F501-480E-91A5-2976877E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hlhwy(1)_ke.exe" TargetMode="External"/><Relationship Id="rId3" Type="http://schemas.openxmlformats.org/officeDocument/2006/relationships/hyperlink" Target="file:///hlhwy(1)_diao.exe" TargetMode="External"/><Relationship Id="rId4" Type="http://schemas.openxmlformats.org/officeDocument/2006/relationships/hyperlink" Target="file:///hlhwy(1)_rou.exe" TargetMode="External"/><Relationship Id="rId5" Type="http://schemas.openxmlformats.org/officeDocument/2006/relationships/hyperlink" Target="file:///hlhwy(1)_zhu.exe" TargetMode="External"/><Relationship Id="rId6" Type="http://schemas.openxmlformats.org/officeDocument/2006/relationships/hyperlink" Target="file:///hlhwy(1)_zhuan.exe" TargetMode="External"/><Relationship Id="rId7" Type="http://schemas.openxmlformats.org/officeDocument/2006/relationships/hyperlink" Target="file:///hlhwy(1)_lian.exe" TargetMode="External"/><Relationship Id="rId8" Type="http://schemas.openxmlformats.org/officeDocument/2006/relationships/hyperlink" Target="file:///hlhwy(1)_ma.exe" TargetMode="External"/><Relationship Id="rId9" Type="http://schemas.openxmlformats.org/officeDocument/2006/relationships/hyperlink" Target="file:///hlhwy(1)_cha.exe" TargetMode="External"/><Relationship Id="rId10" Type="http://schemas.openxmlformats.org/officeDocument/2006/relationships/hyperlink" Target="file:///hlhwy(1)_gang.exe" TargetMode="External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2"/>
          <a:stretch/>
        </p:blipFill>
        <p:spPr>
          <a:xfrm>
            <a:off x="1658880" y="1353960"/>
            <a:ext cx="6311880" cy="144792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1912680" y="52754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1A88-5880-41D9-B730-98AA15BF79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2"/>
          <p:cNvSpPr/>
          <p:nvPr/>
        </p:nvSpPr>
        <p:spPr>
          <a:xfrm>
            <a:off x="3344400" y="3141720"/>
            <a:ext cx="17658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尖尖嘴，细细腿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狡猾多疑，拖条大尾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5257440" y="4797000"/>
            <a:ext cx="116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5" descr="14"/>
          <p:cNvPicPr/>
          <p:nvPr/>
        </p:nvPicPr>
        <p:blipFill>
          <a:blip r:embed="rId2"/>
          <a:stretch/>
        </p:blipFill>
        <p:spPr>
          <a:xfrm>
            <a:off x="1547640" y="1700280"/>
            <a:ext cx="1800360" cy="1506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3"/>
          <p:cNvSpPr/>
          <p:nvPr/>
        </p:nvSpPr>
        <p:spPr>
          <a:xfrm>
            <a:off x="1692360" y="1916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1600200" y="155700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记得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喝水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的乌鸦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乌鸦喝水"/>
          <p:cNvPicPr/>
          <p:nvPr/>
        </p:nvPicPr>
        <p:blipFill>
          <a:blip r:embed="rId2"/>
          <a:stretch/>
        </p:blipFill>
        <p:spPr>
          <a:xfrm>
            <a:off x="2627280" y="2205000"/>
            <a:ext cx="365760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3995640" y="551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9"/>
          <p:cNvSpPr/>
          <p:nvPr/>
        </p:nvSpPr>
        <p:spPr>
          <a:xfrm>
            <a:off x="826920" y="1741680"/>
            <a:ext cx="76647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一看，说一说狐狸和乌鸦之间发生了什么故事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0" descr="snap"/>
          <p:cNvPicPr/>
          <p:nvPr/>
        </p:nvPicPr>
        <p:blipFill>
          <a:blip r:embed="rId2"/>
          <a:stretch/>
        </p:blipFill>
        <p:spPr>
          <a:xfrm>
            <a:off x="2268360" y="2781360"/>
            <a:ext cx="4673880" cy="350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flash"/>
          <p:cNvPicPr/>
          <p:nvPr/>
        </p:nvPicPr>
        <p:blipFill>
          <a:blip r:embed="rId3"/>
          <a:stretch/>
        </p:blipFill>
        <p:spPr>
          <a:xfrm>
            <a:off x="7451640" y="2781360"/>
            <a:ext cx="582840" cy="58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1763640" y="19850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2602080" y="2859480"/>
            <a:ext cx="50655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狐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嘴    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漂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雀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一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  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哇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animal03"/>
          <p:cNvPicPr/>
          <p:nvPr/>
        </p:nvPicPr>
        <p:blipFill>
          <a:blip r:embed="rId2"/>
          <a:stretch/>
        </p:blipFill>
        <p:spPr>
          <a:xfrm>
            <a:off x="5508720" y="3927600"/>
            <a:ext cx="2158920" cy="29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650960" y="1696320"/>
            <a:ext cx="42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268360" y="2223360"/>
            <a:ext cx="748836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kē   diāo   ròu  zhū   zhuà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棵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肉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珠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péi   liǎn  má   chà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ān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赔    </a:t>
            </a:r>
            <a:r>
              <a:rPr b="0" lang="zh-CN" sz="2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/>
              </a:rPr>
              <a:t>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/>
              </a:rPr>
              <a:t>麻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/>
              </a:rPr>
              <a:t>差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/>
              </a:rPr>
              <a:t>刚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01"/>
          <p:cNvPicPr/>
          <p:nvPr/>
        </p:nvPicPr>
        <p:blipFill>
          <a:blip r:embed="rId11"/>
          <a:stretch/>
        </p:blipFill>
        <p:spPr>
          <a:xfrm>
            <a:off x="6732720" y="4941720"/>
            <a:ext cx="61884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4"/>
          <p:cNvSpPr/>
          <p:nvPr/>
        </p:nvSpPr>
        <p:spPr>
          <a:xfrm>
            <a:off x="1979640" y="2063160"/>
            <a:ext cx="532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课文中描写狐狸动作的词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流口水 眼珠一转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赔着笑脸  摇摇尾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溜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264960" y="333360"/>
            <a:ext cx="74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7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41"/>
          <p:cNvSpPr/>
          <p:nvPr/>
        </p:nvSpPr>
        <p:spPr>
          <a:xfrm>
            <a:off x="1692360" y="1715760"/>
            <a:ext cx="64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复述课文的故事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42" descr="snap"/>
          <p:cNvPicPr/>
          <p:nvPr/>
        </p:nvPicPr>
        <p:blipFill>
          <a:blip r:embed="rId2"/>
          <a:stretch/>
        </p:blipFill>
        <p:spPr>
          <a:xfrm>
            <a:off x="1773360" y="2492280"/>
            <a:ext cx="5030640" cy="37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1"/>
          <p:cNvSpPr/>
          <p:nvPr/>
        </p:nvSpPr>
        <p:spPr>
          <a:xfrm>
            <a:off x="1447920" y="1931760"/>
            <a:ext cx="665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资料了解狐狸和乌鸦的特征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狐狸"/>
          <p:cNvPicPr/>
          <p:nvPr/>
        </p:nvPicPr>
        <p:blipFill>
          <a:blip r:embed="rId2"/>
          <a:stretch/>
        </p:blipFill>
        <p:spPr>
          <a:xfrm>
            <a:off x="826920" y="306864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乌鸦"/>
          <p:cNvPicPr/>
          <p:nvPr/>
        </p:nvPicPr>
        <p:blipFill>
          <a:blip r:embed="rId3"/>
          <a:stretch/>
        </p:blipFill>
        <p:spPr>
          <a:xfrm>
            <a:off x="4356000" y="3068640"/>
            <a:ext cx="3888000" cy="2320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4"/>
          <p:cNvSpPr/>
          <p:nvPr/>
        </p:nvSpPr>
        <p:spPr>
          <a:xfrm>
            <a:off x="1763640" y="5560560"/>
            <a:ext cx="28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5862600" y="5489280"/>
            <a:ext cx="252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3:46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47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