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A590-AAF3-4C4D-828A-5B7479DAEB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CDB1-8D35-45FC-AD54-68B73AF537C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7C3D-793D-46A3-A520-596DCB5D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AA7C-2D89-4066-A4F7-FD8DD57D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8CF-3D37-4E49-AF8A-16E7A9B5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4B5-47CB-4D8C-89EE-B18B2883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8CEF-46CB-417B-8F00-C356809A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5FC-8EBB-44E3-B803-18CCF62D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F8D-BC2F-4423-B007-188393AA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5D23-365C-4921-AA6C-1FA45DC5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3F1-DA8E-4E24-9FE3-9D9F92A9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833-0FD3-4351-AF22-75B27712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152-1E96-4DB0-AF3C-EB46D12A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2C1-85ED-4BC9-AE25-BE1AA8E6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FB39-D14B-41FC-B0B1-0E6A7885B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763640" y="2060640"/>
            <a:ext cx="55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说话的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792080" y="544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失车菊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056360" y="5877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失车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狗尾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7056360" y="5877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狗尾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蝈蝈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056360" y="5589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蝈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80" y="907560"/>
            <a:ext cx="52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彩云"/>
              </a:rPr>
              <a:t>想一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31880" y="2349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什么说是“会说话的草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755640" y="436572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花在嬉笑，草在喧嚷，每一片叶子都在歌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1730520" y="5153040"/>
            <a:ext cx="51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403280" y="1557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嬉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笑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喧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uā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嚷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ǎ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土壤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ǎ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葵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uí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花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肩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iān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C429-F45A-4904-B70C-F2004D5EE3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08:51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0:00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