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3242-6BA5-4146-A740-1CE8F22C5E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4E29-089E-4FD1-BDCF-12297D0115D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37E-C6D8-438D-9BE5-3B69F7E6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975-F2B2-4050-BA0B-A7C538C0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616-375F-4153-9F5C-A4306C48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6B4A-83F1-4FCC-AE9E-9AB7DF1F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6A1-0D1E-4893-A9BA-4FD532C2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ACA-85E1-46A9-A6A5-C74284D0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DFB-9B43-456C-B785-60AEC290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961A-5D1A-47FB-B824-70B486AC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0EB4-AF5C-4E27-B6C4-CC036B0E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2C95-008D-46CA-95A1-8F3CBB1A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B37-EC37-46B0-A22B-2DDBD621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D02-DC8F-46BD-BED2-04E3F03F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A08A-9CE4-4F66-8B70-280ED6CFB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4416480" y="120816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华文中宋"/>
                <a:ea typeface="华文中宋"/>
              </a:rPr>
              <a:t>河水和小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89972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95280" y="476280"/>
            <a:ext cx="87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iǎo   chuán  tǎnɡ    zài   hé   de  huái  l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    船     躺     在    河   的    怀   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Màn     màn    de    yó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慢     慢     地     游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é      shuǐ  jǐn    bào   zhe    xiǎo    chu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河      水     紧     抱    着     小      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qīnɡ    qīnɡ   dì    li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轻      轻     地     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ā      men    zài   shuō   qiāo   qiāo   hu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它      们     在     说     悄    悄    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wǒ      men    shì   zuì    hǎo    de  pénɡ 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      们     是     最     好    的   朋   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钢琴曲 - Kiss The Rain.mp3" descr=""/>
          <p:cNvPicPr/>
          <p:nvPr/>
        </p:nvPicPr>
        <p:blipFill>
          <a:blip r:embed="rId1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6087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/>
          <a:srcRect l="0" t="0" r="0" b="-391"/>
          <a:stretch/>
        </p:blipFill>
        <p:spPr>
          <a:xfrm>
            <a:off x="-1405080" y="0"/>
            <a:ext cx="105490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934920" y="126828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mā   mɑ     de   huái   bào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妈   妈     的    怀     抱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hì  qīnɡ   qīnɡ  liú   dònɡ   de   hé shu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   轻     轻    流    动     的   河  水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wǒ   jiù    shì   nà    zh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   就     是    那    只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ǐ   huɑn   sā    jiāo  de    xiǎo  chu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喜   欢     撒    娇    的     小     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mā   mɑ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mā    m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妈   妈 ，  妈    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wǒ   men    yě    shì   hǎo    pénɡ you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   们     也    是     好     朋   友  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3146f604247bd6550308810a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-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84978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"/>
                <a:ea typeface="楷体"/>
              </a:rPr>
              <a:t>小船在慢慢地游。</a:t>
            </a:r>
            <a:br>
              <a:rPr sz="5400"/>
            </a:br>
            <a:r>
              <a:rPr b="1" lang="zh-CN" sz="5400" spc="-1" strike="noStrike">
                <a:solidFill>
                  <a:srgbClr val="0000cc"/>
                </a:solidFill>
                <a:latin typeface="楷体"/>
                <a:ea typeface="楷体"/>
              </a:rPr>
              <a:t>河水轻轻地流动。</a:t>
            </a:r>
            <a:br>
              <a:rPr sz="5400"/>
            </a:br>
            <a:r>
              <a:rPr b="1" lang="zh-CN" sz="5400" spc="-1" strike="noStrike">
                <a:solidFill>
                  <a:srgbClr val="0000cc"/>
                </a:solidFill>
                <a:latin typeface="楷体"/>
                <a:ea typeface="楷体"/>
              </a:rPr>
              <a:t>我是一只喜欢撒娇的小船。</a:t>
            </a:r>
            <a:br>
              <a:rPr sz="5400"/>
            </a:br>
            <a:r>
              <a:rPr b="1" lang="zh-CN" sz="5400" spc="-1" strike="noStrike">
                <a:solidFill>
                  <a:srgbClr val="0000cc"/>
                </a:solidFill>
                <a:latin typeface="楷体"/>
                <a:ea typeface="楷体"/>
              </a:rPr>
              <a:t>它也是我的好朋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4572000" y="3860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Century Gothic"/>
              </a:rPr>
              <a:t>sā   jiā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24000" y="260280"/>
            <a:ext cx="31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读一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3146f604247bd6550308810a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84872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"/>
                <a:ea typeface="楷体"/>
              </a:rPr>
              <a:t>轻声 朋友 慢慢 流动</a:t>
            </a:r>
            <a:br>
              <a:rPr sz="5400"/>
            </a:br>
            <a:r>
              <a:rPr b="1" lang="zh-CN" sz="5400" spc="-1" strike="noStrike">
                <a:solidFill>
                  <a:srgbClr val="0000cc"/>
                </a:solidFill>
                <a:latin typeface="楷体"/>
                <a:ea typeface="楷体"/>
              </a:rPr>
              <a:t>喜欢 一只 也是 它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95280" y="105264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读一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5"/>
          <p:cNvSpPr/>
          <p:nvPr/>
        </p:nvSpPr>
        <p:spPr>
          <a:xfrm>
            <a:off x="3348000" y="33084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3146f604247bd6550308810a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133360"/>
            <a:ext cx="676908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"/>
                <a:ea typeface="楷体"/>
              </a:rPr>
              <a:t>慢 轻 流 它 朋 友</a:t>
            </a:r>
            <a:br>
              <a:rPr sz="5400"/>
            </a:br>
            <a:r>
              <a:rPr b="1" lang="zh-CN" sz="5400" spc="-1" strike="noStrike">
                <a:solidFill>
                  <a:srgbClr val="0000cc"/>
                </a:solidFill>
                <a:latin typeface="楷体"/>
                <a:ea typeface="楷体"/>
              </a:rPr>
              <a:t>动 只 喜 欢 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105264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读一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"/>
          <p:cNvSpPr/>
          <p:nvPr/>
        </p:nvSpPr>
        <p:spPr>
          <a:xfrm>
            <a:off x="1650960" y="5780160"/>
            <a:ext cx="58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1628640"/>
            <a:ext cx="478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小船躺在河的怀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慢慢地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河水紧抱着小船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轻轻地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它们在说悄悄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我们是最好的朋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680000" y="1557360"/>
            <a:ext cx="446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妈妈的怀抱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是轻轻流动的河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我就是那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喜欢撒娇的小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妈妈，妈妈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我们也是好朋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4572000" y="1844640"/>
            <a:ext cx="0" cy="33130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843280" y="476280"/>
            <a:ext cx="41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河水和小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1" descr="080709091014761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826920" y="340992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"/>
              </a:rPr>
              <a:t>妈妈都为你做过哪些事儿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826920" y="402264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"/>
              </a:rPr>
              <a:t>你想对妈妈说些什么呀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826920" y="12682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想一想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826920" y="213372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"/>
              </a:rPr>
              <a:t>河水和小船的关系是怎样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826920" y="278136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"/>
              </a:rPr>
              <a:t>妈妈和你的关系是怎样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0A24-741C-40A7-AF86-502217B7F0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5:04:4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8:25Z</dcterms:modified>
  <cp:revision>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