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rtoon21.wav" ContentType="audio/x-wav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applause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31F8-C466-41CC-885F-EEC0E939388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9207-6BA5-475D-B736-B6461E86DB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144-15F8-4F14-831B-87BB3B74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1823-2E55-438A-8E28-44CC8A9B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FC93-83F4-4B24-BF42-B914253C8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596-7298-454A-B851-579C5173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5EA-A490-4B2E-BB2D-0816908D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F7CC-555B-4433-A4E9-9D29297E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C8D0-145E-4E5B-989B-384CF57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EA7-25AD-4012-99D3-497EACB9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51C1-3619-41E1-93A1-2828747D7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F534-CEEF-49F9-A68D-D8E4551C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447-199A-438B-9B02-8E72E64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B53-7A5D-4854-9453-BEC420E4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06CF-9194-4234-BBA8-BC0B32E36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audio" Target="../media/Cartoon21.wav"/><Relationship Id="rId18" Type="http://schemas.openxmlformats.org/officeDocument/2006/relationships/audio" Target="../media/Cartoon21.wav"/><Relationship Id="rId19" Type="http://schemas.openxmlformats.org/officeDocument/2006/relationships/audio" Target="../media/Cartoon21.wav"/><Relationship Id="rId20" Type="http://schemas.openxmlformats.org/officeDocument/2006/relationships/audio" Target="../media/Cartoon21.wav"/><Relationship Id="rId21" Type="http://schemas.openxmlformats.org/officeDocument/2006/relationships/audio" Target="../media/Cartoon21.wav"/><Relationship Id="rId22" Type="http://schemas.openxmlformats.org/officeDocument/2006/relationships/audio" Target="../media/Cartoon21.wav"/><Relationship Id="rId23" Type="http://schemas.openxmlformats.org/officeDocument/2006/relationships/audio" Target="../media/Cartoon21.wav"/><Relationship Id="rId24" Type="http://schemas.openxmlformats.org/officeDocument/2006/relationships/audio" Target="../media/Cartoon21.wav"/><Relationship Id="rId25" Type="http://schemas.openxmlformats.org/officeDocument/2006/relationships/audio" Target="../media/Cartoon21.wav"/><Relationship Id="rId26" Type="http://schemas.openxmlformats.org/officeDocument/2006/relationships/audio" Target="../media/Cartoon21.wav"/><Relationship Id="rId27" Type="http://schemas.openxmlformats.org/officeDocument/2006/relationships/audio" Target="../media/Cartoon21.wav"/><Relationship Id="rId28" Type="http://schemas.openxmlformats.org/officeDocument/2006/relationships/audio" Target="../media/Cartoon21.wav"/><Relationship Id="rId29" Type="http://schemas.openxmlformats.org/officeDocument/2006/relationships/audio" Target="../media/applause.wav"/><Relationship Id="rId3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复件 8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1332000" y="1442880"/>
            <a:ext cx="525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22 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护士妈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827000" y="5877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484360" y="119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黑体"/>
              </a:rPr>
              <a:t>爸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755640" y="2133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请大家找出描写爸爸的句子，读一读，思考：爸爸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39640" y="3357720"/>
            <a:ext cx="7993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女孩的爸爸坐在病床前，神色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h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地看着女儿，不知该如何帮助她，只是不停地哀求医生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救救我女儿，救救我女儿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684360" y="1413000"/>
            <a:ext cx="741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男人埋着头，低声说：“我们离婚很久了，我找不到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55640" y="2924280"/>
            <a:ext cx="7056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男人抬起头，吃惊地看着比女儿大不了多少的护士，流着泪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谢谢，谢谢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11280" y="1557360"/>
            <a:ext cx="792144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护士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皱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zhòu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了皱眉头，默默地坐下来，轻轻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握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wò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住女孩凉凉的手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柔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ó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u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声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女儿</a:t>
            </a:r>
            <a:r>
              <a:rPr b="0" lang="zh-CN" sz="40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ɡuā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妈妈在，妈妈在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627280" y="90792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7c80"/>
                </a:solidFill>
                <a:latin typeface="Arial"/>
                <a:ea typeface="黑体"/>
              </a:rPr>
              <a:t>护士妈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3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755640" y="191628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老师觉得“默默”这个词语用得很好，谁能够用它说一句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84360" y="3213000"/>
            <a:ext cx="770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护士阿姨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默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坐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我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默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地拿作业出来，认真地写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755640" y="1916280"/>
            <a:ext cx="77040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在以后的日子里，那位还没有结婚的护士，像一位真正的妈妈那样，一有空就守在女孩病床前，握住她的手，跟她说话，还轻轻地给她唱歌，直到那女孩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s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醒过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3"/>
          <p:cNvSpPr/>
          <p:nvPr/>
        </p:nvSpPr>
        <p:spPr>
          <a:xfrm>
            <a:off x="755640" y="1916280"/>
            <a:ext cx="770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7c80"/>
                </a:solidFill>
                <a:latin typeface="Arial"/>
                <a:ea typeface="黑体"/>
              </a:rPr>
              <a:t>母爱可以拯救一切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684360" y="3141720"/>
            <a:ext cx="777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让我们发自内心地、真诚地向伟大的母亲说一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谢谢！亲爱的妈妈！谢谢伟大的母亲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"/>
          <p:cNvSpPr/>
          <p:nvPr/>
        </p:nvSpPr>
        <p:spPr>
          <a:xfrm>
            <a:off x="1986120" y="5610240"/>
            <a:ext cx="61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2268360" y="141300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7c80"/>
                </a:solidFill>
                <a:latin typeface="Arial"/>
                <a:ea typeface="黑体"/>
              </a:rPr>
              <a:t>填一填、读一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609480" y="3141720"/>
            <a:ext cx="853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9640" y="1916280"/>
            <a:ext cx="81378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护士皱了皱眉头，（     ）地坐下来，（    ）握住女孩（    ）的手，柔声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儿乖，妈妈在，妈妈在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539640" y="3429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女孩像落水者抓到了救生圈，她（    ）攥紧护士的手，呼吸（    ）均匀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468360" y="4653000"/>
            <a:ext cx="799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护士的脸（    ）红了，说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记得读过一句名言：母爱可以拯救一切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000000"/>
                </a:solidFill>
                <a:latin typeface="Arial"/>
              </a:rPr>
              <a:t>谢谢指导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8"/>
          <p:cNvSpPr/>
          <p:nvPr/>
        </p:nvSpPr>
        <p:spPr>
          <a:xfrm>
            <a:off x="3995640" y="537372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黑体"/>
              </a:rPr>
              <a:t>谢谢指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490D-3BAE-4A2F-AFD9-5CDA9867306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大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3"/>
          <p:cNvGrpSpPr/>
          <p:nvPr/>
        </p:nvGrpSpPr>
        <p:grpSpPr>
          <a:xfrm>
            <a:off x="6804000" y="189000"/>
            <a:ext cx="792360" cy="938160"/>
            <a:chOff x="6804000" y="189000"/>
            <a:chExt cx="792360" cy="938160"/>
          </a:xfrm>
        </p:grpSpPr>
        <p:sp>
          <p:nvSpPr>
            <p:cNvPr id="53" name="Oval 4"/>
            <p:cNvSpPr/>
            <p:nvPr/>
          </p:nvSpPr>
          <p:spPr>
            <a:xfrm>
              <a:off x="6804000" y="37620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充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"/>
            <p:cNvSpPr/>
            <p:nvPr/>
          </p:nvSpPr>
          <p:spPr>
            <a:xfrm>
              <a:off x="7164360" y="18900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6"/>
          <p:cNvGrpSpPr/>
          <p:nvPr/>
        </p:nvGrpSpPr>
        <p:grpSpPr>
          <a:xfrm>
            <a:off x="1763640" y="333360"/>
            <a:ext cx="792360" cy="938160"/>
            <a:chOff x="1763640" y="333360"/>
            <a:chExt cx="792360" cy="938160"/>
          </a:xfrm>
        </p:grpSpPr>
        <p:sp>
          <p:nvSpPr>
            <p:cNvPr id="56" name="Oval 7"/>
            <p:cNvSpPr/>
            <p:nvPr/>
          </p:nvSpPr>
          <p:spPr>
            <a:xfrm>
              <a:off x="1763640" y="52056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2124000" y="33336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9"/>
          <p:cNvGrpSpPr/>
          <p:nvPr/>
        </p:nvGrpSpPr>
        <p:grpSpPr>
          <a:xfrm>
            <a:off x="1547640" y="1628640"/>
            <a:ext cx="792360" cy="938160"/>
            <a:chOff x="1547640" y="1628640"/>
            <a:chExt cx="792360" cy="938160"/>
          </a:xfrm>
        </p:grpSpPr>
        <p:sp>
          <p:nvSpPr>
            <p:cNvPr id="59" name="Oval 10"/>
            <p:cNvSpPr/>
            <p:nvPr/>
          </p:nvSpPr>
          <p:spPr>
            <a:xfrm>
              <a:off x="1547640" y="181584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楚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>
              <a:off x="1908000" y="162864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12"/>
          <p:cNvGrpSpPr/>
          <p:nvPr/>
        </p:nvGrpSpPr>
        <p:grpSpPr>
          <a:xfrm>
            <a:off x="2771640" y="907920"/>
            <a:ext cx="792360" cy="938160"/>
            <a:chOff x="2771640" y="907920"/>
            <a:chExt cx="792360" cy="938160"/>
          </a:xfrm>
        </p:grpSpPr>
        <p:sp>
          <p:nvSpPr>
            <p:cNvPr id="62" name="Oval 13"/>
            <p:cNvSpPr/>
            <p:nvPr/>
          </p:nvSpPr>
          <p:spPr>
            <a:xfrm>
              <a:off x="2771640" y="109512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靠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4"/>
            <p:cNvSpPr/>
            <p:nvPr/>
          </p:nvSpPr>
          <p:spPr>
            <a:xfrm>
              <a:off x="3132000" y="90792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5"/>
          <p:cNvGrpSpPr/>
          <p:nvPr/>
        </p:nvGrpSpPr>
        <p:grpSpPr>
          <a:xfrm>
            <a:off x="3995640" y="260280"/>
            <a:ext cx="792360" cy="938160"/>
            <a:chOff x="3995640" y="260280"/>
            <a:chExt cx="792360" cy="938160"/>
          </a:xfrm>
        </p:grpSpPr>
        <p:sp>
          <p:nvSpPr>
            <p:cNvPr id="65" name="Oval 16"/>
            <p:cNvSpPr/>
            <p:nvPr/>
          </p:nvSpPr>
          <p:spPr>
            <a:xfrm>
              <a:off x="3995640" y="44748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7"/>
            <p:cNvSpPr/>
            <p:nvPr/>
          </p:nvSpPr>
          <p:spPr>
            <a:xfrm>
              <a:off x="4356000" y="260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18"/>
          <p:cNvGrpSpPr/>
          <p:nvPr/>
        </p:nvGrpSpPr>
        <p:grpSpPr>
          <a:xfrm>
            <a:off x="8172360" y="260280"/>
            <a:ext cx="792360" cy="938160"/>
            <a:chOff x="8172360" y="260280"/>
            <a:chExt cx="792360" cy="938160"/>
          </a:xfrm>
        </p:grpSpPr>
        <p:sp>
          <p:nvSpPr>
            <p:cNvPr id="68" name="Oval 19"/>
            <p:cNvSpPr/>
            <p:nvPr/>
          </p:nvSpPr>
          <p:spPr>
            <a:xfrm>
              <a:off x="8172360" y="44748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0"/>
            <p:cNvSpPr/>
            <p:nvPr/>
          </p:nvSpPr>
          <p:spPr>
            <a:xfrm>
              <a:off x="8532720" y="260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21"/>
          <p:cNvGrpSpPr/>
          <p:nvPr/>
        </p:nvGrpSpPr>
        <p:grpSpPr>
          <a:xfrm>
            <a:off x="2627280" y="2058840"/>
            <a:ext cx="792360" cy="938160"/>
            <a:chOff x="2627280" y="2058840"/>
            <a:chExt cx="792360" cy="938160"/>
          </a:xfrm>
        </p:grpSpPr>
        <p:sp>
          <p:nvSpPr>
            <p:cNvPr id="71" name="Oval 22"/>
            <p:cNvSpPr/>
            <p:nvPr/>
          </p:nvSpPr>
          <p:spPr>
            <a:xfrm>
              <a:off x="2627280" y="224604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3"/>
            <p:cNvSpPr/>
            <p:nvPr/>
          </p:nvSpPr>
          <p:spPr>
            <a:xfrm>
              <a:off x="2987640" y="205884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4"/>
          <p:cNvGrpSpPr/>
          <p:nvPr/>
        </p:nvGrpSpPr>
        <p:grpSpPr>
          <a:xfrm>
            <a:off x="3708360" y="1413000"/>
            <a:ext cx="792360" cy="938160"/>
            <a:chOff x="3708360" y="1413000"/>
            <a:chExt cx="792360" cy="938160"/>
          </a:xfrm>
        </p:grpSpPr>
        <p:sp>
          <p:nvSpPr>
            <p:cNvPr id="74" name="Oval 25"/>
            <p:cNvSpPr/>
            <p:nvPr/>
          </p:nvSpPr>
          <p:spPr>
            <a:xfrm>
              <a:off x="3708360" y="160020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握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4068720" y="141300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4500720" y="2060640"/>
            <a:ext cx="792000" cy="938160"/>
            <a:chOff x="4500720" y="2060640"/>
            <a:chExt cx="792000" cy="938160"/>
          </a:xfrm>
        </p:grpSpPr>
        <p:sp>
          <p:nvSpPr>
            <p:cNvPr id="77" name="Oval 28"/>
            <p:cNvSpPr/>
            <p:nvPr/>
          </p:nvSpPr>
          <p:spPr>
            <a:xfrm>
              <a:off x="4500720" y="224784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柔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4860720" y="206064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6300720" y="981000"/>
            <a:ext cx="792360" cy="938160"/>
            <a:chOff x="6300720" y="981000"/>
            <a:chExt cx="792360" cy="938160"/>
          </a:xfrm>
        </p:grpSpPr>
        <p:sp>
          <p:nvSpPr>
            <p:cNvPr id="80" name="Oval 31"/>
            <p:cNvSpPr/>
            <p:nvPr/>
          </p:nvSpPr>
          <p:spPr>
            <a:xfrm>
              <a:off x="6300720" y="1168200"/>
              <a:ext cx="79236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乖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6661080" y="98100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33"/>
          <p:cNvGrpSpPr/>
          <p:nvPr/>
        </p:nvGrpSpPr>
        <p:grpSpPr>
          <a:xfrm>
            <a:off x="7020000" y="1916280"/>
            <a:ext cx="792000" cy="938160"/>
            <a:chOff x="7020000" y="1916280"/>
            <a:chExt cx="792000" cy="938160"/>
          </a:xfrm>
        </p:grpSpPr>
        <p:sp>
          <p:nvSpPr>
            <p:cNvPr id="83" name="Oval 34"/>
            <p:cNvSpPr/>
            <p:nvPr/>
          </p:nvSpPr>
          <p:spPr>
            <a:xfrm>
              <a:off x="7020000" y="210348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均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5"/>
            <p:cNvSpPr/>
            <p:nvPr/>
          </p:nvSpPr>
          <p:spPr>
            <a:xfrm>
              <a:off x="7380000" y="1916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6"/>
          <p:cNvGrpSpPr/>
          <p:nvPr/>
        </p:nvGrpSpPr>
        <p:grpSpPr>
          <a:xfrm>
            <a:off x="8352000" y="1916280"/>
            <a:ext cx="792000" cy="938160"/>
            <a:chOff x="8352000" y="1916280"/>
            <a:chExt cx="792000" cy="938160"/>
          </a:xfrm>
        </p:grpSpPr>
        <p:sp>
          <p:nvSpPr>
            <p:cNvPr id="86" name="Oval 37"/>
            <p:cNvSpPr/>
            <p:nvPr/>
          </p:nvSpPr>
          <p:spPr>
            <a:xfrm>
              <a:off x="8352000" y="2103480"/>
              <a:ext cx="792000" cy="7509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aa22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Arial"/>
                  <a:ea typeface="华文新魏"/>
                </a:rPr>
                <a:t>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8"/>
            <p:cNvSpPr/>
            <p:nvPr/>
          </p:nvSpPr>
          <p:spPr>
            <a:xfrm>
              <a:off x="8712000" y="1916280"/>
              <a:ext cx="0" cy="217440"/>
            </a:xfrm>
            <a:prstGeom prst="line">
              <a:avLst/>
            </a:prstGeom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黑夜"/>
          <p:cNvPicPr/>
          <p:nvPr/>
        </p:nvPicPr>
        <p:blipFill>
          <a:blip r:embed="rId1"/>
          <a:stretch/>
        </p:blipFill>
        <p:spPr>
          <a:xfrm>
            <a:off x="0" y="0"/>
            <a:ext cx="9372600" cy="7013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家1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5943600" y="0"/>
            <a:ext cx="3200400" cy="19969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3496320" y="6278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昏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713040" y="5877000"/>
            <a:ext cx="99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凄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4182120" y="5486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依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322880" y="5013360"/>
            <a:ext cx="99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是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2895480" y="1673280"/>
            <a:ext cx="4321080" cy="5184720"/>
            <a:chOff x="2895480" y="1673280"/>
            <a:chExt cx="4321080" cy="5184720"/>
          </a:xfrm>
        </p:grpSpPr>
        <p:grpSp>
          <p:nvGrpSpPr>
            <p:cNvPr id="95" name="Group 9"/>
            <p:cNvGrpSpPr/>
            <p:nvPr/>
          </p:nvGrpSpPr>
          <p:grpSpPr>
            <a:xfrm>
              <a:off x="2895480" y="4265640"/>
              <a:ext cx="2160360" cy="2592360"/>
              <a:chOff x="2895480" y="4265640"/>
              <a:chExt cx="2160360" cy="2592360"/>
            </a:xfrm>
          </p:grpSpPr>
          <p:grpSp>
            <p:nvGrpSpPr>
              <p:cNvPr id="96" name="Group 10"/>
              <p:cNvGrpSpPr/>
              <p:nvPr/>
            </p:nvGrpSpPr>
            <p:grpSpPr>
              <a:xfrm>
                <a:off x="2895480" y="6413040"/>
                <a:ext cx="370800" cy="444960"/>
                <a:chOff x="2895480" y="6413040"/>
                <a:chExt cx="370800" cy="444960"/>
              </a:xfrm>
            </p:grpSpPr>
            <p:sp>
              <p:nvSpPr>
                <p:cNvPr id="97" name="Line 11"/>
                <p:cNvSpPr/>
                <p:nvPr/>
              </p:nvSpPr>
              <p:spPr>
                <a:xfrm>
                  <a:off x="2895840" y="641376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Line 12"/>
                <p:cNvSpPr/>
                <p:nvPr/>
              </p:nvSpPr>
              <p:spPr>
                <a:xfrm flipH="1">
                  <a:off x="2895480" y="641304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13"/>
              <p:cNvGrpSpPr/>
              <p:nvPr/>
            </p:nvGrpSpPr>
            <p:grpSpPr>
              <a:xfrm>
                <a:off x="3265560" y="6005880"/>
                <a:ext cx="370800" cy="444600"/>
                <a:chOff x="3265560" y="6005880"/>
                <a:chExt cx="370800" cy="444600"/>
              </a:xfrm>
            </p:grpSpPr>
            <p:sp>
              <p:nvSpPr>
                <p:cNvPr id="100" name="Line 14"/>
                <p:cNvSpPr/>
                <p:nvPr/>
              </p:nvSpPr>
              <p:spPr>
                <a:xfrm>
                  <a:off x="3265920" y="6006600"/>
                  <a:ext cx="0" cy="443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15"/>
                <p:cNvSpPr/>
                <p:nvPr/>
              </p:nvSpPr>
              <p:spPr>
                <a:xfrm flipH="1">
                  <a:off x="3265560" y="600588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Group 16"/>
              <p:cNvGrpSpPr/>
              <p:nvPr/>
            </p:nvGrpSpPr>
            <p:grpSpPr>
              <a:xfrm>
                <a:off x="3605040" y="5598360"/>
                <a:ext cx="370800" cy="444960"/>
                <a:chOff x="3605040" y="5598360"/>
                <a:chExt cx="370800" cy="444960"/>
              </a:xfrm>
            </p:grpSpPr>
            <p:sp>
              <p:nvSpPr>
                <p:cNvPr id="103" name="Line 17"/>
                <p:cNvSpPr/>
                <p:nvPr/>
              </p:nvSpPr>
              <p:spPr>
                <a:xfrm>
                  <a:off x="3605400" y="559908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Line 18"/>
                <p:cNvSpPr/>
                <p:nvPr/>
              </p:nvSpPr>
              <p:spPr>
                <a:xfrm flipH="1">
                  <a:off x="3605040" y="559836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19"/>
              <p:cNvGrpSpPr/>
              <p:nvPr/>
            </p:nvGrpSpPr>
            <p:grpSpPr>
              <a:xfrm>
                <a:off x="3975840" y="5154480"/>
                <a:ext cx="370800" cy="444960"/>
                <a:chOff x="3975840" y="5154480"/>
                <a:chExt cx="370800" cy="444960"/>
              </a:xfrm>
            </p:grpSpPr>
            <p:sp>
              <p:nvSpPr>
                <p:cNvPr id="106" name="Line 20"/>
                <p:cNvSpPr/>
                <p:nvPr/>
              </p:nvSpPr>
              <p:spPr>
                <a:xfrm>
                  <a:off x="3976200" y="515520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21"/>
                <p:cNvSpPr/>
                <p:nvPr/>
              </p:nvSpPr>
              <p:spPr>
                <a:xfrm flipH="1">
                  <a:off x="3975840" y="515448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22"/>
              <p:cNvGrpSpPr/>
              <p:nvPr/>
            </p:nvGrpSpPr>
            <p:grpSpPr>
              <a:xfrm>
                <a:off x="4315320" y="4710600"/>
                <a:ext cx="370800" cy="444600"/>
                <a:chOff x="4315320" y="4710600"/>
                <a:chExt cx="370800" cy="444600"/>
              </a:xfrm>
            </p:grpSpPr>
            <p:sp>
              <p:nvSpPr>
                <p:cNvPr id="109" name="Line 23"/>
                <p:cNvSpPr/>
                <p:nvPr/>
              </p:nvSpPr>
              <p:spPr>
                <a:xfrm>
                  <a:off x="4315680" y="4711320"/>
                  <a:ext cx="0" cy="443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24"/>
                <p:cNvSpPr/>
                <p:nvPr/>
              </p:nvSpPr>
              <p:spPr>
                <a:xfrm flipH="1">
                  <a:off x="4315320" y="471060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Group 25"/>
              <p:cNvGrpSpPr/>
              <p:nvPr/>
            </p:nvGrpSpPr>
            <p:grpSpPr>
              <a:xfrm>
                <a:off x="4685040" y="4265640"/>
                <a:ext cx="370800" cy="444960"/>
                <a:chOff x="4685040" y="4265640"/>
                <a:chExt cx="370800" cy="444960"/>
              </a:xfrm>
            </p:grpSpPr>
            <p:sp>
              <p:nvSpPr>
                <p:cNvPr id="112" name="Line 26"/>
                <p:cNvSpPr/>
                <p:nvPr/>
              </p:nvSpPr>
              <p:spPr>
                <a:xfrm>
                  <a:off x="4685400" y="426636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27"/>
                <p:cNvSpPr/>
                <p:nvPr/>
              </p:nvSpPr>
              <p:spPr>
                <a:xfrm flipH="1">
                  <a:off x="4685040" y="426564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Group 28"/>
            <p:cNvGrpSpPr/>
            <p:nvPr/>
          </p:nvGrpSpPr>
          <p:grpSpPr>
            <a:xfrm>
              <a:off x="5055840" y="1673280"/>
              <a:ext cx="2160720" cy="2592360"/>
              <a:chOff x="5055840" y="1673280"/>
              <a:chExt cx="2160720" cy="2592360"/>
            </a:xfrm>
          </p:grpSpPr>
          <p:grpSp>
            <p:nvGrpSpPr>
              <p:cNvPr id="115" name="Group 29"/>
              <p:cNvGrpSpPr/>
              <p:nvPr/>
            </p:nvGrpSpPr>
            <p:grpSpPr>
              <a:xfrm>
                <a:off x="5055840" y="3820680"/>
                <a:ext cx="370800" cy="444960"/>
                <a:chOff x="5055840" y="3820680"/>
                <a:chExt cx="370800" cy="444960"/>
              </a:xfrm>
            </p:grpSpPr>
            <p:sp>
              <p:nvSpPr>
                <p:cNvPr id="116" name="Line 30"/>
                <p:cNvSpPr/>
                <p:nvPr/>
              </p:nvSpPr>
              <p:spPr>
                <a:xfrm>
                  <a:off x="5056200" y="382140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1"/>
                <p:cNvSpPr/>
                <p:nvPr/>
              </p:nvSpPr>
              <p:spPr>
                <a:xfrm flipH="1">
                  <a:off x="5055840" y="382068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Group 32"/>
              <p:cNvGrpSpPr/>
              <p:nvPr/>
            </p:nvGrpSpPr>
            <p:grpSpPr>
              <a:xfrm>
                <a:off x="5425920" y="3413520"/>
                <a:ext cx="370800" cy="444600"/>
                <a:chOff x="5425920" y="3413520"/>
                <a:chExt cx="370800" cy="444600"/>
              </a:xfrm>
            </p:grpSpPr>
            <p:sp>
              <p:nvSpPr>
                <p:cNvPr id="119" name="Line 33"/>
                <p:cNvSpPr/>
                <p:nvPr/>
              </p:nvSpPr>
              <p:spPr>
                <a:xfrm>
                  <a:off x="5426280" y="3414240"/>
                  <a:ext cx="0" cy="443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34"/>
                <p:cNvSpPr/>
                <p:nvPr/>
              </p:nvSpPr>
              <p:spPr>
                <a:xfrm flipH="1">
                  <a:off x="5425920" y="341352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Group 35"/>
              <p:cNvGrpSpPr/>
              <p:nvPr/>
            </p:nvGrpSpPr>
            <p:grpSpPr>
              <a:xfrm>
                <a:off x="5765760" y="3006000"/>
                <a:ext cx="370800" cy="444960"/>
                <a:chOff x="5765760" y="3006000"/>
                <a:chExt cx="370800" cy="444960"/>
              </a:xfrm>
            </p:grpSpPr>
            <p:sp>
              <p:nvSpPr>
                <p:cNvPr id="122" name="Line 36"/>
                <p:cNvSpPr/>
                <p:nvPr/>
              </p:nvSpPr>
              <p:spPr>
                <a:xfrm>
                  <a:off x="5766120" y="300672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Line 37"/>
                <p:cNvSpPr/>
                <p:nvPr/>
              </p:nvSpPr>
              <p:spPr>
                <a:xfrm flipH="1">
                  <a:off x="5765760" y="300600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Group 38"/>
              <p:cNvGrpSpPr/>
              <p:nvPr/>
            </p:nvGrpSpPr>
            <p:grpSpPr>
              <a:xfrm>
                <a:off x="6136560" y="2562120"/>
                <a:ext cx="370800" cy="444960"/>
                <a:chOff x="6136560" y="2562120"/>
                <a:chExt cx="370800" cy="444960"/>
              </a:xfrm>
            </p:grpSpPr>
            <p:sp>
              <p:nvSpPr>
                <p:cNvPr id="125" name="Line 39"/>
                <p:cNvSpPr/>
                <p:nvPr/>
              </p:nvSpPr>
              <p:spPr>
                <a:xfrm>
                  <a:off x="6136920" y="256284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40"/>
                <p:cNvSpPr/>
                <p:nvPr/>
              </p:nvSpPr>
              <p:spPr>
                <a:xfrm flipH="1">
                  <a:off x="6136560" y="256212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Group 41"/>
              <p:cNvGrpSpPr/>
              <p:nvPr/>
            </p:nvGrpSpPr>
            <p:grpSpPr>
              <a:xfrm>
                <a:off x="6476040" y="2118240"/>
                <a:ext cx="370800" cy="444600"/>
                <a:chOff x="6476040" y="2118240"/>
                <a:chExt cx="370800" cy="444600"/>
              </a:xfrm>
            </p:grpSpPr>
            <p:sp>
              <p:nvSpPr>
                <p:cNvPr id="128" name="Line 42"/>
                <p:cNvSpPr/>
                <p:nvPr/>
              </p:nvSpPr>
              <p:spPr>
                <a:xfrm>
                  <a:off x="6476400" y="2118960"/>
                  <a:ext cx="0" cy="44388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43"/>
                <p:cNvSpPr/>
                <p:nvPr/>
              </p:nvSpPr>
              <p:spPr>
                <a:xfrm flipH="1">
                  <a:off x="6476040" y="211824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Group 44"/>
              <p:cNvGrpSpPr/>
              <p:nvPr/>
            </p:nvGrpSpPr>
            <p:grpSpPr>
              <a:xfrm>
                <a:off x="6845760" y="1673280"/>
                <a:ext cx="370800" cy="444960"/>
                <a:chOff x="6845760" y="1673280"/>
                <a:chExt cx="370800" cy="444960"/>
              </a:xfrm>
            </p:grpSpPr>
            <p:sp>
              <p:nvSpPr>
                <p:cNvPr id="131" name="Line 45"/>
                <p:cNvSpPr/>
                <p:nvPr/>
              </p:nvSpPr>
              <p:spPr>
                <a:xfrm>
                  <a:off x="6846120" y="1674000"/>
                  <a:ext cx="0" cy="44424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46"/>
                <p:cNvSpPr/>
                <p:nvPr/>
              </p:nvSpPr>
              <p:spPr>
                <a:xfrm flipH="1">
                  <a:off x="6845760" y="1673280"/>
                  <a:ext cx="3708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3" name="Text Box 47"/>
          <p:cNvSpPr/>
          <p:nvPr/>
        </p:nvSpPr>
        <p:spPr>
          <a:xfrm>
            <a:off x="4867920" y="4648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充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8"/>
          <p:cNvSpPr/>
          <p:nvPr/>
        </p:nvSpPr>
        <p:spPr>
          <a:xfrm>
            <a:off x="5248800" y="4191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渴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9"/>
          <p:cNvSpPr/>
          <p:nvPr/>
        </p:nvSpPr>
        <p:spPr>
          <a:xfrm>
            <a:off x="5630040" y="3809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皱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0"/>
          <p:cNvSpPr/>
          <p:nvPr/>
        </p:nvSpPr>
        <p:spPr>
          <a:xfrm>
            <a:off x="6010920" y="3352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握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1"/>
          <p:cNvSpPr/>
          <p:nvPr/>
        </p:nvSpPr>
        <p:spPr>
          <a:xfrm>
            <a:off x="6315840" y="297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柔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2"/>
          <p:cNvSpPr/>
          <p:nvPr/>
        </p:nvSpPr>
        <p:spPr>
          <a:xfrm>
            <a:off x="6773040" y="25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乖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3"/>
          <p:cNvSpPr/>
          <p:nvPr/>
        </p:nvSpPr>
        <p:spPr>
          <a:xfrm>
            <a:off x="7153920" y="2057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均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4"/>
          <p:cNvSpPr/>
          <p:nvPr/>
        </p:nvSpPr>
        <p:spPr>
          <a:xfrm>
            <a:off x="7458840" y="1676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苏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5" descr="月亮"/>
          <p:cNvPicPr/>
          <p:nvPr/>
        </p:nvPicPr>
        <p:blipFill>
          <a:blip r:embed="rId3"/>
          <a:stretch/>
        </p:blipFill>
        <p:spPr>
          <a:xfrm>
            <a:off x="0" y="0"/>
            <a:ext cx="1600200" cy="1422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6" descr="猴子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0" y="609588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7" descr="猴子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700360" y="561960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8" descr="猴子"/>
          <p:cNvPicPr/>
          <p:nvPr/>
        </p:nvPicPr>
        <p:blipFill>
          <a:blip r:embed="rId6">
            <a:lum bright="-6000"/>
          </a:blip>
          <a:stretch/>
        </p:blipFill>
        <p:spPr>
          <a:xfrm>
            <a:off x="3075120" y="522936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9" descr="猴子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433680" y="4797360"/>
            <a:ext cx="633600" cy="762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0" descr="猴子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3780000" y="436572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1" descr="猴子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4154400" y="396252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2" descr="猴子"/>
          <p:cNvPicPr/>
          <p:nvPr/>
        </p:nvPicPr>
        <p:blipFill>
          <a:blip r:embed="rId10">
            <a:lum bright="-6000"/>
          </a:blip>
          <a:stretch/>
        </p:blipFill>
        <p:spPr>
          <a:xfrm>
            <a:off x="4514760" y="3459240"/>
            <a:ext cx="633600" cy="761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3" descr="猴子"/>
          <p:cNvPicPr/>
          <p:nvPr/>
        </p:nvPicPr>
        <p:blipFill>
          <a:blip r:embed="rId11">
            <a:lum bright="-6000"/>
          </a:blip>
          <a:stretch/>
        </p:blipFill>
        <p:spPr>
          <a:xfrm>
            <a:off x="4932360" y="302724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4" descr="猴子"/>
          <p:cNvPicPr/>
          <p:nvPr/>
        </p:nvPicPr>
        <p:blipFill>
          <a:blip r:embed="rId12">
            <a:lum bright="-6000"/>
          </a:blip>
          <a:stretch/>
        </p:blipFill>
        <p:spPr>
          <a:xfrm>
            <a:off x="5234040" y="263700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5" descr="猴子"/>
          <p:cNvPicPr/>
          <p:nvPr/>
        </p:nvPicPr>
        <p:blipFill>
          <a:blip r:embed="rId13">
            <a:lum bright="-6000"/>
          </a:blip>
          <a:stretch/>
        </p:blipFill>
        <p:spPr>
          <a:xfrm>
            <a:off x="5594400" y="2235240"/>
            <a:ext cx="633240" cy="7621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6" descr="猴子"/>
          <p:cNvPicPr/>
          <p:nvPr/>
        </p:nvPicPr>
        <p:blipFill>
          <a:blip r:embed="rId14">
            <a:lum bright="-6000"/>
          </a:blip>
          <a:stretch/>
        </p:blipFill>
        <p:spPr>
          <a:xfrm>
            <a:off x="5954760" y="1773360"/>
            <a:ext cx="633240" cy="761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7" descr="猴子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6300720" y="1341360"/>
            <a:ext cx="633600" cy="762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8" descr="猴子"/>
          <p:cNvPicPr/>
          <p:nvPr/>
        </p:nvPicPr>
        <p:blipFill>
          <a:blip r:embed="rId16">
            <a:lum bright="-6000"/>
          </a:blip>
          <a:stretch/>
        </p:blipFill>
        <p:spPr>
          <a:xfrm>
            <a:off x="6732720" y="907920"/>
            <a:ext cx="63324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rtoon21.wav"/>
                                        </p:tgtEl>
                                      </p:cMediaNode>
                                    </p:audio>
                                    <p:animMotion origin="layout" path="M 0.00313 -0.00348 C 0.00677 -0.0132 0.01858 -0.04861 0.0257 -0.05949 C 0.03264 -0.06991 0.04115 -0.06713 0.04532 -0.06945 E">
                                      <p:cBhvr>
                                        <p:cTn id="11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rtoon21.wav"/>
                                        </p:tgtEl>
                                      </p:cMediaNode>
                                    </p:audio>
                                    <p:animMotion origin="layout" path="M -1.11111E-006 1.11022E-016 C 0.00365 -0.0088 0.01615 -0.04074 0.02344 -0.05046 C 0.03073 -0.05995 0.03958 -0.05741 0.0441 -0.05949 E">
                                      <p:cBhvr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rtoon21.wav"/>
                                        </p:tgtEl>
                                      </p:cMediaNode>
                                    </p:audio>
                                    <p:animMotion origin="layout" path="M 0.00312 -0.00254 C 0.00677 -0.01227 0.01857 -0.04745 0.02587 -0.0581 C 0.03281 -0.06852 0.04132 -0.06574 0.04566 -0.06805 E">
                                      <p:cBhvr>
                                        <p:cTn id="135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rtoon21.wav"/>
                                        </p:tgtEl>
                                      </p:cMediaNode>
                                    </p:audio>
                                    <p:animMotion origin="layout" path="M 0.00642 -0.0051 C 0.01007 -0.01482 0.02204 -0.05 0.02916 -0.06088 C 0.03628 -0.0713 0.04479 -0.06852 0.04913 -0.07084 E">
                                      <p:cBhvr>
                                        <p:cTn id="146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rtoon21.wav"/>
                                        </p:tgtEl>
                                      </p:cMediaNode>
                                    </p:audio>
                                    <p:animMotion origin="layout" path="M -1.38889E-006 7.40741E-007 C 0.00278 -0.0088 0.01198 -0.03958 0.01754 -0.04931 C 0.02292 -0.05833 0.02952 -0.05602 0.03299 -0.0581 E">
                                      <p:cBhvr>
                                        <p:cTn id="157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rtoon21.wav"/>
                                        </p:tgtEl>
                                      </p:cMediaNode>
                                    </p:audio>
                                    <p:animMotion origin="layout" path="M -0.00469 0.0007 C -0.00104 -0.0081 0.01076 -0.03981 0.01805 -0.04953 C 0.025 -0.05902 0.03351 -0.05648 0.03785 -0.05856 E">
                                      <p:cBhvr>
                                        <p:cTn id="168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artoon21.wav"/>
                                        </p:tgtEl>
                                      </p:cMediaNode>
                                    </p:audio>
                                    <p:animMotion origin="layout" path="M -1.11111E-006 -3.7037E-006 C 0.00399 -0.00879 0.01719 -0.04074 0.02517 -0.05046 C 0.03299 -0.05995 0.04254 -0.0574 0.04722 -0.05949 E">
                                      <p:cBhvr>
                                        <p:cTn id="179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rtoon21.wav"/>
                                        </p:tgtEl>
                                      </p:cMediaNode>
                                    </p:audio>
                                    <p:animMotion origin="layout" path="M 0.00156 0.00347 C 0.00468 -0.00533 0.01475 -0.03727 0.02083 -0.04699 C 0.02691 -0.05648 0.0342 -0.05394 0.03784 -0.05602 E">
                                      <p:cBhvr>
                                        <p:cTn id="190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rtoon21.wav"/>
                                        </p:tgtEl>
                                      </p:cMediaNode>
                                    </p:audio>
                                    <p:animMotion origin="layout" path="M 0.00486 0.00093 C 0.00851 -0.0088 0.02049 -0.04398 0.02761 -0.05463 C 0.03473 -0.06505 0.04323 -0.06227 0.04757 -0.06458 E">
                                      <p:cBhvr>
                                        <p:cTn id="201" dur="1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rtoon21.wav"/>
                                        </p:tgtEl>
                                      </p:cMediaNode>
                                    </p:audio>
                                    <p:animMotion origin="layout" path="M 0.0033 -0.00602 C 0.00695 -0.01481 0.01893 -0.04676 0.02605 -0.05648 C 0.03316 -0.06597 0.04167 -0.06342 0.04601 -0.06551 E">
                                      <p:cBhvr>
                                        <p:cTn id="212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rtoon21.wav"/>
                                        </p:tgtEl>
                                      </p:cMediaNode>
                                    </p:audio>
                                    <p:animMotion origin="layout" path="M 0.00659 0.00185 C 0.00955 -0.00787 0.01927 -0.04306 0.025 -0.05394 C 0.03073 -0.06435 0.03784 -0.06158 0.04132 -0.06389 E">
                                      <p:cBhvr>
                                        <p:cTn id="223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rtoon21.wav"/>
                                        </p:tgtEl>
                                      </p:cMediaNode>
                                    </p:audio>
                                    <p:animMotion origin="layout" path="M 0.00347 -0.00092 C 0.00712 -0.01064 0.01962 -0.04583 0.02691 -0.05671 C 0.0342 -0.06713 0.04305 -0.06435 0.04757 -0.06666 E">
                                      <p:cBhvr>
                                        <p:cTn id="235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E:\邓丽娟\G\分数\2009918211723849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907920"/>
            <a:ext cx="6840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谁能告诉老师，为什么说她是位特殊的妈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826920" y="2276640"/>
            <a:ext cx="597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因为一位护士阿姨充当了小女孩的妈妈，拯救了小女孩的生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187280" y="177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黑体"/>
              </a:rPr>
              <a:t>整体感知，再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609480" y="2421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cc99"/>
                </a:solidFill>
                <a:latin typeface="黑体"/>
                <a:ea typeface="黑体"/>
              </a:rPr>
              <a:t>明确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360" y="314172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在课文中写了哪些人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826920" y="400536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护士妈妈、爸爸、小女孩、医生和人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1187280" y="1557360"/>
            <a:ext cx="56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cc99"/>
                </a:solidFill>
                <a:latin typeface="黑体"/>
                <a:ea typeface="黑体"/>
              </a:rPr>
              <a:t>体会人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609480" y="227664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请大家默读课文，边读边思考：小女孩是怎样的一个人？爸爸、护士妈妈有什么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116000" y="422100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cc99"/>
                </a:solidFill>
                <a:latin typeface="黑体"/>
                <a:ea typeface="黑体"/>
              </a:rPr>
              <a:t>整体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22护士妈妈..mp3" descr=""/>
          <p:cNvPicPr/>
          <p:nvPr/>
        </p:nvPicPr>
        <p:blipFill>
          <a:blip r:embed="rId2"/>
          <a:stretch/>
        </p:blipFill>
        <p:spPr>
          <a:xfrm>
            <a:off x="3564000" y="443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6094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684360" y="2637000"/>
            <a:ext cx="7991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病房里，有一个女孩，自住进医院的那天起，就一直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hū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迷不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女孩在昏迷中不时喊着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，妈妈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771640" y="198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黑体"/>
              </a:rPr>
              <a:t>小女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2411280" y="1125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7c80"/>
                </a:solidFill>
                <a:latin typeface="Arial"/>
                <a:ea typeface="黑体"/>
              </a:rPr>
              <a:t>品读人物，精读课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8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971640" y="1773360"/>
            <a:ext cx="74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755640" y="1916280"/>
            <a:ext cx="7777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女孩唤一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护士答应一声。女孩像落水者抓到了救生圈，她死死</a:t>
            </a:r>
            <a:r>
              <a:rPr b="1" lang="zh-CN" sz="3600" spc="-1" strike="noStrike">
                <a:solidFill>
                  <a:srgbClr val="009999"/>
                </a:solidFill>
                <a:latin typeface="黑体"/>
                <a:ea typeface="黑体"/>
              </a:rPr>
              <a:t>攥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z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紧护士的手，呼吸慢慢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均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jū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匀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8"/>
          <p:cNvSpPr/>
          <p:nvPr/>
        </p:nvSpPr>
        <p:spPr>
          <a:xfrm>
            <a:off x="1979640" y="2282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7" descr="E:\邓丽娟\G\分数\2009918211723849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2280" y="4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比较句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她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死死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攥紧护士的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她攥紧护士的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684360" y="9079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 flipH="1">
            <a:off x="755640" y="2276640"/>
            <a:ext cx="71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0:39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50Z</dcterms:modified>
  <cp:revision>4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