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72F1-213A-4BD7-91AD-BD8C9823CC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242-C34B-4ABC-AF65-115D0D8C19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3BF-2F30-4555-A750-CCE38A0D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500-AD6A-42E2-B629-AB89A732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63C-D3D6-4DFF-B51C-89654BF1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17A-2E04-4130-B945-783B3CCB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B4E0-043E-43F8-B58F-D67BBB4B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579C-35C0-476E-98AF-B7DA2BE5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08E9-C7D2-4991-9B23-DBC492F4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7F1-4785-44F4-9C52-D465C9E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EED7-AD0A-45AE-B9F8-F1BFB3AE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A8A-28A6-4EDC-9444-AD55CD0A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F179-3EC4-4E36-84AF-AEFF30D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7E8-3A97-4BC1-9132-103F9B9D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137-2596-4C99-9869-FCED5E0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6C61-925D-4797-B996-E1D2FEB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5A85-7423-4083-9396-559F7686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22E1-E07F-45C0-9D05-4735EF38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56CB-63DA-433F-9BDD-DF0405D2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039-9BED-4782-BF48-07035DFB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D07-7DA1-4837-B1DD-0BB22041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AB3-9A0E-4CAF-918C-21B39CA6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F73-3B10-4CA7-A2F8-15299FB9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DAF-082B-4B0B-A021-845B9B5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606-783C-4391-AC05-54594B02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09F-5030-4A6B-9EEC-AF0838B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EAC-F427-4364-B7A9-1B54B78506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B661-3B35-43AF-9B9B-6446E83D2F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&#29190;&#28856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1789200" y="2413080"/>
            <a:ext cx="5564160" cy="324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95000" y="1052640"/>
            <a:ext cx="640548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山奇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9800" y="549360"/>
            <a:ext cx="2517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名中外的黄山风景区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我国安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hu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省南部。那里景色秀丽神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ē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奇，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yóu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是那些怪石，有趣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í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第一段讲黄山风景区在安徽南部，那里风景秀丽神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440" y="406440"/>
            <a:ext cx="208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课文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65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就说“仙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iā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桃石”吧，它好像从天上飞下来的一个大桃子，落在山顶的石盘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ā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座陡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dǒuqiào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山峰上，有一只“猴子”。它两只胳膊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ēb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bào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着腿，一动不动地蹲在山头，望着翻滚的云海。这就是有趣的“猴子观海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仙人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zhǐ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路”就更有趣了！远远望去，那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jù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石真像一位仙人站在高高的山峰上，伸着手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bì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向前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dāng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太阳升起有座山峰上的几块巨石，就变成了一只金光闪闪的雄鸡。它伸着脖子，对着天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dū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峰不住地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tí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叫。不用说，这就是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zhù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的“金鸡叫天都”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段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段分别介绍“仙桃石”、“猴子观海”、“仙人指路”、“金鸡叫天都”各个景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6200" y="406440"/>
            <a:ext cx="201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黄山的奇石还有很多，像“天狗望月”“狮子抢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iāng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球”“仙女弹琴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ānqī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......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些叫不出名字的奇形怪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qíxíngguàizhuàng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yá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石，正等着你去给它们起名字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段讲黄山的奇石、怪石很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重点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773000"/>
            <a:ext cx="8928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当太阳升起，有座山峰上的几块巨石，就变成了一只金光闪闪的雄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答：山峰上几块巨石的形状像只雄鸡，太阳光一照，巨石上金光闪闪，就更像一只美丽的“金鸡”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名中外的黄山风景区在我国安徽省南部。那里风景秀丽神奇，尤其是那些怪石，有趣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答：这两句话写黄山的位置和景物特点，强调了怪石“有趣极了”，这是黄山石“奇”之所在，点明了题意，有引出下文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06440"/>
            <a:ext cx="22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词语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560" y="1483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尤（尤其）（尤物）（尤异）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（尤其）（其它）（其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区（地区）（区域）（巨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（它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（平安）（安全）（安心）（安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块（石块）（块头）（泥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站（站立）（站台）（站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ū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首都）              落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u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落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ō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都是）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落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省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ě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省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ǐ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反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397160" y="5452920"/>
            <a:ext cx="53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8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词语注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名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én mí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有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尤其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òu q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表示更进一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秀丽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iù l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清秀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趣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ǒu q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能引起人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奇形怪状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í xíng guài zhuà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正常的奇怪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神奇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én q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非常奇妙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陡峭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ǒu qià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山势坡度很大，好像直上直下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翻滚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ān gǔ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多指水，云等上下滚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3EA-2474-4586-AB8B-B9C6C670DD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94_small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75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这是一篇看图学文，讲的是在闻名中外的黄山风景区有着无数的奇石和怪石，景色神奇，十分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96720" y="54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课前导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94_small"/>
          <p:cNvPicPr/>
          <p:nvPr/>
        </p:nvPicPr>
        <p:blipFill>
          <a:blip r:embed="rId2"/>
          <a:stretch/>
        </p:blipFill>
        <p:spPr>
          <a:xfrm>
            <a:off x="0" y="1440"/>
            <a:ext cx="9110520" cy="6813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6880" y="1557360"/>
            <a:ext cx="5410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让我们一起来欣赏几幅美丽的黄山景色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u=3639307794,899570217&amp;fm=52&amp;gp=0"/>
          <p:cNvPicPr/>
          <p:nvPr/>
        </p:nvPicPr>
        <p:blipFill>
          <a:blip r:embed="rId2"/>
          <a:stretch/>
        </p:blipFill>
        <p:spPr>
          <a:xfrm>
            <a:off x="468360" y="1773360"/>
            <a:ext cx="8229600" cy="4319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仙人指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仙桃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u=1583923691,3285251616&amp;fm=52&amp;gp=0"/>
          <p:cNvPicPr/>
          <p:nvPr/>
        </p:nvPicPr>
        <p:blipFill>
          <a:blip r:embed="rId2"/>
          <a:stretch/>
        </p:blipFill>
        <p:spPr>
          <a:xfrm>
            <a:off x="468360" y="148608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猴子观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u=1017865690,3054125514&amp;fm=52&amp;gp=0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60360" y="2062080"/>
            <a:ext cx="6407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生字和由这些字组成的词语及由熟字组成的新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看图学文，体会黄山奇石的奇妙，激发同学们对祖国大好河山的热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朗读课文，并选两段背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6200" y="620640"/>
            <a:ext cx="208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óu       qí         qū       jù       tā        ān       ku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尤        其         区      巨        它       安         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同学们，你们会读了吗？让我们跟着老师大声读出它们的拼音。再动笔写一写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316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会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iān     pán     fēng      gē      bó         d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仙         盘       峰        胳       脖           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ó            zhù          xíng              zhu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脖             著            形                    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4:58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42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