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12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34.jpeg" ContentType="image/jpeg"/>
  <Override PartName="/ppt/media/chimes.wav" ContentType="audio/x-wav"/>
  <Override PartName="/ppt/media/image1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38.jpeg" ContentType="image/jpeg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8009-5536-47AF-BD55-D9C48B1AB7D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464B-B52D-4971-9110-2D9165549E66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AACE-3E1D-49FF-A9CB-79FDC3A3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0B8-A7A4-4B1A-8712-CBD86119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F274-B826-436F-826B-3C901B06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977-22F5-4A93-8664-944FE6CE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7712-5024-4CBE-8091-B615BA94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B903-39A6-46A7-98F1-0D7B6275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446D-59C7-4340-92D3-77E18CF0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2D44-11FF-466B-BEC9-CFB0AF1A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8739-1670-464E-8BB6-6C671F7C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7EBA-9689-41A1-ABFC-F2CC74FA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E7EF-7F2D-4B77-8AAA-73E60205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BDB-9E3A-4647-81CD-28E94FC3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6B19-66E6-4BB7-8C9C-AC92CF0F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F108-6850-4F45-89B0-A73B17CA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0A79-01C7-4AE2-B33D-FEA2F0D5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0CCC-D6B6-444E-A94C-221F7E66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D679-885E-4217-8C9D-F29FBB47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5DC9-7322-4F81-8501-EEE2D2A8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0A2D-2235-468D-BCB3-04DA2742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D6E-3806-4CCE-AA69-811459F1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9DE-CBD7-42B0-A86F-B9FBA379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8A6-8AD9-458E-853E-E65B551E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D045-D246-4CED-A08B-DFFBFB32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D6D-64C5-4280-8482-43FC6EF2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9BA2-1389-4310-A8F9-50F4A8C2FE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7CE4-FDE1-4F1E-91BD-006AA7D51F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27.xml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3.png"/><Relationship Id="rId9" Type="http://schemas.openxmlformats.org/officeDocument/2006/relationships/image" Target="../media/image26.jpeg"/><Relationship Id="rId10" Type="http://schemas.openxmlformats.org/officeDocument/2006/relationships/image" Target="../media/image21.pn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539640" y="549360"/>
            <a:ext cx="77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WordArt 8" descr=""/>
          <p:cNvPicPr/>
          <p:nvPr/>
        </p:nvPicPr>
        <p:blipFill>
          <a:blip r:embed="rId2"/>
          <a:stretch/>
        </p:blipFill>
        <p:spPr>
          <a:xfrm>
            <a:off x="2052720" y="1531800"/>
            <a:ext cx="5043240" cy="1979640"/>
          </a:xfrm>
          <a:prstGeom prst="rect">
            <a:avLst/>
          </a:prstGeom>
          <a:ln w="0">
            <a:noFill/>
          </a:ln>
        </p:spPr>
      </p:pic>
      <p:sp>
        <p:nvSpPr>
          <p:cNvPr id="109" name="矩形 6"/>
          <p:cNvSpPr/>
          <p:nvPr/>
        </p:nvSpPr>
        <p:spPr>
          <a:xfrm>
            <a:off x="1525680" y="573084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４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1692360" y="476280"/>
            <a:ext cx="6480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大白狗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变成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红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了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红公鸡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变成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金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了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黑母鸡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变成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紫檀色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了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00000" y="321300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99f7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像这样三个或三个以上结构相似、语言一致、意思紧密联系的短语或句子连成一串的修辞手法，叫“排比”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lus/>
    <p:sndAc>
      <p:stSnd>
        <p:snd r:embed="rId2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539640" y="692280"/>
            <a:ext cx="770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如果你看到你周围的一切都改变了颜色，甚至连你自己也变了，会是怎样的心情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68360" y="378936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课文中人们的心情是怎样的呢？从哪个词可以看出来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,-49,-1)"/>
                                      </p:to>
                                    </p:set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,-49,-1)"/>
                                      </p:to>
                                    </p:set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４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900000" y="3213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99f7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1523880"/>
            <a:ext cx="79246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f0e616"/>
                </a:solidFill>
                <a:latin typeface="Times New Roman"/>
              </a:rPr>
              <a:t>天空的云从西边一直烧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0e616"/>
                </a:solidFill>
                <a:latin typeface="Times New Roman"/>
              </a:rPr>
              <a:t>到东边，红彤彤的，好像是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0e616"/>
                </a:solidFill>
                <a:latin typeface="Times New Roman"/>
              </a:rPr>
              <a:t>天空着了火。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048120" y="3276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e29dd"/>
                </a:solidFill>
                <a:latin typeface="Times New Roman"/>
                <a:ea typeface="隶书"/>
              </a:rPr>
              <a:t>红通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7391520" y="228600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341b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539640" y="1900080"/>
            <a:ext cx="824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用得十分精妙，具有多方面的表达功效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描绘色彩　火烧云刚出现在天空时的颜色是红的，但作者不用“红”字，而用“烧”字。这样既表现了晚霞如火焰般的红艳，又避免了与后面的“红通通”一词相重复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描摹动态　“红”只表示色彩，是静态的；“烧”表示动作，给我们一种动态的感觉。“烧”突出云色彩的变化。后文所写的火烧云的五颜六色、千姿百态，都与“烧”相关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渲染气势　“烧”得“红通通”的，天空像“着了火”。这个比喻，写出火烧云的恢宏气势。这是天地间的奇观，是大自然的杰作，也是一幅无比壮丽的图画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照应全文　用“烧”字，不仅在这一段里跟末句的“着了火”照应，而且对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火烧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个文题起了点题的作用，同时，还与后文所写火烧云色彩和形态的变化相呼应。◆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468360" y="692280"/>
            <a:ext cx="79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991f00"/>
                  </a:outerShdw>
                </a:effectLst>
                <a:latin typeface="宋体"/>
              </a:rPr>
              <a:t>烧</a:t>
            </a:r>
            <a:r>
              <a:rPr b="1" lang="en-US" sz="4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991f00"/>
                  </a:outerShdw>
                </a:effectLst>
                <a:latin typeface="宋体"/>
              </a:rPr>
              <a:t>:</a:t>
            </a:r>
            <a:endParaRPr b="1" lang="en-US" sz="4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991f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AutoShape 4">
            <a:hlinkClick r:id="rId4" action="ppaction://hlinksldjump"/>
          </p:cNvPr>
          <p:cNvSpPr/>
          <p:nvPr/>
        </p:nvSpPr>
        <p:spPr>
          <a:xfrm>
            <a:off x="8675640" y="6094440"/>
            <a:ext cx="217440" cy="287280"/>
          </a:xfrm>
          <a:custGeom>
            <a:avLst/>
            <a:gdLst>
              <a:gd name="textAreaLeft" fmla="*/ 14040 w 217440"/>
              <a:gd name="textAreaRight" fmla="*/ 203400 w 217440"/>
              <a:gd name="textAreaTop" fmla="*/ 14040 h 287280"/>
              <a:gd name="textAreaBottom" fmla="*/ 273240 h 287280"/>
            </a:gdLst>
            <a:ahLst/>
            <a:rect l="textAreaLeft" t="textAreaTop" r="textAreaRight" b="textAreaBottom"/>
            <a:pathLst>
              <a:path w="21600" h="28526">
                <a:moveTo>
                  <a:pt x="0" y="0"/>
                </a:moveTo>
                <a:lnTo>
                  <a:pt x="21600" y="0"/>
                </a:lnTo>
                <a:lnTo>
                  <a:pt x="21600" y="28526"/>
                </a:lnTo>
                <a:lnTo>
                  <a:pt x="0" y="28526"/>
                </a:lnTo>
                <a:close/>
              </a:path>
              <a:path fill="lightenLess" w="21600" h="285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526">
                <a:moveTo>
                  <a:pt x="21600" y="0"/>
                </a:moveTo>
                <a:lnTo>
                  <a:pt x="21600" y="28526"/>
                </a:lnTo>
                <a:lnTo>
                  <a:pt x="20200" y="27126"/>
                </a:lnTo>
                <a:lnTo>
                  <a:pt x="20200" y="1400"/>
                </a:lnTo>
                <a:close/>
              </a:path>
              <a:path fill="darkenLess" w="21600" h="28526">
                <a:moveTo>
                  <a:pt x="21600" y="28526"/>
                </a:moveTo>
                <a:lnTo>
                  <a:pt x="0" y="28526"/>
                </a:lnTo>
                <a:lnTo>
                  <a:pt x="1400" y="27126"/>
                </a:lnTo>
                <a:lnTo>
                  <a:pt x="20200" y="27126"/>
                </a:lnTo>
                <a:close/>
              </a:path>
              <a:path fill="lighten" w="21600" h="28526">
                <a:moveTo>
                  <a:pt x="0" y="285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126"/>
                </a:lnTo>
                <a:close/>
              </a:path>
              <a:path fill="darken" w="21600" h="28526">
                <a:moveTo>
                  <a:pt x="14299" y="14263"/>
                </a:moveTo>
                <a:lnTo>
                  <a:pt x="3794" y="21270"/>
                </a:lnTo>
                <a:lnTo>
                  <a:pt x="3794" y="7257"/>
                </a:lnTo>
                <a:close/>
              </a:path>
              <a:path fill="darken" w="21600" h="28526">
                <a:moveTo>
                  <a:pt x="16144" y="7257"/>
                </a:moveTo>
                <a:lnTo>
                  <a:pt x="16144" y="21270"/>
                </a:lnTo>
                <a:lnTo>
                  <a:pt x="17806" y="21270"/>
                </a:lnTo>
                <a:lnTo>
                  <a:pt x="17806" y="725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647640" y="229320"/>
            <a:ext cx="84963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一、快速读课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然段，思考下面的问题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 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作者从哪两方面写火烧云的变化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                       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颜色和形状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AutoShape 3">
            <a:hlinkClick r:id="rId1" action="ppaction://hlinksldjump"/>
          </p:cNvPr>
          <p:cNvSpPr/>
          <p:nvPr/>
        </p:nvSpPr>
        <p:spPr>
          <a:xfrm>
            <a:off x="8675640" y="6021360"/>
            <a:ext cx="217440" cy="287280"/>
          </a:xfrm>
          <a:custGeom>
            <a:avLst/>
            <a:gdLst>
              <a:gd name="textAreaLeft" fmla="*/ 14040 w 217440"/>
              <a:gd name="textAreaRight" fmla="*/ 203400 w 217440"/>
              <a:gd name="textAreaTop" fmla="*/ 14040 h 287280"/>
              <a:gd name="textAreaBottom" fmla="*/ 273240 h 287280"/>
            </a:gdLst>
            <a:ahLst/>
            <a:rect l="textAreaLeft" t="textAreaTop" r="textAreaRight" b="textAreaBottom"/>
            <a:pathLst>
              <a:path w="21600" h="28526">
                <a:moveTo>
                  <a:pt x="0" y="0"/>
                </a:moveTo>
                <a:lnTo>
                  <a:pt x="21600" y="0"/>
                </a:lnTo>
                <a:lnTo>
                  <a:pt x="21600" y="28526"/>
                </a:lnTo>
                <a:lnTo>
                  <a:pt x="0" y="28526"/>
                </a:lnTo>
                <a:close/>
              </a:path>
              <a:path fill="lightenLess" w="21600" h="285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526">
                <a:moveTo>
                  <a:pt x="21600" y="0"/>
                </a:moveTo>
                <a:lnTo>
                  <a:pt x="21600" y="28526"/>
                </a:lnTo>
                <a:lnTo>
                  <a:pt x="20200" y="27126"/>
                </a:lnTo>
                <a:lnTo>
                  <a:pt x="20200" y="1400"/>
                </a:lnTo>
                <a:close/>
              </a:path>
              <a:path fill="darkenLess" w="21600" h="28526">
                <a:moveTo>
                  <a:pt x="21600" y="28526"/>
                </a:moveTo>
                <a:lnTo>
                  <a:pt x="0" y="28526"/>
                </a:lnTo>
                <a:lnTo>
                  <a:pt x="1400" y="27126"/>
                </a:lnTo>
                <a:lnTo>
                  <a:pt x="20200" y="27126"/>
                </a:lnTo>
                <a:close/>
              </a:path>
              <a:path fill="lighten" w="21600" h="28526">
                <a:moveTo>
                  <a:pt x="0" y="285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126"/>
                </a:lnTo>
                <a:close/>
              </a:path>
              <a:path fill="darken" w="21600" h="28526">
                <a:moveTo>
                  <a:pt x="14299" y="14263"/>
                </a:moveTo>
                <a:lnTo>
                  <a:pt x="3794" y="21270"/>
                </a:lnTo>
                <a:lnTo>
                  <a:pt x="3794" y="7257"/>
                </a:lnTo>
                <a:close/>
              </a:path>
              <a:path fill="darken" w="21600" h="28526">
                <a:moveTo>
                  <a:pt x="16144" y="7257"/>
                </a:moveTo>
                <a:lnTo>
                  <a:pt x="16144" y="21270"/>
                </a:lnTo>
                <a:lnTo>
                  <a:pt x="17806" y="21270"/>
                </a:lnTo>
                <a:lnTo>
                  <a:pt x="17806" y="725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124000" y="1844640"/>
            <a:ext cx="5329440" cy="432000"/>
          </a:xfrm>
          <a:prstGeom prst="flowChartProcess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961880" y="3376440"/>
            <a:ext cx="76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半紫半黄、半灰半百合色，还有红彤彤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金灿灿、葡萄灰、梨黄、茄子紫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116000" y="3573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多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260360" y="2800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颜色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261440" y="450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快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3845520" y="453060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会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一会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一会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046760" y="251316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自然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93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WordArt 3"/>
          <p:cNvSpPr txBox="1"/>
          <p:nvPr/>
        </p:nvSpPr>
        <p:spPr>
          <a:xfrm>
            <a:off x="1150920" y="1268280"/>
            <a:ext cx="68421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华文中宋"/>
              </a:rPr>
              <a:t>火烧云的变化极多</a:t>
            </a:r>
            <a:endParaRPr b="1" i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华文中宋"/>
              <a:ea typeface="华文中宋"/>
            </a:endParaRPr>
          </a:p>
        </p:txBody>
      </p:sp>
    </p:spTree>
  </p:cSld>
  <p:transition spd="med">
    <p:plus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0010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6097680" y="419112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隶书"/>
              </a:rPr>
              <a:t>红彤彤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93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457200" y="15238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金灿灿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79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5638680" y="320040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半紫半黄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144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4648320" y="312408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半灰半百合色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257800" y="54864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梨黄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684360" y="765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读了课题，你想知道什么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979640" y="1916280"/>
            <a:ext cx="5113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什么叫“火烧云”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火烧云是怎么样的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火烧云是怎么形成的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14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838080" y="152388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茄子紫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118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609480" y="106668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00"/>
                </a:solidFill>
                <a:latin typeface="Times New Roman"/>
              </a:rPr>
              <a:t>葡萄灰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395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380880" y="914400"/>
            <a:ext cx="800100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0e616"/>
                </a:solidFill>
                <a:latin typeface="黑体"/>
                <a:ea typeface="黑体"/>
              </a:rPr>
              <a:t>红彤彤      金灿灿     半紫半黄   半灰半百合色         葡萄灰      茄子紫       梨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0e616"/>
                </a:solidFill>
                <a:latin typeface="黑体"/>
                <a:ea typeface="黑体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217680" y="274320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红彤彤           金灿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475080" y="3657600"/>
            <a:ext cx="346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半紫半黄        半灰半百合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305520" y="4419720"/>
            <a:ext cx="32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葡萄灰      茄子紫     梨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810000" y="274320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AB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式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015920" y="358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并列式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1015920" y="4343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比喻式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914400" y="55627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e616"/>
                </a:solidFill>
                <a:latin typeface="Times New Roman"/>
              </a:rPr>
              <a:t>像（         ）一样的（     ）色是（          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3红通通"/>
          <p:cNvPicPr/>
          <p:nvPr/>
        </p:nvPicPr>
        <p:blipFill>
          <a:blip r:embed="rId1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J0144357"/>
          <p:cNvPicPr/>
          <p:nvPr/>
        </p:nvPicPr>
        <p:blipFill>
          <a:blip r:embed="rId2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5半紫"/>
          <p:cNvPicPr/>
          <p:nvPr/>
        </p:nvPicPr>
        <p:blipFill>
          <a:blip r:embed="rId3"/>
          <a:srcRect l="2381" t="0" r="1563" b="0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6半灰"/>
          <p:cNvPicPr/>
          <p:nvPr/>
        </p:nvPicPr>
        <p:blipFill>
          <a:blip r:embed="rId4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0099"/>
          <p:cNvPicPr/>
          <p:nvPr/>
        </p:nvPicPr>
        <p:blipFill>
          <a:blip r:embed="rId5"/>
          <a:srcRect l="3144" t="1535" r="2360" b="0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J0148849-p"/>
          <p:cNvPicPr/>
          <p:nvPr/>
        </p:nvPicPr>
        <p:blipFill>
          <a:blip r:embed="rId6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8"/>
          <p:cNvGrpSpPr/>
          <p:nvPr/>
        </p:nvGrpSpPr>
        <p:grpSpPr>
          <a:xfrm>
            <a:off x="0" y="0"/>
            <a:ext cx="9144000" cy="4580640"/>
            <a:chOff x="0" y="0"/>
            <a:chExt cx="9144000" cy="4580640"/>
          </a:xfrm>
        </p:grpSpPr>
        <p:grpSp>
          <p:nvGrpSpPr>
            <p:cNvPr id="191" name="Group 9"/>
            <p:cNvGrpSpPr/>
            <p:nvPr/>
          </p:nvGrpSpPr>
          <p:grpSpPr>
            <a:xfrm>
              <a:off x="0" y="0"/>
              <a:ext cx="9144000" cy="4580640"/>
              <a:chOff x="0" y="0"/>
              <a:chExt cx="9144000" cy="4580640"/>
            </a:xfrm>
          </p:grpSpPr>
          <p:grpSp>
            <p:nvGrpSpPr>
              <p:cNvPr id="192" name="Group 10"/>
              <p:cNvGrpSpPr/>
              <p:nvPr/>
            </p:nvGrpSpPr>
            <p:grpSpPr>
              <a:xfrm>
                <a:off x="0" y="2219400"/>
                <a:ext cx="9144000" cy="2361240"/>
                <a:chOff x="0" y="2219400"/>
                <a:chExt cx="9144000" cy="2361240"/>
              </a:xfrm>
            </p:grpSpPr>
            <p:grpSp>
              <p:nvGrpSpPr>
                <p:cNvPr id="193" name="Group 11"/>
                <p:cNvGrpSpPr/>
                <p:nvPr/>
              </p:nvGrpSpPr>
              <p:grpSpPr>
                <a:xfrm>
                  <a:off x="0" y="2219400"/>
                  <a:ext cx="6372360" cy="2361240"/>
                  <a:chOff x="0" y="2219400"/>
                  <a:chExt cx="6372360" cy="2361240"/>
                </a:xfrm>
              </p:grpSpPr>
              <p:pic>
                <p:nvPicPr>
                  <p:cNvPr id="194" name="Picture 12" descr="6半灰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2219400"/>
                    <a:ext cx="3132000" cy="23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95" name="Picture 13" descr="0099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2337480"/>
                    <a:ext cx="324036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96" name="Picture 14" descr="J0148849-p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300720" y="2337480"/>
                  <a:ext cx="2843280" cy="224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7" name="Picture 15" descr="5半紫"/>
              <p:cNvPicPr/>
              <p:nvPr/>
            </p:nvPicPr>
            <p:blipFill>
              <a:blip r:embed="rId10"/>
              <a:stretch/>
            </p:blipFill>
            <p:spPr>
              <a:xfrm>
                <a:off x="6300720" y="0"/>
                <a:ext cx="2843280" cy="2337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8" name="Group 16"/>
            <p:cNvGrpSpPr/>
            <p:nvPr/>
          </p:nvGrpSpPr>
          <p:grpSpPr>
            <a:xfrm>
              <a:off x="0" y="0"/>
              <a:ext cx="6335640" cy="2456640"/>
              <a:chOff x="0" y="0"/>
              <a:chExt cx="6335640" cy="2456640"/>
            </a:xfrm>
          </p:grpSpPr>
          <p:pic>
            <p:nvPicPr>
              <p:cNvPr id="199" name="Picture 17" descr="J0144357"/>
              <p:cNvPicPr/>
              <p:nvPr/>
            </p:nvPicPr>
            <p:blipFill>
              <a:blip r:embed="rId11"/>
              <a:stretch/>
            </p:blipFill>
            <p:spPr>
              <a:xfrm>
                <a:off x="3203640" y="0"/>
                <a:ext cx="3132000" cy="245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Picture 18" descr="3红通通"/>
              <p:cNvPicPr/>
              <p:nvPr/>
            </p:nvPicPr>
            <p:blipFill>
              <a:blip r:embed="rId12"/>
              <a:stretch/>
            </p:blipFill>
            <p:spPr>
              <a:xfrm>
                <a:off x="0" y="0"/>
                <a:ext cx="3203640" cy="2456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1" name="Text Box 19"/>
          <p:cNvSpPr/>
          <p:nvPr/>
        </p:nvSpPr>
        <p:spPr>
          <a:xfrm>
            <a:off x="900000" y="5229360"/>
            <a:ext cx="718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0" y="465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这 地方的火烧云变化极多，一会儿红彤彤的，一会儿金灿灿的，一会儿半紫半黄， 一会儿半灰半百合色。葡萄灰，梨黄，茄子紫，这些颜色天空都有，还有些说也说不出来、见也没见过的颜色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324000" y="40464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结合生活实际说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葡萄灰、梨黄、茄子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些颜色是什么样的？这样写有什么好处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68360" y="2349360"/>
            <a:ext cx="7775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葡萄灰：像（葡萄）一样的灰色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梨黄：像（梨）一样的黄色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茄子紫：像（茄子）一样的紫色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468360" y="50846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468360" y="5084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好处：生动形象、引起人们的联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179280" y="1125360"/>
            <a:ext cx="87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谁能用一个词来概括火烧云颜色的多呢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324000" y="3213000"/>
            <a:ext cx="73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395280" y="3573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五颜六色、五光十色、绚丽多彩、、、、、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647640" y="229320"/>
            <a:ext cx="84963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一、快速读课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然段，思考下面的问题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       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火烧云形状变化有什么特点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                       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多和快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AutoShape 3">
            <a:hlinkClick r:id="rId1" action="ppaction://hlinksldjump"/>
          </p:cNvPr>
          <p:cNvSpPr/>
          <p:nvPr/>
        </p:nvSpPr>
        <p:spPr>
          <a:xfrm>
            <a:off x="8675640" y="6021360"/>
            <a:ext cx="217440" cy="287280"/>
          </a:xfrm>
          <a:custGeom>
            <a:avLst/>
            <a:gdLst>
              <a:gd name="textAreaLeft" fmla="*/ 14040 w 217440"/>
              <a:gd name="textAreaRight" fmla="*/ 203400 w 217440"/>
              <a:gd name="textAreaTop" fmla="*/ 14040 h 287280"/>
              <a:gd name="textAreaBottom" fmla="*/ 273240 h 287280"/>
            </a:gdLst>
            <a:ahLst/>
            <a:rect l="textAreaLeft" t="textAreaTop" r="textAreaRight" b="textAreaBottom"/>
            <a:pathLst>
              <a:path w="21600" h="28526">
                <a:moveTo>
                  <a:pt x="0" y="0"/>
                </a:moveTo>
                <a:lnTo>
                  <a:pt x="21600" y="0"/>
                </a:lnTo>
                <a:lnTo>
                  <a:pt x="21600" y="28526"/>
                </a:lnTo>
                <a:lnTo>
                  <a:pt x="0" y="28526"/>
                </a:lnTo>
                <a:close/>
              </a:path>
              <a:path fill="lightenLess" w="21600" h="285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526">
                <a:moveTo>
                  <a:pt x="21600" y="0"/>
                </a:moveTo>
                <a:lnTo>
                  <a:pt x="21600" y="28526"/>
                </a:lnTo>
                <a:lnTo>
                  <a:pt x="20200" y="27126"/>
                </a:lnTo>
                <a:lnTo>
                  <a:pt x="20200" y="1400"/>
                </a:lnTo>
                <a:close/>
              </a:path>
              <a:path fill="darkenLess" w="21600" h="28526">
                <a:moveTo>
                  <a:pt x="21600" y="28526"/>
                </a:moveTo>
                <a:lnTo>
                  <a:pt x="0" y="28526"/>
                </a:lnTo>
                <a:lnTo>
                  <a:pt x="1400" y="27126"/>
                </a:lnTo>
                <a:lnTo>
                  <a:pt x="20200" y="27126"/>
                </a:lnTo>
                <a:close/>
              </a:path>
              <a:path fill="lighten" w="21600" h="28526">
                <a:moveTo>
                  <a:pt x="0" y="285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126"/>
                </a:lnTo>
                <a:close/>
              </a:path>
              <a:path fill="darken" w="21600" h="28526">
                <a:moveTo>
                  <a:pt x="14299" y="14263"/>
                </a:moveTo>
                <a:lnTo>
                  <a:pt x="3794" y="21270"/>
                </a:lnTo>
                <a:lnTo>
                  <a:pt x="3794" y="7257"/>
                </a:lnTo>
                <a:close/>
              </a:path>
              <a:path fill="darken" w="21600" h="28526">
                <a:moveTo>
                  <a:pt x="16144" y="7257"/>
                </a:moveTo>
                <a:lnTo>
                  <a:pt x="16144" y="21270"/>
                </a:lnTo>
                <a:lnTo>
                  <a:pt x="17806" y="21270"/>
                </a:lnTo>
                <a:lnTo>
                  <a:pt x="17806" y="725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2124000" y="1844640"/>
            <a:ext cx="5329440" cy="432000"/>
          </a:xfrm>
          <a:prstGeom prst="flowChartProcess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462840" y="299736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马、大狗、大狮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187280" y="29973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</a:rPr>
              <a:t>多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351440" y="4260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</a:rPr>
              <a:t>快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3329280" y="4221000"/>
            <a:ext cx="359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会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过了两三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忽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一转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接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6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0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66"/>
          <p:cNvPicPr/>
          <p:nvPr/>
        </p:nvPicPr>
        <p:blipFill>
          <a:blip r:embed="rId2"/>
          <a:stretch/>
        </p:blipFill>
        <p:spPr>
          <a:xfrm>
            <a:off x="0" y="0"/>
            <a:ext cx="428616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55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8"/>
          <p:cNvSpPr/>
          <p:nvPr/>
        </p:nvSpPr>
        <p:spPr>
          <a:xfrm>
            <a:off x="4356000" y="260280"/>
            <a:ext cx="4788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会儿，天空出现一匹马，马头向南，马尾向西。马是跪着的，像等人骑上它的背，它才站起来似的。过了两三秒钟，那匹马大起来了，腿伸开了，脖子也长了，尾巴可不见了。看的人正在寻找马尾巴，那匹马变模糊了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忽然又来了一条大狗。那狗十分凶猛，在向前跑，后边似乎还跟着好几条小狗。跑着跑着，小狗不知哪里去了，大狗也不见了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接着又来了一头大狮子，跟庙门前的石头狮子一模一样，也那么大，也那样蹲着，很威武很镇静地蹲着。可是一转眼就变了，再也找不着了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684360" y="90792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火烧云得形状变化有什么特点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什么样子？怎么变化的？从哪里可以看出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971640" y="2733840"/>
            <a:ext cx="712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变化快（一会儿、突然两三秒、、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变化多（马、狮子、狗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539640" y="443700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4000" y="2707920"/>
            <a:ext cx="633708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马是跪着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AutoShape 3">
            <a:hlinkClick r:id="rId1" action="ppaction://hlinksldjump"/>
          </p:cNvPr>
          <p:cNvSpPr/>
          <p:nvPr/>
        </p:nvSpPr>
        <p:spPr>
          <a:xfrm>
            <a:off x="8675640" y="6021360"/>
            <a:ext cx="217440" cy="287280"/>
          </a:xfrm>
          <a:custGeom>
            <a:avLst/>
            <a:gdLst>
              <a:gd name="textAreaLeft" fmla="*/ 14040 w 217440"/>
              <a:gd name="textAreaRight" fmla="*/ 203400 w 217440"/>
              <a:gd name="textAreaTop" fmla="*/ 14040 h 287280"/>
              <a:gd name="textAreaBottom" fmla="*/ 273240 h 287280"/>
            </a:gdLst>
            <a:ahLst/>
            <a:rect l="textAreaLeft" t="textAreaTop" r="textAreaRight" b="textAreaBottom"/>
            <a:pathLst>
              <a:path w="21600" h="28526">
                <a:moveTo>
                  <a:pt x="0" y="0"/>
                </a:moveTo>
                <a:lnTo>
                  <a:pt x="21600" y="0"/>
                </a:lnTo>
                <a:lnTo>
                  <a:pt x="21600" y="28526"/>
                </a:lnTo>
                <a:lnTo>
                  <a:pt x="0" y="28526"/>
                </a:lnTo>
                <a:close/>
              </a:path>
              <a:path fill="lightenLess" w="21600" h="285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526">
                <a:moveTo>
                  <a:pt x="21600" y="0"/>
                </a:moveTo>
                <a:lnTo>
                  <a:pt x="21600" y="28526"/>
                </a:lnTo>
                <a:lnTo>
                  <a:pt x="20200" y="27126"/>
                </a:lnTo>
                <a:lnTo>
                  <a:pt x="20200" y="1400"/>
                </a:lnTo>
                <a:close/>
              </a:path>
              <a:path fill="darkenLess" w="21600" h="28526">
                <a:moveTo>
                  <a:pt x="21600" y="28526"/>
                </a:moveTo>
                <a:lnTo>
                  <a:pt x="0" y="28526"/>
                </a:lnTo>
                <a:lnTo>
                  <a:pt x="1400" y="27126"/>
                </a:lnTo>
                <a:lnTo>
                  <a:pt x="20200" y="27126"/>
                </a:lnTo>
                <a:close/>
              </a:path>
              <a:path fill="lighten" w="21600" h="28526">
                <a:moveTo>
                  <a:pt x="0" y="285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126"/>
                </a:lnTo>
                <a:close/>
              </a:path>
              <a:path fill="darken" w="21600" h="28526">
                <a:moveTo>
                  <a:pt x="14299" y="14263"/>
                </a:moveTo>
                <a:lnTo>
                  <a:pt x="3794" y="21270"/>
                </a:lnTo>
                <a:lnTo>
                  <a:pt x="3794" y="7257"/>
                </a:lnTo>
                <a:close/>
              </a:path>
              <a:path fill="darken" w="21600" h="28526">
                <a:moveTo>
                  <a:pt x="16144" y="7257"/>
                </a:moveTo>
                <a:lnTo>
                  <a:pt x="16144" y="21270"/>
                </a:lnTo>
                <a:lnTo>
                  <a:pt x="17806" y="21270"/>
                </a:lnTo>
                <a:lnTo>
                  <a:pt x="17806" y="725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2072160" y="9079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比较下列两个句子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2113920" y="3789360"/>
            <a:ext cx="497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马是跪着的，像等人骑上它的背，它才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来似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1" descr="图片1"/>
          <p:cNvPicPr/>
          <p:nvPr/>
        </p:nvPicPr>
        <p:blipFill>
          <a:blip r:embed="rId1"/>
          <a:stretch/>
        </p:blipFill>
        <p:spPr>
          <a:xfrm>
            <a:off x="0" y="3573360"/>
            <a:ext cx="2521080" cy="32846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116000" y="836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生字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556000" y="1268280"/>
            <a:ext cx="5976720" cy="38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x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zǐ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hòu    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  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霞   紫     寿      葡    萄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ié   guì   miǎo  huǎng    h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茄   跪    秒      恍       惚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图片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539640" y="14842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黑体"/>
              </a:rPr>
              <a:t>马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124000" y="14842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黑体"/>
              </a:rPr>
              <a:t>大狗、小狗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5796000" y="155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黑体"/>
              </a:rPr>
              <a:t>大狮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250920" y="357336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黑体"/>
              </a:rPr>
              <a:t>模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2700360" y="35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黑体"/>
              </a:rPr>
              <a:t>不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5867280" y="3573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黑体"/>
              </a:rPr>
              <a:t>找不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826920" y="2349360"/>
            <a:ext cx="144720" cy="1224000"/>
          </a:xfrm>
          <a:prstGeom prst="downArrow">
            <a:avLst>
              <a:gd name="adj1" fmla="val 50000"/>
              <a:gd name="adj2" fmla="val 21144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3276720" y="2349360"/>
            <a:ext cx="144360" cy="1224000"/>
          </a:xfrm>
          <a:prstGeom prst="downArrow">
            <a:avLst>
              <a:gd name="adj1" fmla="val 50000"/>
              <a:gd name="adj2" fmla="val 21193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6588000" y="2276640"/>
            <a:ext cx="144720" cy="1223640"/>
          </a:xfrm>
          <a:prstGeom prst="downArrow">
            <a:avLst>
              <a:gd name="adj1" fmla="val 50000"/>
              <a:gd name="adj2" fmla="val 21134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2050920" y="4797360"/>
            <a:ext cx="58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ff33"/>
                </a:solidFill>
                <a:latin typeface="Arial"/>
                <a:ea typeface="黑体"/>
              </a:rPr>
              <a:t>千姿百态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68436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ahoma"/>
              </a:rPr>
              <a:t>想象：天空中还可能出现什么？什么样子的？怎样变化的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347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3"/>
          <p:cNvGrpSpPr/>
          <p:nvPr/>
        </p:nvGrpSpPr>
        <p:grpSpPr>
          <a:xfrm>
            <a:off x="380880" y="914400"/>
            <a:ext cx="8763120" cy="3423240"/>
            <a:chOff x="380880" y="914400"/>
            <a:chExt cx="8763120" cy="3423240"/>
          </a:xfrm>
        </p:grpSpPr>
        <p:sp>
          <p:nvSpPr>
            <p:cNvPr id="245" name="Text Box 4"/>
            <p:cNvSpPr/>
            <p:nvPr/>
          </p:nvSpPr>
          <p:spPr>
            <a:xfrm>
              <a:off x="380880" y="914400"/>
              <a:ext cx="8763120" cy="342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华文行楷"/>
                </a:rPr>
                <a:t>说一说、写一写：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zh-CN" sz="2800" spc="-1" strike="noStrike">
                  <a:solidFill>
                    <a:srgbClr val="ffcc00"/>
                  </a:solidFill>
                  <a:latin typeface="Times New Roman"/>
                </a:rPr>
                <a:t>火烧云的形状</a:t>
              </a:r>
              <a:r>
                <a:rPr b="1" lang="zh-CN" sz="2800" spc="-1" strike="noStrike">
                  <a:solidFill>
                    <a:srgbClr val="f0e616"/>
                  </a:solidFill>
                  <a:latin typeface="Times New Roman"/>
                </a:rPr>
                <a:t>变化极多， 一会儿                   ，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0e616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f0e616"/>
                  </a:solidFill>
                  <a:latin typeface="Times New Roman"/>
                </a:rPr>
                <a:t>一会儿                       ，一会儿                           ，一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0e616"/>
                  </a:solidFill>
                  <a:latin typeface="Times New Roman"/>
                </a:rPr>
                <a:t>   </a:t>
              </a:r>
              <a:r>
                <a:rPr b="1" lang="zh-CN" sz="2800" spc="-1" strike="noStrike">
                  <a:solidFill>
                    <a:srgbClr val="f0e616"/>
                  </a:solidFill>
                  <a:latin typeface="Times New Roman"/>
                </a:rPr>
                <a:t>会 儿                             。                                       。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Line 5"/>
            <p:cNvSpPr/>
            <p:nvPr/>
          </p:nvSpPr>
          <p:spPr>
            <a:xfrm>
              <a:off x="1295280" y="2819520"/>
              <a:ext cx="1524240" cy="0"/>
            </a:xfrm>
            <a:prstGeom prst="line">
              <a:avLst/>
            </a:prstGeom>
            <a:ln w="28440">
              <a:solidFill>
                <a:srgbClr val="f0e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Line 6"/>
            <p:cNvSpPr/>
            <p:nvPr/>
          </p:nvSpPr>
          <p:spPr>
            <a:xfrm>
              <a:off x="6400800" y="2895480"/>
              <a:ext cx="1219320" cy="0"/>
            </a:xfrm>
            <a:prstGeom prst="line">
              <a:avLst/>
            </a:prstGeom>
            <a:ln w="28440">
              <a:solidFill>
                <a:srgbClr val="f0e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Line 7"/>
            <p:cNvSpPr/>
            <p:nvPr/>
          </p:nvSpPr>
          <p:spPr>
            <a:xfrm>
              <a:off x="2209680" y="3581280"/>
              <a:ext cx="1371600" cy="0"/>
            </a:xfrm>
            <a:prstGeom prst="line">
              <a:avLst/>
            </a:prstGeom>
            <a:ln w="28440">
              <a:solidFill>
                <a:srgbClr val="f0e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Line 8"/>
            <p:cNvSpPr/>
            <p:nvPr/>
          </p:nvSpPr>
          <p:spPr>
            <a:xfrm>
              <a:off x="5638680" y="3505320"/>
              <a:ext cx="1828800" cy="0"/>
            </a:xfrm>
            <a:prstGeom prst="line">
              <a:avLst/>
            </a:prstGeom>
            <a:ln w="28440">
              <a:solidFill>
                <a:srgbClr val="f0e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Line 9"/>
            <p:cNvSpPr/>
            <p:nvPr/>
          </p:nvSpPr>
          <p:spPr>
            <a:xfrm>
              <a:off x="2057400" y="4191120"/>
              <a:ext cx="1828800" cy="0"/>
            </a:xfrm>
            <a:prstGeom prst="line">
              <a:avLst/>
            </a:prstGeom>
            <a:ln w="28440">
              <a:solidFill>
                <a:srgbClr val="f0e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Line 10"/>
            <p:cNvSpPr/>
            <p:nvPr/>
          </p:nvSpPr>
          <p:spPr>
            <a:xfrm>
              <a:off x="4952880" y="4191120"/>
              <a:ext cx="2667240" cy="0"/>
            </a:xfrm>
            <a:prstGeom prst="line">
              <a:avLst/>
            </a:prstGeom>
            <a:ln w="28440">
              <a:solidFill>
                <a:srgbClr val="f0e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5"/>
          <p:cNvSpPr/>
          <p:nvPr/>
        </p:nvSpPr>
        <p:spPr>
          <a:xfrm>
            <a:off x="900000" y="981000"/>
            <a:ext cx="756144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ahoma"/>
              </a:rPr>
              <a:t>作者描写火烧云，主要抓住了火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ahoma"/>
              </a:rPr>
              <a:t>烧云的（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              </a:t>
            </a:r>
            <a:r>
              <a:rPr b="1" lang="zh-CN" sz="4000" spc="-1" strike="noStrike">
                <a:solidFill>
                  <a:srgbClr val="6600cc"/>
                </a:solidFill>
                <a:latin typeface="Tahoma"/>
              </a:rPr>
              <a:t>）和（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ahoma"/>
              </a:rPr>
              <a:t>）的特点来进行描写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916360" y="2205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颜色、形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6588000" y="2276640"/>
            <a:ext cx="18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变化极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e4a8"/>
                                      </p:to>
                                    </p:animClr>
                                    <p:set>
                                      <p:cBhvr>
                                        <p:cTn id="50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50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539640" y="69228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一 时 恍 恍 惚 惚的，天 空 里 又 像 这个，又 像 那 个，其 实 什 么 也 不 像，什么 也 看 不 清 了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971640" y="4365720"/>
            <a:ext cx="69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恍恍惚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是什么意思？为什么天空会恍恍惚惚的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这时孩子们的心情是怎样的呢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火烧云可以预测天气，民间流传的谚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早烧不出门，晚烧行千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就是说，火烧云或火烧天如果出现在早晨，天气可能会变坏；出现在傍晚，第二天准是个好天气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WordArt 3"/>
          <p:cNvSpPr txBox="1"/>
          <p:nvPr/>
        </p:nvSpPr>
        <p:spPr>
          <a:xfrm>
            <a:off x="684360" y="404640"/>
            <a:ext cx="309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</a:rPr>
              <a:t>火烧云的农谚：</a:t>
            </a:r>
            <a:endParaRPr b="1" lang="en-US" sz="2000" spc="1" strike="noStrike">
              <a:ln w="9360">
                <a:solidFill>
                  <a:srgbClr val="0000ff"/>
                </a:solidFill>
                <a:round/>
              </a:ln>
              <a:solidFill>
                <a:srgbClr val="0000ff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1" name="AutoShape 4">
            <a:hlinkClick r:id="rId1" action="ppaction://hlinksldjump"/>
          </p:cNvPr>
          <p:cNvSpPr/>
          <p:nvPr/>
        </p:nvSpPr>
        <p:spPr>
          <a:xfrm>
            <a:off x="8675640" y="6021360"/>
            <a:ext cx="217440" cy="287280"/>
          </a:xfrm>
          <a:custGeom>
            <a:avLst/>
            <a:gdLst>
              <a:gd name="textAreaLeft" fmla="*/ 14040 w 217440"/>
              <a:gd name="textAreaRight" fmla="*/ 203400 w 217440"/>
              <a:gd name="textAreaTop" fmla="*/ 14040 h 287280"/>
              <a:gd name="textAreaBottom" fmla="*/ 273240 h 287280"/>
            </a:gdLst>
            <a:ahLst/>
            <a:rect l="textAreaLeft" t="textAreaTop" r="textAreaRight" b="textAreaBottom"/>
            <a:pathLst>
              <a:path w="21600" h="28526">
                <a:moveTo>
                  <a:pt x="0" y="0"/>
                </a:moveTo>
                <a:lnTo>
                  <a:pt x="21600" y="0"/>
                </a:lnTo>
                <a:lnTo>
                  <a:pt x="21600" y="28526"/>
                </a:lnTo>
                <a:lnTo>
                  <a:pt x="0" y="28526"/>
                </a:lnTo>
                <a:close/>
              </a:path>
              <a:path fill="lightenLess" w="21600" h="285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526">
                <a:moveTo>
                  <a:pt x="21600" y="0"/>
                </a:moveTo>
                <a:lnTo>
                  <a:pt x="21600" y="28526"/>
                </a:lnTo>
                <a:lnTo>
                  <a:pt x="20200" y="27126"/>
                </a:lnTo>
                <a:lnTo>
                  <a:pt x="20200" y="1400"/>
                </a:lnTo>
                <a:close/>
              </a:path>
              <a:path fill="darkenLess" w="21600" h="28526">
                <a:moveTo>
                  <a:pt x="21600" y="28526"/>
                </a:moveTo>
                <a:lnTo>
                  <a:pt x="0" y="28526"/>
                </a:lnTo>
                <a:lnTo>
                  <a:pt x="1400" y="27126"/>
                </a:lnTo>
                <a:lnTo>
                  <a:pt x="20200" y="27126"/>
                </a:lnTo>
                <a:close/>
              </a:path>
              <a:path fill="lighten" w="21600" h="28526">
                <a:moveTo>
                  <a:pt x="0" y="285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126"/>
                </a:lnTo>
                <a:close/>
              </a:path>
              <a:path fill="darken" w="21600" h="28526">
                <a:moveTo>
                  <a:pt x="14299" y="14263"/>
                </a:moveTo>
                <a:lnTo>
                  <a:pt x="3794" y="21270"/>
                </a:lnTo>
                <a:lnTo>
                  <a:pt x="3794" y="7257"/>
                </a:lnTo>
                <a:close/>
              </a:path>
              <a:path fill="darken" w="21600" h="28526">
                <a:moveTo>
                  <a:pt x="16144" y="7257"/>
                </a:moveTo>
                <a:lnTo>
                  <a:pt x="16144" y="21270"/>
                </a:lnTo>
                <a:lnTo>
                  <a:pt x="17806" y="21270"/>
                </a:lnTo>
                <a:lnTo>
                  <a:pt x="17806" y="725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图片28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"/>
          <p:cNvSpPr/>
          <p:nvPr/>
        </p:nvSpPr>
        <p:spPr>
          <a:xfrm>
            <a:off x="723960" y="105732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为什么会有火烧云这种自然现象呢？原来，在红、橙、黄、绿、青、蓝、紫这七种颜色的太阳光中，红光穿过空气层的本领最大，橙、黄、绿光次之，青、蓝、紫光最差。在日出、日落时，到达地面的光要通过很厚的空气层，如果空气中含有大量的微小尘埃或雾状水滴，旭日东升和夕阳西下的颜色就会呈现橘红色，使飘浮在大气里的云也染上了红色。因此，朝霞和晚霞的玫瑰色和红色的色彩，都是由于红、橙色的光容易通过含有微粒的大气的缘故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WordArt 4"/>
          <p:cNvSpPr txBox="1"/>
          <p:nvPr/>
        </p:nvSpPr>
        <p:spPr>
          <a:xfrm>
            <a:off x="7164360" y="0"/>
            <a:ext cx="14000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资料袋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u=4277606182,3645008929&amp;fm=3&amp;gp=1"/>
          <p:cNvPicPr/>
          <p:nvPr/>
        </p:nvPicPr>
        <p:blipFill>
          <a:blip r:embed="rId1"/>
          <a:stretch/>
        </p:blipFill>
        <p:spPr>
          <a:xfrm>
            <a:off x="95400" y="260280"/>
            <a:ext cx="2825640" cy="367344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3059280" y="69228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</a:rPr>
              <a:t>作业</a:t>
            </a:r>
            <a:r>
              <a:rPr b="1" lang="en-US" sz="60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2843280" y="2997360"/>
            <a:ext cx="53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观察中秋节月亮的变化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写写自己的感受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8876-0640-4EAF-8323-C21470E911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图片1"/>
          <p:cNvPicPr/>
          <p:nvPr/>
        </p:nvPicPr>
        <p:blipFill>
          <a:blip r:embed="rId1"/>
          <a:stretch/>
        </p:blipFill>
        <p:spPr>
          <a:xfrm>
            <a:off x="0" y="3424320"/>
            <a:ext cx="3108240" cy="3429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1554120" y="69228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组词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187280" y="1844640"/>
            <a:ext cx="748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霞光   紫色   高寿    葡萄    茄子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跪着   秒表   恍恍惚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6"/>
          <p:cNvSpPr/>
          <p:nvPr/>
        </p:nvSpPr>
        <p:spPr>
          <a:xfrm>
            <a:off x="4205160" y="2924280"/>
            <a:ext cx="73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2" descr="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324000" y="1219320"/>
            <a:ext cx="8820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火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烧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云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猪     笑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盈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高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寿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红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彤彤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百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合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茄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子紫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跪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着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模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凶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猛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镇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静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眼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庙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门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蹲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着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镇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静       必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紫</a:t>
            </a:r>
            <a:r>
              <a:rPr b="1" lang="zh-CN" sz="4400" spc="-1" strike="noStrike">
                <a:solidFill>
                  <a:srgbClr val="d60093"/>
                </a:solidFill>
                <a:latin typeface="Times New Roman"/>
              </a:rPr>
              <a:t>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色       </a:t>
            </a:r>
            <a:r>
              <a:rPr b="1" lang="zh-CN" sz="4400" spc="-1" strike="noStrike">
                <a:solidFill>
                  <a:srgbClr val="d60093"/>
                </a:solidFill>
                <a:latin typeface="Times New Roman"/>
              </a:rPr>
              <a:t>恍恍惚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lus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347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238400" y="2943360"/>
            <a:ext cx="6940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 </a:t>
            </a: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这篇课文按照火烧云从上来到下去的顺序可以把课文分为几部分</a:t>
            </a:r>
            <a:r>
              <a:rPr b="1" lang="en-US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?</a:t>
            </a: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怎样分</a:t>
            </a:r>
            <a:r>
              <a:rPr b="1" lang="en-US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?</a:t>
            </a: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每部分讲了什么</a:t>
            </a:r>
            <a:r>
              <a:rPr b="1" lang="en-US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876240" y="603360"/>
            <a:ext cx="5329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小组合作学习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: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33cc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plus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3193920" cy="36450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4"/>
          <p:cNvSpPr/>
          <p:nvPr/>
        </p:nvSpPr>
        <p:spPr>
          <a:xfrm>
            <a:off x="2050920" y="335772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1c1c1c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5364000" y="33577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1c1c1c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50920" y="2997360"/>
            <a:ext cx="26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ahoma"/>
              </a:rPr>
              <a:t>上来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348000" y="299736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ahoma"/>
              </a:rPr>
              <a:t>变化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588000" y="299736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ahoma"/>
              </a:rPr>
              <a:t>下去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文本框 1"/>
          <p:cNvSpPr/>
          <p:nvPr/>
        </p:nvSpPr>
        <p:spPr>
          <a:xfrm>
            <a:off x="1327320" y="5473800"/>
            <a:ext cx="54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4211640" y="260280"/>
            <a:ext cx="4932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晚饭过后，火烧云上来了。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霞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照得小孩子的脸红红的。大白狗变成红的了。红公鸡变成金的了。黑母鸡变成紫檀色的了。喂猪的老爷爷在墙根靠着，笑盈盈地看着他的两头小白猪变成小金猪了。他刚想说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你们也变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旁边走来个乘凉的人对他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您老人家必要高寿，您老是金胡子了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356000" y="486900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课文写的火烧云发生在什么时候？画出有关的句子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天上的霞光使地面发生了什么变化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9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1258920" y="1012680"/>
            <a:ext cx="705636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大白狗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变成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红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了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红公鸡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变成</a:t>
            </a:r>
            <a:r>
              <a:rPr b="1" lang="zh-CN" sz="4400" spc="-1" strike="noStrike">
                <a:solidFill>
                  <a:srgbClr val="ffcc00"/>
                </a:solidFill>
                <a:latin typeface="华文中宋"/>
                <a:ea typeface="华文中宋"/>
              </a:rPr>
              <a:t>金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了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黑母鸡变成</a:t>
            </a:r>
            <a:r>
              <a:rPr b="1" lang="zh-CN" sz="4400" spc="-1" strike="noStrike">
                <a:solidFill>
                  <a:srgbClr val="660066"/>
                </a:solidFill>
                <a:latin typeface="华文中宋"/>
                <a:ea typeface="华文中宋"/>
              </a:rPr>
              <a:t>紫檀色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了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小白猪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变成</a:t>
            </a:r>
            <a:r>
              <a:rPr b="1" lang="zh-CN" sz="4400" spc="-1" strike="noStrike">
                <a:solidFill>
                  <a:srgbClr val="ffcc00"/>
                </a:solidFill>
                <a:latin typeface="华文中宋"/>
                <a:ea typeface="华文中宋"/>
              </a:rPr>
              <a:t>金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了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白胡子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变成</a:t>
            </a:r>
            <a:r>
              <a:rPr b="1" lang="zh-CN" sz="4400" spc="-1" strike="noStrike">
                <a:solidFill>
                  <a:srgbClr val="ffcc00"/>
                </a:solidFill>
                <a:latin typeface="华文中宋"/>
                <a:ea typeface="华文中宋"/>
              </a:rPr>
              <a:t>金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了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1:45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1:29Z</dcterms:modified>
  <cp:revision>4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