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explode.wav" ContentType="audio/x-wav"/>
  <Override PartName="/ppt/media/image2.jpeg" ContentType="image/jpeg"/>
  <Override PartName="/ppt/media/image23.jpeg" ContentType="image/jpeg"/>
  <Override PartName="/ppt/media/image20.gif" ContentType="image/gif"/>
  <Override PartName="/ppt/media/image13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chimes.wav" ContentType="audio/x-wav"/>
  <Override PartName="/ppt/media/image21.jpeg" ContentType="image/jpeg"/>
  <Override PartName="/ppt/media/image6.jpeg" ContentType="image/jpeg"/>
  <Override PartName="/ppt/media/type.wav" ContentType="audio/x-wav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0A31-5AF5-4382-AA59-CFA3FC45B2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DEC7-EDDB-42FA-A7F1-AE925E278B1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FE2-C64C-4160-8AD3-E75B28BC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D8B-40B3-4F44-B2AA-6F0AEDC6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3A2-D35A-466D-B264-228717E2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759-DE3C-4721-9DE1-3D4ED109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E077-28FF-47D7-9C33-4813D0BC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641E-33DE-48EF-826F-4CED337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3154-675F-4084-ABA9-D3AC3DD5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2D9-9262-42A6-AAF6-AF83E3E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071-5A0F-4409-91D5-7BDD8B1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18C0-FC8A-45C2-ADA8-1023BA35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6159-3489-4750-8F1D-0B79AC2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6B2-DB35-4A0B-9887-361D0C6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9FD-7B93-4DCE-81D5-98C8AF5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60B-753D-4952-995B-E2CCC153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1D9-B086-4708-836A-59F5D717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CE2E-39AA-4050-B92F-AEF842D7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A2D-E533-4FC9-A7D7-2C023666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3E48-8FE5-43C3-ABE1-DDC44BAC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019C5-7653-4EB8-A8E8-A7130C7D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1CB7-1E8F-4D86-AFC2-525E05E2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CD24-CCE3-4AF9-B4D9-B519967F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5AD5-BCCF-4BF0-A920-7F1DFCFB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9F8-FACF-43F5-B1E6-718AAFE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9D91-7CCB-4A12-A3A4-95ECD818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554D-B2DF-4DB4-A5C6-A77D1004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355F-0AC8-4071-8CA0-7C2D4B2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01C2-14AE-4929-BA0E-DC555D7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538B-8D17-4791-925A-470A259A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D8A7-4BFB-499A-9E51-FCAC89EB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51EE-C9C8-491A-92ED-21C296A2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9637-0B71-4AD4-B105-1CEB85B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1EBF-9FB4-4CB2-B745-5663826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6BA0-EAF1-492B-A83E-486D7C6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066-C5A5-41AF-A9CC-A2DDE17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04D2-504A-415C-8B63-829923BC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0D64-3DF4-4F9F-884F-45249778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D724-3D03-4649-BF7B-7F66FF7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E838-F460-4F7E-9304-C2C03F58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BB1B-BB75-472E-8A06-8A5A4CB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1D5F-521C-40AD-AD91-78594F2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BCACC-9F71-4661-ADEE-BBFC25D4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9BC3-23A6-4EDA-96B5-C19B978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3E33-834F-45C9-B3E8-3723AAAF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435-4A02-4410-9634-4AB9A264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8C9-052E-4B60-81A6-36209FED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905-03A4-45F2-B788-713575A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F96-E196-40A4-8E85-4EBA427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FFC-D43D-4145-A4AA-804ECB6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6E6D-D56C-4898-BD31-A2D077A02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1DC-85B4-4CE9-90A5-157E60E7A0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0C5-5ADE-4B30-A855-06FF5FC4AEA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88440" indent="76251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777240" indent="7586316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165680" indent="7547436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1554480" indent="7508592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1554480" indent="7508592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1554480" indent="7508592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88440" indent="76251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777240" indent="7586316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165680" indent="7547436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1554480" indent="7508592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1554480" indent="7508592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1554480" indent="7508592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5B1E-81A1-4C95-99A6-3A576BC8AF3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3"/>
          <p:cNvSpPr txBox="1"/>
          <p:nvPr/>
        </p:nvSpPr>
        <p:spPr>
          <a:xfrm>
            <a:off x="3035160" y="1844640"/>
            <a:ext cx="4391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火烧云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72" name="矩形 4" descr=""/>
          <p:cNvPicPr/>
          <p:nvPr/>
        </p:nvPicPr>
        <p:blipFill>
          <a:blip r:embed="rId1"/>
          <a:stretch/>
        </p:blipFill>
        <p:spPr>
          <a:xfrm>
            <a:off x="1616040" y="5908680"/>
            <a:ext cx="65739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YW00039"/>
          <p:cNvPicPr/>
          <p:nvPr/>
        </p:nvPicPr>
        <p:blipFill>
          <a:blip r:embed="rId1"/>
          <a:stretch/>
        </p:blipFill>
        <p:spPr>
          <a:xfrm>
            <a:off x="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4976640" y="0"/>
            <a:ext cx="416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霞光照得小孩子的脸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＿．大白狗变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＿＿．红公鸡变成＿＿＿．黑母鸡变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＿  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小白猪变成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＿＿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老爷爷的胡子变成＿＿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360600" y="3498840"/>
            <a:ext cx="258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读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段找一找火烧云的颜色变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有什么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4_047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14120" y="18720"/>
            <a:ext cx="89154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上的云从西边一直</a:t>
            </a:r>
            <a:r>
              <a:rPr b="1" lang="zh-CN" sz="96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烧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到东边，红彤彤的，好像是天空着了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63480" y="2708280"/>
            <a:ext cx="79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把烧字在这里好吗？把它换红又如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63480" y="508464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读一读第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自然段找一找火烧云还有哪些颜色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112640" y="3860640"/>
            <a:ext cx="8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现出火烧云的红、蔓延、面积大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度快、在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04880" y="112536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找一找火烧云有哪些颜色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618920" y="2536920"/>
            <a:ext cx="511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红彤彤   金灿灿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半紫半黄    半灰半百合色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葡萄灰   梨黄    茄子紫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79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012680" y="1509840"/>
            <a:ext cx="396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ff00"/>
                </a:solidFill>
                <a:latin typeface="Arial"/>
                <a:ea typeface="隶书"/>
              </a:rPr>
              <a:t>红 彤 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5594400" y="3645000"/>
            <a:ext cx="354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Arial"/>
                <a:ea typeface="华文彩云"/>
              </a:rPr>
              <a:t>金 灿 灿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79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41760" y="1123920"/>
            <a:ext cx="20091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半紫半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4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6114240" y="561960"/>
            <a:ext cx="1826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00"/>
                </a:solidFill>
                <a:latin typeface="Arial"/>
                <a:ea typeface="黑体"/>
              </a:rPr>
              <a:t>半灰半百合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118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4572000" y="1773360"/>
            <a:ext cx="35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葡萄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588000" y="270828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梨黄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3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368280" y="1869480"/>
            <a:ext cx="8407440" cy="2621880"/>
          </a:xfrm>
          <a:prstGeom prst="rect">
            <a:avLst/>
          </a:prstGeom>
          <a:solidFill>
            <a:srgbClr val="fefe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火烧云是怎样形成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清晨，太阳刚刚出来的时候，或者傍晚太阳落山的时候，天边的云彩常常是通红的一片，像火烧的一样。人们把这种通红的云，叫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火烧云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又叫早霞或晚霞。有时候，没有云，天边也会出现火红的颜色，这叫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火烧天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火烧云的形成与太阳光的颜色有着很大的关系，我们看到早晚的太阳发红，其它时间的太阳白黄刺眼，实际上太阳光既不是白色的，也不是红色的，而是由红、橙、黄、绿、青、蓝、紫七色光混合成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火烧云可以预测天气，民间流传的谚语“早霞不出门，晚霞行千里”，就是说，火烧云或火烧天如果出现在早晨，天气可能会变坏，出现在傍晚，第二天准是个好天气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44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843280" y="2708280"/>
            <a:ext cx="43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茄 子 紫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at"/>
          <p:cNvPicPr/>
          <p:nvPr/>
        </p:nvPicPr>
        <p:blipFill>
          <a:blip r:embed="rId1"/>
          <a:stretch/>
        </p:blipFill>
        <p:spPr>
          <a:xfrm>
            <a:off x="755640" y="333360"/>
            <a:ext cx="1295280" cy="2286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3"/>
          <p:cNvSpPr/>
          <p:nvPr/>
        </p:nvSpPr>
        <p:spPr>
          <a:xfrm>
            <a:off x="2819520" y="228600"/>
            <a:ext cx="4419360" cy="1371600"/>
          </a:xfrm>
          <a:prstGeom prst="wedgeEllipseCallout">
            <a:avLst>
              <a:gd name="adj1" fmla="val -60129"/>
              <a:gd name="adj2" fmla="val 42245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行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77840" y="249228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请用不同的形式填写表示颜色的词语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468360" y="3500280"/>
            <a:ext cx="8280360" cy="255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彤彤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 __ __         __ __ 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半紫半黄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 __ __         __ __ __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葡萄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 __ __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 __ __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自然段对火烧云颜色的描述表现了什么特点？从哪里看出来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32240" y="319896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变化多、变化快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69000" y="4040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一会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14130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这地方的火烧云变化极多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红彤彤的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金灿灿的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半紫半黄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半灰半百合色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117440" y="1413000"/>
            <a:ext cx="539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24000" y="2276640"/>
            <a:ext cx="8351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一会儿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黑体"/>
              </a:rPr>
              <a:t>……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一会儿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一会儿……一会儿…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55640" y="260280"/>
            <a:ext cx="7488360" cy="1152720"/>
          </a:xfrm>
          <a:prstGeom prst="cloudCallout">
            <a:avLst>
              <a:gd name="adj1" fmla="val -44296"/>
              <a:gd name="adj2" fmla="val 69972"/>
            </a:avLst>
          </a:pr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你能用下面的句式说话吗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4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比一比，谁能读出作者对火烧云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赞美之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95280" y="1557360"/>
            <a:ext cx="8748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勾画出写天空颜色的词语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天空中是不是只有这些颜色？从哪句话中可以看出来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仿照用“葡萄灰”、“梨黄”、“茄子紫”这种形式来说说还可能有哪些颜色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用一个词语概括火烧云颜色变化的特点。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色彩斑斓  变化莫测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这段话用了什么修辞？有什么好处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用了排比的修辞，写出了火烧云的变化之快和色彩繁多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39640" y="620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宋体"/>
              </a:rPr>
              <a:t>读课文第三段做下列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0" dur="1" fill="hold"/>
                                  <p:tgtEl>
                                    <p:spTgt spid="24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默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4—7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然段后讨论问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00000" y="1989000"/>
            <a:ext cx="75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火烧云的形状有什么变化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马—大狗—狮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火烧云的形状变化有什么特点？哪些词语可以体现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变化快、变化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火烧云形状的变化是这样多、这样快，你能用一个词语来概括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千姿百态  瞬息万变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像什么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916360" y="1022400"/>
            <a:ext cx="404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820800" y="2421000"/>
            <a:ext cx="777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、我能认识课文中的生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、我能有感情的朗读课文，并背诵自己喜欢的段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、我可以想象的到火烧云的奇异景象，体会到作者赞美自然的景象的心境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58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</a:pPr>
            <a:r>
              <a:rPr b="1" lang="zh-CN" sz="4000" spc="-1" strike="noStrike">
                <a:solidFill>
                  <a:srgbClr val="006600"/>
                </a:solidFill>
                <a:latin typeface="微软雅黑"/>
              </a:rPr>
              <a:t>你是怎样理解“恍恍惚惚的？这说明了什么？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Arial"/>
              <a:buChar char="•"/>
            </a:pPr>
            <a:r>
              <a:rPr b="1" lang="zh-CN" sz="4000" spc="-1" strike="noStrike">
                <a:solidFill>
                  <a:srgbClr val="006600"/>
                </a:solidFill>
                <a:latin typeface="微软雅黑"/>
              </a:rPr>
              <a:t>孩子们看累了，低下头，揉一揉眼睛，想沉静一会儿再看，火烧云却下去了，这时他们的心情怎样？</a:t>
            </a:r>
            <a:r>
              <a:rPr b="1" lang="en-US" sz="4000" spc="-1" strike="noStrike">
                <a:solidFill>
                  <a:srgbClr val="006600"/>
                </a:solidFill>
                <a:latin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79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79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微软雅黑"/>
              </a:rPr>
              <a:t>⑴</a:t>
            </a:r>
            <a:r>
              <a:rPr b="1" lang="zh-CN" sz="3600" spc="-1" strike="noStrike">
                <a:solidFill>
                  <a:srgbClr val="006600"/>
                </a:solidFill>
                <a:latin typeface="微软雅黑"/>
              </a:rPr>
              <a:t>作者抓住火烧云这一自然景观，以丰富的想象力，以优美的语句描绘出了夕阳西下时火烧云的瑰丽多姿，表达了怎样的感情？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微软雅黑"/>
              </a:rPr>
              <a:t>⑵</a:t>
            </a:r>
            <a:r>
              <a:rPr b="1" lang="zh-CN" sz="3600" spc="-1" strike="noStrike">
                <a:solidFill>
                  <a:srgbClr val="006600"/>
                </a:solidFill>
                <a:latin typeface="微软雅黑"/>
              </a:rPr>
              <a:t>作者为什么能把火烧云这一自然现象写得那么生动逼真呢？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6600"/>
                </a:solidFill>
                <a:latin typeface="微软雅黑"/>
              </a:rPr>
              <a:t>作者平时注意观察积累；描写中抓住景物特点展开丰富的想象；用词准确，表达合理 。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53276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微软雅黑"/>
                <a:ea typeface="楷体_GB2312"/>
              </a:rPr>
              <a:t>感悟中心：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8360" y="2708280"/>
            <a:ext cx="68403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3600" spc="-1" strike="noStrike">
                <a:solidFill>
                  <a:srgbClr val="6600cc"/>
                </a:solidFill>
                <a:latin typeface="微软雅黑"/>
                <a:ea typeface="楷体_GB2312"/>
              </a:rPr>
              <a:t>本文以形象生动的语言描写了火烧云的绚丽多彩和形态万千，表达了作者对自然景观的喜爱和赞美，激发我们观察自然、热爱自然的情趣。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4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按课文填空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这地方火烧云变化极多，一会儿（              ），一会儿（            ），一会儿（           ），一会儿（               ）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（            ）、（         ）、（         ）这些颜色天空都有，还有些说也说不出来、见也没见过的颜色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这段话是写火烧云（         ）的变化极多。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940360" y="1844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红彤彤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340000" y="2349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金灿灿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940360" y="2421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半紫半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979640" y="27813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半灰半百合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547640" y="3213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宋体"/>
              </a:rPr>
              <a:t>葡萄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4211640" y="313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宋体"/>
              </a:rPr>
              <a:t>梨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6445080" y="313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宋体"/>
              </a:rPr>
              <a:t>茄子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995640" y="4221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文本框 1"/>
          <p:cNvSpPr/>
          <p:nvPr/>
        </p:nvSpPr>
        <p:spPr>
          <a:xfrm>
            <a:off x="2662200" y="554364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一会儿，天空出现一匹马，马头（      ）马尾（         ）。马是（         ）的，像等人骑上它的背，它才站起来似的。过了两三秒钟，那匹马大起来了，腿（       ）了，脖子也（      ）了，尾巴（           ）了。看的人正在寻找尾巴，那匹马变（       ）了。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这段话是写火烧云（      ）的变化。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164360" y="126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向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340000" y="1917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向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732720" y="18446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跪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187280" y="357336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伸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6084720" y="3573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908000" y="414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可不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851280" y="465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模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4572000" y="53006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Times New Roman"/>
                <a:ea typeface="宋体"/>
              </a:rPr>
              <a:t>形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市场营销策划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  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C123-9E69-4A13-BA54-76B44829F6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2011320" y="1271520"/>
            <a:ext cx="4021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自学要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自由朗读课文，读准生字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词，把你认为难读或难写的生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新词就做个记号，读不通的句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多读几遍。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作者是按照什么顺序写火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云的？（划出表示描写顺序的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语）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34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生字查一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320920" y="2421000"/>
            <a:ext cx="491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檀（    ）  盈（    ）  凶（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064520" y="400536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庙（        ）    惚（          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8320" y="1844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382560" y="1844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í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555240" y="19162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xiō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04280" y="354348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mi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3600000" y="3500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h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726920" y="22050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檀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檀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816800" y="217188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充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笑盈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盈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7826040" y="21718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凶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凶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726920" y="38606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寺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庙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997160" y="39337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恍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恍恍惚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11280" y="1182600"/>
            <a:ext cx="813744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必学生词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火烧云  喂猪  笑盈盈  高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红彤彤  百合  茄子紫  跪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模糊   凶猛  镇静    揉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6"/>
          <p:cNvSpPr/>
          <p:nvPr/>
        </p:nvSpPr>
        <p:spPr>
          <a:xfrm>
            <a:off x="262728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852200" y="1271520"/>
            <a:ext cx="43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自学要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 自由朗读课文，读准生字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词，把你认为难读或难写的生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新词就做个记号，读不通的句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多读几遍。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 作者是按照什么顺序写火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云的？（划出表示描写顺序的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语）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想一想，课文主要从哪几个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方面描绘火烧云的？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909080" y="1851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颜色、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3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828720" y="90972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读课文时，跟随作者的目光，你都看到了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14360" y="2894040"/>
            <a:ext cx="831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宋体"/>
              </a:rPr>
              <a:t>在文中，作者先看到了火烧云的变化 ，接着看到了火烧云 的变化，然后看到了火烧云的变化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2:34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1:50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