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7897-CEDE-41FB-A07C-5B6C3213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54CA-C1F0-4082-9DCE-F8F452421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C7B3-3903-49C6-A0D1-C21040EB1B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6683-A16F-4114-9C09-B7BC0BAA4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4C63-1EC1-45CF-B614-3C233934F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B8AC-DA87-4AF4-A1D6-64E8DBFC1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C16E-9926-4FF4-BA25-5F6CC703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A4A4-10B9-4EC6-9ABE-7EE76AA40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835-1D1E-4E12-914F-710CB230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E7D-213A-4D36-8C67-974E1362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29A-3419-4C16-B6EC-45E33CC7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188-3C72-413B-9A61-5AC8742E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203-85F9-4EFF-9EC8-F7915C6C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1F0-5911-496F-96D9-A1EDA076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47F-0B61-4093-BBDC-D1A7CAF5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C08-FA44-40F4-8DA6-002E84F4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84F-A839-420B-8998-9DB45AA3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614-67BF-4C3B-8930-6B68DF22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41D-582D-4F1B-A49B-AF082A9F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B7D-02A5-437A-9059-D61E5F37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958D-883D-489B-AAEA-02F88CFD9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未标题-3.jpg"/>
          <p:cNvPicPr/>
          <p:nvPr/>
        </p:nvPicPr>
        <p:blipFill>
          <a:blip r:embed="rId1"/>
          <a:stretch/>
        </p:blipFill>
        <p:spPr>
          <a:xfrm>
            <a:off x="846000" y="731880"/>
            <a:ext cx="5429520" cy="521172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5400000">
            <a:off x="5600520" y="221760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红虾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2988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990720" y="4572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讲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6320" y="182880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无助时，自己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虾，只卖了五法郎，可又毫不犹豫的把钱给了可怜的小女孩，后来，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凄惨辞世，他的画却成为珍品，甚至有人出价数千法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/>
          <p:cNvSpPr/>
          <p:nvPr/>
        </p:nvSpPr>
        <p:spPr>
          <a:xfrm>
            <a:off x="179280" y="213372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第一段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—4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：讲述了凡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高生前贫困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第二段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—8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：记叙了凡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高将自己卖画所得的钱全部送给了一个素不相识的可怜的小女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第三段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9—1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：补充交代凡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高的去世以及他的绘画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2133720" y="228600"/>
            <a:ext cx="4876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划分文章段落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92200" y="755640"/>
            <a:ext cx="69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自读课文，谈谈凡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高留给你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11280" y="1650960"/>
            <a:ext cx="799308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尝尽了世间炎凉和人生孤独贫困的艺术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仅仅活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作了静物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同情、资助贫困的小女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01560" y="60948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为什么说凡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高尝尽世间炎凉和人生孤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1371600"/>
            <a:ext cx="91440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太贫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。       他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付不出房租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一个人流落在异乡，身边既无亲人也无朋友。虽然他每天都从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时的绘画工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他的画却一张也卖不出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凡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高的绘画成就生前始终没有得到世人的承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76200" y="689040"/>
            <a:ext cx="85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凡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高的画不好吗？为什么“一张也卖不出去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19120" y="1835280"/>
            <a:ext cx="81565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的画却成了“珍品”，静物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虾，“有人出价数千法郎购买了它！”可见他的画非常好，卖不出去只是因为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世间炎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58840" y="1371600"/>
            <a:ext cx="862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生活是这样的不公，年轻的画家是如此的贫困无助！他知道，这个冬天如果再卖不出一张画，那他只有被赶出住所而露宿街头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还算幸运，小画铺的老板勉强购下了他的这幅静物画，给了他五个法郎。对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来说，这算是最大的恩宠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ǒ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了。他紧紧地攥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u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着这五个法郎，赶忙离开了小画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就在风雪交加的归途中，他忽然看见一个衣衫破旧的小女孩，从教堂里走出来。小女孩很美丽，从她那一双可怜的孤苦无助的眼睛里，画家一下子就看出来，她也正处在饥寒交迫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怜的孩子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用忧郁的目光注视着这个女孩，喃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n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喃地说道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错，当风雪降临到世界的时候，所有的穷人都是困苦的，可是那些富人是不会懂得这些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380880" y="3657600"/>
            <a:ext cx="73915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3733920" y="152280"/>
            <a:ext cx="4419360" cy="1295640"/>
          </a:xfrm>
          <a:prstGeom prst="cloudCallout">
            <a:avLst>
              <a:gd name="adj1" fmla="val -72666"/>
              <a:gd name="adj2" fmla="val 4105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038480" y="396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法郎对于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来说，重要吗？从哪看的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066680" y="2133720"/>
            <a:ext cx="76201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7"/>
          <p:cNvSpPr/>
          <p:nvPr/>
        </p:nvSpPr>
        <p:spPr>
          <a:xfrm>
            <a:off x="609480" y="41911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他拿着这五个法郎，离开了小画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7200" y="2133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他紧紧地攥着这五个法郎，赶忙离开了小画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10"/>
          <p:cNvSpPr txBox="1"/>
          <p:nvPr/>
        </p:nvSpPr>
        <p:spPr>
          <a:xfrm>
            <a:off x="762120" y="228600"/>
            <a:ext cx="3504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比较句子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6"/>
          <p:cNvSpPr/>
          <p:nvPr/>
        </p:nvSpPr>
        <p:spPr>
          <a:xfrm>
            <a:off x="457200" y="35053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紧紧地攥着”：说明这五个法郎是他的救命钱，其重要原因就不言而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457200" y="51814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赶忙”：说明了凡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高急等着要用这一点钱，刻不容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468360" y="16002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的静物画卖了五个法郎，“这算是最大的恩宠了。他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紧紧地攥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五个法郎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赶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离开了小画铺。”他多么需要这五个法郎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324000" y="404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凡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高的静物画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红虾卖了多少钱？凡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高此时有何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80880" y="2420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这样想着的时候，画家完全忘记了房东此时正守在他的住处，等着他回去交房租呢。他几乎是毫不犹豫地把自己刚刚拿到手的五个法郎，全部送给了这个素不相识的、楚楚可怜的小女孩。他觉得自己所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ǐ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予这个小女孩的帮助太少，太无济于事，于是便满脸惭愧逃也似的离开了小女孩，消失在凛冽的风雪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4267080" y="2209680"/>
            <a:ext cx="43434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457200" y="2743200"/>
            <a:ext cx="8153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457200" y="3276720"/>
            <a:ext cx="1295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3352680" y="4495680"/>
            <a:ext cx="3429000" cy="1752840"/>
          </a:xfrm>
          <a:prstGeom prst="cloudCallout">
            <a:avLst>
              <a:gd name="adj1" fmla="val -40833"/>
              <a:gd name="adj2" fmla="val 7608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114800" y="44956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505320" y="4724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凡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高用卖画的钱做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3"/>
          <p:cNvSpPr/>
          <p:nvPr/>
        </p:nvSpPr>
        <p:spPr>
          <a:xfrm>
            <a:off x="380880" y="838080"/>
            <a:ext cx="849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毫不犹豫”、“全部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看出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做这件事的时侯是根本没有考虑到自己当时的艰难处境的，这充分说明了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他人的人性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刚刚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词，与前文的“紧紧地攥着”相呼应，让我们真切的感受到这五个法郎上还留有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的体温，饱含着爱的温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5960" y="2130120"/>
            <a:ext cx="6672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"/>
          <p:cNvPicPr/>
          <p:nvPr/>
        </p:nvPicPr>
        <p:blipFill>
          <a:blip r:embed="rId1"/>
          <a:stretch/>
        </p:blipFill>
        <p:spPr>
          <a:xfrm>
            <a:off x="571680" y="403200"/>
            <a:ext cx="8072280" cy="5138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1403280" y="56386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Arial"/>
              </a:rPr>
              <a:t>&lt;&lt;</a:t>
            </a:r>
            <a:r>
              <a:rPr b="1" lang="zh-CN" sz="3600" spc="-1" strike="noStrike">
                <a:solidFill>
                  <a:srgbClr val="632523"/>
                </a:solidFill>
                <a:latin typeface="Arial"/>
              </a:rPr>
              <a:t>鸢尾花</a:t>
            </a:r>
            <a:r>
              <a:rPr b="1" lang="en-US" sz="3600" spc="-1" strike="noStrike">
                <a:solidFill>
                  <a:srgbClr val="632523"/>
                </a:solidFill>
                <a:latin typeface="Arial"/>
              </a:rPr>
              <a:t>&gt;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80880" y="2420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这样想着的时候，画家完全忘记了房东此时正守在他的住处，等着他回去交房租呢。他几乎是毫不犹豫地把自己刚刚拿到手的五个法郎，全部送给了这个素不相识的、楚楚可怜的小女孩。他觉得自己所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ǐ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予这个小女孩的帮助太少，太无济于事，于是便满脸惭愧逃也似的离开了小女孩，消失在凛冽的风雪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3505320" y="1600200"/>
            <a:ext cx="19810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114800" y="44956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304920" y="2133720"/>
            <a:ext cx="85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面对这样一个小女孩时，画家完全忘记了</a:t>
            </a: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……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完全忘记了房东此时正守在他的住处，等着他回去交房租呢。</a:t>
            </a:r>
            <a:br>
              <a:rPr sz="3200"/>
            </a:b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     完全忘记了</a:t>
            </a: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……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完全忘记了</a:t>
            </a: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……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完全忘记了</a:t>
            </a: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533520" y="762120"/>
            <a:ext cx="83818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全忘记了自己的钱已花光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全忘记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里只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杯咖啡加一点点面包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全忘记了面包钱还是欠了人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全忘记了今晚下肚的只是一块面包皮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全忘记了今晚再不交房租他就该露宿街头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全忘记了他刚刚还紧紧地攥着那五个法郎，生怕他飞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矩形 5" descr=""/>
          <p:cNvPicPr/>
          <p:nvPr/>
        </p:nvPicPr>
        <p:blipFill>
          <a:blip r:embed="rId1"/>
          <a:stretch/>
        </p:blipFill>
        <p:spPr>
          <a:xfrm>
            <a:off x="249120" y="20520"/>
            <a:ext cx="4451400" cy="1344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33520" y="16765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觉得自己所给予这个小女孩的帮助太少，太无济于事，于是便满脸惭愧逃也似的离开了小女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685800" y="3429000"/>
            <a:ext cx="7772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从这里可以看出凡高是个什么样的人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2362320" y="5029200"/>
            <a:ext cx="4419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善良     舍己为人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76200" y="689040"/>
            <a:ext cx="8516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课文第一、五自然段联系紧密，作者为什么要在中间插入三个自然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19120" y="2506680"/>
            <a:ext cx="81565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是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插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交代了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的贫困，与后文把仅有的五个法郎送给小女孩形成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对比，更突出凡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高的可贵品质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此这三个自然段对表现人物起到了烘托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3"/>
          <p:cNvSpPr/>
          <p:nvPr/>
        </p:nvSpPr>
        <p:spPr>
          <a:xfrm>
            <a:off x="0" y="533520"/>
            <a:ext cx="8915400" cy="27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</a:rPr>
              <a:t>什么叫插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插叙”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记叙文中常用的一种叙述方式。指作者在叙述主要情节或中心事件发展过程中，暂时中断叙述线索，不依时间顺序而插入有关的另一故事片段或事件，对主要情节或中心事件作必要的铺垫、照应、补充、说明，插叙结束后，再继续原来的叙述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情节更完整、结构更严密、内容更充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3"/>
          <p:cNvSpPr/>
          <p:nvPr/>
        </p:nvSpPr>
        <p:spPr>
          <a:xfrm>
            <a:off x="250920" y="1052640"/>
            <a:ext cx="8642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直接在文中中插进一段话来进行叙述、介绍说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通过作品中的人物所见所闻所感和亲身经历来进行插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通过作品中的人物自己或旁人的语言（像对话、独白等）来进行插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通过人物的回忆、思念、想象等心理活动来进行插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611280" y="333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怎样运用插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24000" y="123696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后，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尝尽了世间炎凉和人生孤独贫困的艺术家，在苦难中凄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q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惨地辞别了人世。他，仅仅活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的绘画成就生前始终没有得到世人的承认，但他死后，所留下的作品却成了我们整个世界仰之弥高的珍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没有人会想到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8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冬天的那个黄昏，他那幅仅仅卖了五个法郎的静物画，若干年后，在巴黎的一家拍卖行里，有人出价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i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千法郎购下了它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这幅小小的静物画上，几只红虾显得分外诱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1042920" y="2205000"/>
            <a:ext cx="76802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611280" y="2565360"/>
            <a:ext cx="75819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1116000" y="4076640"/>
            <a:ext cx="63244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395280" y="4648320"/>
            <a:ext cx="8520120" cy="1981080"/>
          </a:xfrm>
          <a:prstGeom prst="wedgeRectCallout">
            <a:avLst>
              <a:gd name="adj1" fmla="val -38148"/>
              <a:gd name="adj2" fmla="val -7684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幅作品的的描写，只是在课文最后的这一自然段当中提到：打动人的不光是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的作品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诱人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是这幅作品背后的故事让人感到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的人格魅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有人会想到，这幅当年售价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法郎的静物画，若干年后，有人出价数千法郎购下它。 这幅小小的静物画上，几只红虾分外诱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讨论：作者为什么说这几只红虾分外诱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28600" y="2971800"/>
            <a:ext cx="89154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指的不仅仅是画作中的红虾画得红艳动人，重在说明身处极度贫困中的凡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高，对创作的热爱和执着，打动人，他辉煌的艺术成就，感染人；他烁烁闪光的艺术价值，激励人；他善良、仁爱的高尚品质，感动人；他伟大的人格魅力，陶冶人。这些都浓缩在红虾的楚楚诱人之中，含蓄隽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2771640" y="2708280"/>
            <a:ext cx="76320" cy="1504800"/>
          </a:xfrm>
          <a:custGeom>
            <a:avLst/>
            <a:gdLst>
              <a:gd name="textAreaLeft" fmla="*/ 48960 w 76320"/>
              <a:gd name="textAreaRight" fmla="*/ 76320 w 76320"/>
              <a:gd name="textAreaTop" fmla="*/ 38880 h 1504800"/>
              <a:gd name="textAreaBottom" fmla="*/ 1465920 h 15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562200" y="242100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仰之弥高的珍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413880" y="3789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关爱他人的品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6012000" y="2666880"/>
            <a:ext cx="196560" cy="1524240"/>
          </a:xfrm>
          <a:custGeom>
            <a:avLst/>
            <a:gdLst>
              <a:gd name="textAreaLeft" fmla="*/ 0 w 196560"/>
              <a:gd name="textAreaRight" fmla="*/ 70920 w 1965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307"/>
                </a:lnTo>
                <a:cubicBezTo>
                  <a:pt x="10800" y="10206"/>
                  <a:pt x="16200" y="11105"/>
                  <a:pt x="21600" y="11105"/>
                </a:cubicBezTo>
                <a:cubicBezTo>
                  <a:pt x="16200" y="11105"/>
                  <a:pt x="10800" y="12004"/>
                  <a:pt x="10800" y="12903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156360" y="312408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伟大的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59360" y="2924280"/>
            <a:ext cx="17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贫困的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十四朵向日葵 布面油画 93"/>
          <p:cNvPicPr/>
          <p:nvPr/>
        </p:nvPicPr>
        <p:blipFill>
          <a:blip r:embed="rId1"/>
          <a:stretch/>
        </p:blipFill>
        <p:spPr>
          <a:xfrm>
            <a:off x="914400" y="914400"/>
            <a:ext cx="3243240" cy="4089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2077920" y="510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十四朵向日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花瓶里的十二朵向日葵  布面油画 92"/>
          <p:cNvPicPr/>
          <p:nvPr/>
        </p:nvPicPr>
        <p:blipFill>
          <a:blip r:embed="rId2"/>
          <a:stretch/>
        </p:blipFill>
        <p:spPr>
          <a:xfrm>
            <a:off x="4952880" y="762120"/>
            <a:ext cx="3392640" cy="4221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5955120" y="51048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花瓶里的十二朵向日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31800" y="5925960"/>
            <a:ext cx="81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向日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列画是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在阳光明媚灿烂的法国南部所作的。画家当时像闪烁着熊熊的火焰，满怀炽热的激情令运动感的和仿佛旋转不停的笔触是那样粗厚有力，色彩的对比也是单纯强烈的。然而，在这种粗厚和单纯中却又充满了智慧和灵气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631800" y="268200"/>
            <a:ext cx="65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198360" y="5335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凡高的绘画成就生前始终没有得到世人的认可，但他死后，他所留下的作品却成了我们整个世界仰之弥高的珍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Rectangle 10" descr=""/>
          <p:cNvPicPr/>
          <p:nvPr/>
        </p:nvPicPr>
        <p:blipFill>
          <a:blip r:embed="rId1"/>
          <a:stretch/>
        </p:blipFill>
        <p:spPr>
          <a:xfrm>
            <a:off x="1409760" y="2549520"/>
            <a:ext cx="5727600" cy="6415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900000" y="3357720"/>
            <a:ext cx="7344000" cy="642600"/>
          </a:xfrm>
          <a:prstGeom prst="pie">
            <a:avLst/>
          </a:prstGeom>
          <a:solidFill>
            <a:srgbClr val="ffcc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愈仰望愈觉得其崇高。表示极其敬仰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828720" y="297396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夜间咖啡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5" descr="5e2dc0ebg700ac6f96d8b&amp;690[1].jpg"/>
          <p:cNvPicPr/>
          <p:nvPr/>
        </p:nvPicPr>
        <p:blipFill>
          <a:blip r:embed="rId1"/>
          <a:stretch/>
        </p:blipFill>
        <p:spPr>
          <a:xfrm>
            <a:off x="2374920" y="0"/>
            <a:ext cx="539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ogh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32000" y="966960"/>
            <a:ext cx="6480000" cy="4924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391320" y="32360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卧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0832914534042486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476360" y="927000"/>
            <a:ext cx="6264360" cy="5062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472320" y="30200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星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"/>
          <p:cNvSpPr/>
          <p:nvPr/>
        </p:nvSpPr>
        <p:spPr>
          <a:xfrm>
            <a:off x="617400" y="6323040"/>
            <a:ext cx="56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xin_22090424144370123271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755640" y="593640"/>
            <a:ext cx="7488360" cy="3632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539640" y="500760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直以来人们推断凡高的最后一幅画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麦田上的乌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画中暗蓝色的天空、盘旋的黑色乌鸦群、混乱的透视法，无不体现出一种不祥的预示色彩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B14E-9B7E-45DE-BB60-08944F1925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6"/>
          <p:cNvSpPr/>
          <p:nvPr/>
        </p:nvSpPr>
        <p:spPr>
          <a:xfrm>
            <a:off x="2286000" y="42670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952880" y="2000160"/>
            <a:ext cx="4038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5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），荷兰后印象派画家。他是表现主义的先驱，并深深影响了二十世纪艺术，尤其是野兽派与德国表现主义。</a:t>
            </a:r>
            <a:r>
              <a:rPr b="1" lang="zh-CN" sz="2400" spc="-1" strike="noStrike">
                <a:solidFill>
                  <a:srgbClr val="0d0d0d"/>
                </a:solidFill>
                <a:latin typeface="Arial"/>
              </a:rPr>
              <a:t>他一生创作了将近二千幅作品，至今在世界绘画史上享有极高的声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的作品，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星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日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乌鸦的麦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，现已跻身于全球最著名、与昂贵的艺术作品的行列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终因精神疾病的困扰，在美丽的法国瓦兹河畔结束了其年轻的生命，是年他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4" descr="fangzp001[1]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80880" y="37206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8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一个寒冷的黄昏，贫穷的荷兰画家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，因为付不出房租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冒着刺骨的风雪来到一家小画铺门前，希望老板收购他的一幅刚刚完成的静物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是的，这个尚未成名的画家太贫穷了。他一个人流落在异乡，身边既无亲人也无朋友。虽然他每天都从事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时的绘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u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画工作，但是他的画却一张也卖不出去。他因此受尽了人世间的冷遇。他在寒冷的深夜里紧紧地裹着一条旧毛毯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ǎ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给远方的兄弟写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几天我过得很不愉快。星期四我的钱已花光了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里我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杯咖啡加一点点面包为生，面包钱还是欠了人家的。今晚下肚的只是一块面包皮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而创作却深深吸引着我，我像苦力一样画着我的油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>
            <a:hlinkClick r:id="rId2"/>
          </p:cNvPr>
          <p:cNvSpPr/>
          <p:nvPr/>
        </p:nvSpPr>
        <p:spPr>
          <a:xfrm>
            <a:off x="8153280" y="60199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8406"/>
                </a:moveTo>
                <a:lnTo>
                  <a:pt x="9310" y="8406"/>
                </a:lnTo>
                <a:lnTo>
                  <a:pt x="13732" y="3794"/>
                </a:lnTo>
                <a:lnTo>
                  <a:pt x="13732" y="17806"/>
                </a:lnTo>
                <a:lnTo>
                  <a:pt x="9310" y="13194"/>
                </a:lnTo>
                <a:lnTo>
                  <a:pt x="4880" y="13194"/>
                </a:lnTo>
                <a:close/>
              </a:path>
              <a:path fill="darken" w="23773" h="21600">
                <a:moveTo>
                  <a:pt x="15386" y="10800"/>
                </a:moveTo>
                <a:lnTo>
                  <a:pt x="18893" y="10800"/>
                </a:lnTo>
              </a:path>
              <a:path fill="darken" w="23773" h="21600">
                <a:moveTo>
                  <a:pt x="15386" y="8406"/>
                </a:moveTo>
                <a:lnTo>
                  <a:pt x="18893" y="5639"/>
                </a:lnTo>
              </a:path>
              <a:path fill="darken" w="23773" h="21600">
                <a:moveTo>
                  <a:pt x="15386" y="13194"/>
                </a:moveTo>
                <a:lnTo>
                  <a:pt x="18893" y="1596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498600" y="1576440"/>
            <a:ext cx="856908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 ū      hu ì      t ǎn      ch ǒng      zu àn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 án      c án     l ǐn      li è     q ī      ji à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69880" y="21528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3090960" y="2800440"/>
            <a:ext cx="10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毯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毛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009880" y="2152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4962600" y="21528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9"/>
          <p:cNvSpPr/>
          <p:nvPr/>
        </p:nvSpPr>
        <p:spPr>
          <a:xfrm>
            <a:off x="3306600" y="21528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0"/>
          <p:cNvSpPr/>
          <p:nvPr/>
        </p:nvSpPr>
        <p:spPr>
          <a:xfrm>
            <a:off x="6834240" y="21528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1"/>
          <p:cNvSpPr/>
          <p:nvPr/>
        </p:nvSpPr>
        <p:spPr>
          <a:xfrm>
            <a:off x="726840" y="4529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2225520" y="45291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3451320" y="45291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4675320" y="45291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826240" y="45291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6978600" y="45291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498600" y="280044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出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租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1888200" y="28004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描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绘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4675320" y="2728800"/>
            <a:ext cx="10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宠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宠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6546960" y="2800440"/>
            <a:ext cx="10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攥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攥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498600" y="503244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喃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呢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1938240" y="503244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惭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3306600" y="5105520"/>
            <a:ext cx="15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凛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凛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5754600" y="510552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凄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6978600" y="510552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价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价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4459320" y="51055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凛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25"/>
          <p:cNvSpPr txBox="1"/>
          <p:nvPr/>
        </p:nvSpPr>
        <p:spPr>
          <a:xfrm>
            <a:off x="2305080" y="333360"/>
            <a:ext cx="4038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生字学习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80680" y="41400"/>
            <a:ext cx="4062600" cy="58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恩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    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喃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惭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素不相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毫不犹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楚楚可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无济于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仰之弥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 rot="5400000">
            <a:off x="6912720" y="2167560"/>
            <a:ext cx="316692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词语理解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3348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恩惠与宠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876920" y="3049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续不断的小声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066680" y="1143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有缺点或错误而感到不安，羞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981080" y="1981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彼此一向不认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828800" y="2819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事情立即果断，没有迟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981080" y="36576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女子娇弱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828800" y="44956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事情没什么帮助。比喻不能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981080" y="5257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越仰望越觉得崇高，珍贵。形容十分敬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"/>
          <p:cNvSpPr/>
          <p:nvPr/>
        </p:nvSpPr>
        <p:spPr>
          <a:xfrm>
            <a:off x="0" y="0"/>
            <a:ext cx="9144000" cy="62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风雨交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孤苦无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饥寒交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刺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流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冷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苦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露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炎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905120" y="152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喻不利的事碰到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905120" y="8380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疑无靠，生活贫苦，没有人照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905120" y="15541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生活极其贫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219320" y="22096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容天气极其寒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143000" y="28954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穷苦潦倒，漂泊外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143000" y="3581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淡的待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066680" y="4343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旧时对体力劳动者的蔑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143000" y="4952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室外或郊野住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1066680" y="5638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热和冷，比喻对待地位不同的人或者亲热攀附，或者冷淡疏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35120" y="838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近义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88040" y="1676520"/>
            <a:ext cx="197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贫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贫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忧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忧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607560" y="1652760"/>
            <a:ext cx="197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恩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恩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惭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羞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699960" y="1652760"/>
            <a:ext cx="197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凄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悲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35120" y="3429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义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788040" y="4114800"/>
            <a:ext cx="19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贫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富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607560" y="4091040"/>
            <a:ext cx="19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699960" y="4091040"/>
            <a:ext cx="19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忧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59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9:59Z</dcterms:modified>
  <cp:revision>6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