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7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1BE-245B-44C3-9647-7F25BE95F1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8FC-0168-4EC0-809E-A0A6763B42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AA3-F2CB-48B0-B790-F84DD00E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9F6-F7FC-4943-84EA-CE2C8B7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BB6-2353-422D-A755-51A48AF1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CD9-2E1F-4213-AB7D-F871F20E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4B2-2BB9-4B59-AD9A-CF3B7122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094-043F-4221-956D-8436DDD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CDC0-40FB-4156-B60A-68D097A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37D-30F1-4D8F-A35D-1E52E95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8E3-E24B-4A47-ABF3-BE114102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DD62-5412-48E8-B354-A0F73A5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C5E3-BA52-414D-822F-BC9F185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EC7-7043-4604-BE8A-005230B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99A9-CD41-43DB-B8C8-408FFE5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0B73-1AE3-4905-947F-F71A3AE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1050-A4FA-4DC8-8FDB-09966DB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776-7EB1-411E-A736-91472481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EB68-445D-4DE9-B3A8-40757E9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E34-B861-43B9-AFBC-A14A6AB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93A-AD16-4414-9095-E597A99C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F46-EC06-469B-B699-0E5591A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545-FEA7-46AC-98BB-B3CB659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C31-5625-436D-8E62-2B0A380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B4F-BA94-4924-8DB1-1091405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B22-2F18-4671-BD53-1CED279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F89-5FC9-42C6-8F32-113C16AEFC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3C8-4052-4A73-9F74-D07D06841F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85800" y="21337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华文新魏"/>
                <a:ea typeface="华文新魏"/>
              </a:rPr>
              <a:t>会植树的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9508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447920" y="190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爸爸说：“这些鸟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寿命只有三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明年它们再来的时候，会有三分之一的鸟死去。可是，老的一代死去了，新的一代又会跟着来种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3995640" y="508464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微软雅黑"/>
              </a:rPr>
              <a:t>执著</a:t>
            </a:r>
            <a:endParaRPr b="1" lang="en-US" sz="5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826920" y="33336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这些会植树的鸟虽然寿命短暂却为大自然作出了如此大的贡献，你想对这些鸟说点什么吗？学习了本文你又收获了什么启迪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55640" y="407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我们要保护自然环境，人与自然和谐相处。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不以貌取人，做事要认真、执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灭火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气象鸟图片"/>
          <p:cNvPicPr/>
          <p:nvPr/>
        </p:nvPicPr>
        <p:blipFill>
          <a:blip r:embed="rId2"/>
          <a:stretch/>
        </p:blipFill>
        <p:spPr>
          <a:xfrm>
            <a:off x="874800" y="1339920"/>
            <a:ext cx="62182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钟情的文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5d212aa8ab1c1ec1ca130c11"/>
          <p:cNvPicPr/>
          <p:nvPr/>
        </p:nvPicPr>
        <p:blipFill>
          <a:blip r:embed="rId2"/>
          <a:stretch/>
        </p:blipFill>
        <p:spPr>
          <a:xfrm>
            <a:off x="324000" y="1557360"/>
            <a:ext cx="6681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788000" y="3502080"/>
            <a:ext cx="431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斑文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主要以谷物为食，对农业有一定危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py3459.wav" descr=""/>
          <p:cNvPicPr/>
          <p:nvPr/>
        </p:nvPicPr>
        <p:blipFill>
          <a:blip r:embed="rId2"/>
          <a:stretch/>
        </p:blipFill>
        <p:spPr>
          <a:xfrm>
            <a:off x="8028000" y="551664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褐头鹪莺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4140360" y="620640"/>
            <a:ext cx="4470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斑文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主要以谷物为食，对农业有一定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9280" y="692280"/>
            <a:ext cx="434520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黑卷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动作敏捷，边飞边叫，主要从空中捕食飞虫为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79280" y="3500280"/>
            <a:ext cx="4680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红尾水鸲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q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以昆虫为食，也吃少量植物果实和种子</a:t>
            </a:r>
            <a:r>
              <a:rPr b="0" lang="zh-CN" sz="4400" spc="-1" strike="noStrike">
                <a:solidFill>
                  <a:srgbClr val="660033"/>
                </a:solidFill>
                <a:latin typeface="Arial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08000" y="3213000"/>
            <a:ext cx="56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  <a:ea typeface="隶书"/>
              </a:rPr>
              <a:t>灰鹡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  <a:ea typeface="隶书"/>
              </a:rPr>
              <a:t>(jī)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  <a:ea typeface="隶书"/>
              </a:rPr>
              <a:t>鸰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  <a:ea typeface="隶书"/>
              </a:rPr>
              <a:t>(lí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  <a:ea typeface="隶书"/>
              </a:rPr>
              <a:t>主要栖息于溪流、河谷、湖泊、水塘农田、住宅和林区居民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66560" y="333360"/>
            <a:ext cx="50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红隼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sǔ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小型猛禽。以猎食时有翱翔习性而著名。吃大型昆虫、鸟和小哺乳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63640" y="1052640"/>
            <a:ext cx="62658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爪   季   顶   盘   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均   匀   排   带   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19280" y="2205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瓜     李    钉     舟     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763640" y="436572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约     习     非    帝    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00" y="404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乌鹟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(wē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日出后是它们的活动高峰，常停留在突出的干树枝上，飞捕空中过往的小昆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植树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5003640" y="620640"/>
            <a:ext cx="374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99"/>
                </a:solidFill>
                <a:latin typeface="Arial"/>
                <a:ea typeface="隶书"/>
              </a:rPr>
              <a:t>植树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朱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62848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灭火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气象鸟图片"/>
          <p:cNvPicPr/>
          <p:nvPr/>
        </p:nvPicPr>
        <p:blipFill>
          <a:blip r:embed="rId1"/>
          <a:stretch/>
        </p:blipFill>
        <p:spPr>
          <a:xfrm>
            <a:off x="874800" y="1339920"/>
            <a:ext cx="62182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6720" y="620280"/>
            <a:ext cx="828072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蓝耳拟啄木鸟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蓝耳拟啄木鸟"/>
          <p:cNvPicPr/>
          <p:nvPr/>
        </p:nvPicPr>
        <p:blipFill>
          <a:blip r:embed="rId1"/>
          <a:stretch/>
        </p:blipFill>
        <p:spPr>
          <a:xfrm>
            <a:off x="1116000" y="1989000"/>
            <a:ext cx="44038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钟情的文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5d212aa8ab1c1ec1ca130c11"/>
          <p:cNvPicPr/>
          <p:nvPr/>
        </p:nvPicPr>
        <p:blipFill>
          <a:blip r:embed="rId1"/>
          <a:stretch/>
        </p:blipFill>
        <p:spPr>
          <a:xfrm>
            <a:off x="1092240" y="1219320"/>
            <a:ext cx="6805440" cy="51051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838080" y="6419880"/>
            <a:ext cx="51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4000" y="404640"/>
            <a:ext cx="8362800" cy="57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隶书"/>
              </a:rPr>
              <a:t>动物是人类的朋友，为我们人类服务，就像我们今天认识到的植树鸟一样，虽然外表不漂亮，但它们却默默的把自己短暂的生命献给了人类，所以一切事物不是因为美丽而可爱，而是因为可爱而美丽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38A8-4D7E-4CB1-A3A0-BA59CD88DF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2057400"/>
            <a:ext cx="4190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会植树的鸟在哪里植树吗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什么时间会去那里植树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484360" y="692280"/>
            <a:ext cx="4464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美国北部的纳得华地区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是一片茫茫的沙漠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沙漠中有一块绿洲，绿洲上生长着茂密的树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些树是由一种可爱的鸟一棵一棵种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每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雨季到来的前几天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，这种鸟都要在这里进行一次“植树”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 rot="5400000">
            <a:off x="0" y="2819520"/>
            <a:ext cx="2743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楷体_GB2312"/>
              </a:rPr>
              <a:t>我知道</a:t>
            </a:r>
            <a:endParaRPr b="0" i="1" lang="en-US" sz="4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沙漠中的绿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微软雅黑"/>
              </a:rPr>
              <a:t>美国北部的纳得华地区，是一片茫茫的沙漠，沙漠中间有一块绿洲，绿洲上生长着茂密的树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22_80"/>
          <p:cNvPicPr/>
          <p:nvPr/>
        </p:nvPicPr>
        <p:blipFill>
          <a:blip r:embed="rId2"/>
          <a:stretch/>
        </p:blipFill>
        <p:spPr>
          <a:xfrm>
            <a:off x="179280" y="155736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684360" y="5013360"/>
            <a:ext cx="25380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187280" y="4292640"/>
            <a:ext cx="50652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901960" y="0"/>
            <a:ext cx="62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微软雅黑"/>
              </a:rPr>
              <a:t>植树鸟长什么样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09548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1547640" y="3357720"/>
            <a:ext cx="50652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195640" y="90792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它们全身披着灰色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羽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尖尖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像一根铁钉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尾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有一尺长，像半开的纸扇，两只黑黝黝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爪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特别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419640" y="45100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小卡西觉得这些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点也不漂亮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植树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8"/>
          <p:cNvSpPr/>
          <p:nvPr/>
        </p:nvSpPr>
        <p:spPr>
          <a:xfrm>
            <a:off x="3924360" y="1623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2_80"/>
          <p:cNvPicPr/>
          <p:nvPr/>
        </p:nvPicPr>
        <p:blipFill>
          <a:blip r:embed="rId1"/>
          <a:stretch/>
        </p:blipFill>
        <p:spPr>
          <a:xfrm>
            <a:off x="179280" y="249228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1619280" y="4149720"/>
            <a:ext cx="25380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84360" y="907920"/>
            <a:ext cx="49500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411280" y="907920"/>
            <a:ext cx="62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小卡西看到他们时喜欢它们吗？后来呢？（</a:t>
            </a: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3~10</a:t>
            </a: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195640" y="220500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小卡西觉得这些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点也不漂亮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195640" y="306864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小卡西目送着远去的鸟群，对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爸说：“这些鸟的样子并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好看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，但是，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别喜欢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它们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411280" y="469260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么可爱</a:t>
            </a:r>
            <a:r>
              <a:rPr b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的小鸟啊！是它们给我们送来了越来越大的绿洲！”小卡西深情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468360" y="5229360"/>
            <a:ext cx="49536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514160" y="1916280"/>
            <a:ext cx="7169400" cy="825120"/>
            <a:chOff x="1514160" y="1916280"/>
            <a:chExt cx="7169400" cy="825120"/>
          </a:xfrm>
        </p:grpSpPr>
        <p:grpSp>
          <p:nvGrpSpPr>
            <p:cNvPr id="135" name="Group 8"/>
            <p:cNvGrpSpPr/>
            <p:nvPr/>
          </p:nvGrpSpPr>
          <p:grpSpPr>
            <a:xfrm>
              <a:off x="1514160" y="2085120"/>
              <a:ext cx="531360" cy="418680"/>
              <a:chOff x="1514160" y="2085120"/>
              <a:chExt cx="531360" cy="41868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668240" y="2310120"/>
                <a:ext cx="22428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19159200">
                <a:off x="1547640" y="2231280"/>
                <a:ext cx="10728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1"/>
              <p:cNvSpPr/>
              <p:nvPr/>
            </p:nvSpPr>
            <p:spPr>
              <a:xfrm rot="20197200">
                <a:off x="1643040" y="2104200"/>
                <a:ext cx="10584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2"/>
              <p:cNvSpPr/>
              <p:nvPr/>
            </p:nvSpPr>
            <p:spPr>
              <a:xfrm rot="1320000">
                <a:off x="1811520" y="20988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3"/>
              <p:cNvSpPr/>
              <p:nvPr/>
            </p:nvSpPr>
            <p:spPr>
              <a:xfrm rot="13740000">
                <a:off x="1902960" y="2220120"/>
                <a:ext cx="106560" cy="14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14"/>
            <p:cNvSpPr/>
            <p:nvPr/>
          </p:nvSpPr>
          <p:spPr>
            <a:xfrm>
              <a:off x="2124000" y="1916280"/>
              <a:ext cx="655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其他鸟立刻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接到命令似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均匀、整齐地排列开来，大约每平方米停一只，像用尺子量过一般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5"/>
          <p:cNvGrpSpPr/>
          <p:nvPr/>
        </p:nvGrpSpPr>
        <p:grpSpPr>
          <a:xfrm>
            <a:off x="1298520" y="3500280"/>
            <a:ext cx="7168680" cy="587520"/>
            <a:chOff x="1298520" y="3500280"/>
            <a:chExt cx="7168680" cy="587520"/>
          </a:xfrm>
        </p:grpSpPr>
        <p:grpSp>
          <p:nvGrpSpPr>
            <p:cNvPr id="143" name="Group 16"/>
            <p:cNvGrpSpPr/>
            <p:nvPr/>
          </p:nvGrpSpPr>
          <p:grpSpPr>
            <a:xfrm>
              <a:off x="1298520" y="3669120"/>
              <a:ext cx="531360" cy="418680"/>
              <a:chOff x="1298520" y="3669120"/>
              <a:chExt cx="531360" cy="418680"/>
            </a:xfrm>
          </p:grpSpPr>
          <p:sp>
            <p:nvSpPr>
              <p:cNvPr id="144" name="Oval 17"/>
              <p:cNvSpPr/>
              <p:nvPr/>
            </p:nvSpPr>
            <p:spPr>
              <a:xfrm>
                <a:off x="1452240" y="3894120"/>
                <a:ext cx="22392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8"/>
              <p:cNvSpPr/>
              <p:nvPr/>
            </p:nvSpPr>
            <p:spPr>
              <a:xfrm rot="19159200">
                <a:off x="1332000" y="3815280"/>
                <a:ext cx="10728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9"/>
              <p:cNvSpPr/>
              <p:nvPr/>
            </p:nvSpPr>
            <p:spPr>
              <a:xfrm rot="20197200">
                <a:off x="1427400" y="3688200"/>
                <a:ext cx="10584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0"/>
              <p:cNvSpPr/>
              <p:nvPr/>
            </p:nvSpPr>
            <p:spPr>
              <a:xfrm rot="1320000">
                <a:off x="1595880" y="36828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1"/>
              <p:cNvSpPr/>
              <p:nvPr/>
            </p:nvSpPr>
            <p:spPr>
              <a:xfrm rot="13740000">
                <a:off x="1687320" y="3804120"/>
                <a:ext cx="106560" cy="14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Rectangle 22"/>
            <p:cNvSpPr/>
            <p:nvPr/>
          </p:nvSpPr>
          <p:spPr>
            <a:xfrm>
              <a:off x="1908000" y="3500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3"/>
          <p:cNvGrpSpPr/>
          <p:nvPr/>
        </p:nvGrpSpPr>
        <p:grpSpPr>
          <a:xfrm>
            <a:off x="1298520" y="4724280"/>
            <a:ext cx="7168680" cy="587520"/>
            <a:chOff x="1298520" y="4724280"/>
            <a:chExt cx="7168680" cy="587520"/>
          </a:xfrm>
        </p:grpSpPr>
        <p:grpSp>
          <p:nvGrpSpPr>
            <p:cNvPr id="151" name="Group 24"/>
            <p:cNvGrpSpPr/>
            <p:nvPr/>
          </p:nvGrpSpPr>
          <p:grpSpPr>
            <a:xfrm>
              <a:off x="1298520" y="4893120"/>
              <a:ext cx="531360" cy="418680"/>
              <a:chOff x="1298520" y="4893120"/>
              <a:chExt cx="531360" cy="418680"/>
            </a:xfrm>
          </p:grpSpPr>
          <p:sp>
            <p:nvSpPr>
              <p:cNvPr id="152" name="Oval 25"/>
              <p:cNvSpPr/>
              <p:nvPr/>
            </p:nvSpPr>
            <p:spPr>
              <a:xfrm>
                <a:off x="1452240" y="5118120"/>
                <a:ext cx="22392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6"/>
              <p:cNvSpPr/>
              <p:nvPr/>
            </p:nvSpPr>
            <p:spPr>
              <a:xfrm rot="19159200">
                <a:off x="1332000" y="5039280"/>
                <a:ext cx="10728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7"/>
              <p:cNvSpPr/>
              <p:nvPr/>
            </p:nvSpPr>
            <p:spPr>
              <a:xfrm rot="20197200">
                <a:off x="1427400" y="4912200"/>
                <a:ext cx="10584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8"/>
              <p:cNvSpPr/>
              <p:nvPr/>
            </p:nvSpPr>
            <p:spPr>
              <a:xfrm rot="1320000">
                <a:off x="1595880" y="49068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9"/>
              <p:cNvSpPr/>
              <p:nvPr/>
            </p:nvSpPr>
            <p:spPr>
              <a:xfrm rot="13740000">
                <a:off x="1687320" y="5028120"/>
                <a:ext cx="106560" cy="14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30"/>
            <p:cNvSpPr/>
            <p:nvPr/>
          </p:nvSpPr>
          <p:spPr>
            <a:xfrm>
              <a:off x="1908000" y="4724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31"/>
          <p:cNvSpPr/>
          <p:nvPr/>
        </p:nvSpPr>
        <p:spPr>
          <a:xfrm>
            <a:off x="2457360" y="907920"/>
            <a:ext cx="64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什么原因使小卡西态度发生如此大的了转变呢？（</a:t>
            </a: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4~7</a:t>
            </a:r>
            <a:r>
              <a:rPr b="1" lang="zh-CN" sz="3200" spc="-1" strike="noStrike">
                <a:solidFill>
                  <a:srgbClr val="ff33cc"/>
                </a:solidFill>
                <a:latin typeface="微软雅黑"/>
                <a:ea typeface="微软雅黑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2511720" y="4149720"/>
            <a:ext cx="4831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啄    刨     挖    飞     衔     放     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33"/>
          <p:cNvSpPr txBox="1"/>
          <p:nvPr/>
        </p:nvSpPr>
        <p:spPr>
          <a:xfrm>
            <a:off x="3995640" y="5300640"/>
            <a:ext cx="1238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方正姚体"/>
              </a:rPr>
              <a:t>认真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sp>
        <p:nvSpPr>
          <p:cNvPr id="161" name="AutoShape 34"/>
          <p:cNvSpPr/>
          <p:nvPr/>
        </p:nvSpPr>
        <p:spPr>
          <a:xfrm>
            <a:off x="2340000" y="4581360"/>
            <a:ext cx="431640" cy="71640"/>
          </a:xfrm>
          <a:prstGeom prst="rightArrow">
            <a:avLst>
              <a:gd name="adj1" fmla="val 50000"/>
              <a:gd name="adj2" fmla="val 150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5"/>
          <p:cNvSpPr/>
          <p:nvPr/>
        </p:nvSpPr>
        <p:spPr>
          <a:xfrm>
            <a:off x="3276720" y="4581360"/>
            <a:ext cx="431640" cy="71640"/>
          </a:xfrm>
          <a:prstGeom prst="rightArrow">
            <a:avLst>
              <a:gd name="adj1" fmla="val 50000"/>
              <a:gd name="adj2" fmla="val 150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6"/>
          <p:cNvSpPr/>
          <p:nvPr/>
        </p:nvSpPr>
        <p:spPr>
          <a:xfrm>
            <a:off x="4211640" y="4581360"/>
            <a:ext cx="431640" cy="71640"/>
          </a:xfrm>
          <a:prstGeom prst="rightArrow">
            <a:avLst>
              <a:gd name="adj1" fmla="val 50000"/>
              <a:gd name="adj2" fmla="val 150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7"/>
          <p:cNvSpPr/>
          <p:nvPr/>
        </p:nvSpPr>
        <p:spPr>
          <a:xfrm>
            <a:off x="5076720" y="4581360"/>
            <a:ext cx="432000" cy="71640"/>
          </a:xfrm>
          <a:prstGeom prst="rightArrow">
            <a:avLst>
              <a:gd name="adj1" fmla="val 50000"/>
              <a:gd name="adj2" fmla="val 1506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8"/>
          <p:cNvSpPr/>
          <p:nvPr/>
        </p:nvSpPr>
        <p:spPr>
          <a:xfrm>
            <a:off x="6084720" y="4581360"/>
            <a:ext cx="432000" cy="71640"/>
          </a:xfrm>
          <a:prstGeom prst="rightArrow">
            <a:avLst>
              <a:gd name="adj1" fmla="val 50000"/>
              <a:gd name="adj2" fmla="val 1506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9"/>
          <p:cNvSpPr/>
          <p:nvPr/>
        </p:nvSpPr>
        <p:spPr>
          <a:xfrm>
            <a:off x="7020000" y="4581360"/>
            <a:ext cx="431640" cy="71640"/>
          </a:xfrm>
          <a:prstGeom prst="rightArrow">
            <a:avLst>
              <a:gd name="adj1" fmla="val 50000"/>
              <a:gd name="adj2" fmla="val 150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8:13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48Z</dcterms:modified>
  <cp:revision>1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