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16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5DB6-AF04-4FF4-BB24-904475CA2D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EA85-F1B3-4400-B0DB-A0CEBDB4EF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858-36A4-45ED-9B51-E71ECD9D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2AE-7671-4350-91FD-47AAF013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5EE-49EB-450B-92A7-E6139297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4BC-B71B-4DA4-A2F6-7FA44BF1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B95-9C6B-42AA-AAC8-A5A32C85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ED0-0CC3-4523-B550-CD4D4AE8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78F-54A7-48EC-B53D-1F4F9AED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529-A33F-45CF-A9E4-D2C4BCC4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C40-C79A-458C-9256-65F3F6E8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F2C-1054-43C2-8D38-5B0B4844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AE7-CB32-4E2D-9BD6-85246AED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05C-D496-457E-B3BA-A4BFE185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7C06-526E-4794-8554-1260D4C3E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979640" y="228600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5050"/>
                </a:solidFill>
                <a:latin typeface="Arial"/>
                <a:ea typeface="楷体_GB2312"/>
              </a:rPr>
              <a:t>会植树的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1600200" y="6153120"/>
            <a:ext cx="5670720" cy="49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8"/>
          <p:cNvSpPr/>
          <p:nvPr/>
        </p:nvSpPr>
        <p:spPr>
          <a:xfrm>
            <a:off x="2666880" y="12952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美国北部的纳得华地区，是一片茫茫的沙漠</a:t>
            </a:r>
            <a:r>
              <a:rPr b="1" lang="en-US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沙漠中有一块绿洲，绿洲上生长着茂密的树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9"/>
          <p:cNvSpPr txBox="1"/>
          <p:nvPr/>
        </p:nvSpPr>
        <p:spPr>
          <a:xfrm rot="5400000">
            <a:off x="0" y="2819520"/>
            <a:ext cx="27432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我知道</a:t>
            </a:r>
            <a:endParaRPr b="0" i="1" lang="en-US" sz="4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94" name="Picture 11" descr="图片2"/>
          <p:cNvPicPr/>
          <p:nvPr/>
        </p:nvPicPr>
        <p:blipFill>
          <a:blip r:embed="rId2"/>
          <a:stretch/>
        </p:blipFill>
        <p:spPr>
          <a:xfrm>
            <a:off x="3429000" y="4191120"/>
            <a:ext cx="4876920" cy="1896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4191120" y="4724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这些树是由一种可爱的鸟一棵一棵种植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981080" y="1752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年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雨季到来的前几天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这种鸟都要在这里进行一次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植树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828800" y="320040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楷体_GB2312"/>
              </a:rPr>
              <a:t>会植树的小鸟长什么样子，你知道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762120" y="12193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楷体_GB2312"/>
              </a:rPr>
              <a:t>它们全身披着灰色的羽毛，尖尖的喙像一根铁钉，尾羽有一尺长，</a:t>
            </a:r>
            <a:r>
              <a:rPr b="1" lang="zh-CN" sz="4400" spc="-1" strike="noStrike" u="sng">
                <a:solidFill>
                  <a:srgbClr val="ff5050"/>
                </a:solidFill>
                <a:uFillTx/>
                <a:latin typeface="Arial"/>
                <a:ea typeface="楷体_GB2312"/>
              </a:rPr>
              <a:t>像半开的纸扇，两只黑黝黝的爪子特别粗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25715553872298503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003NWKKyzy6Jp4IUybPa5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70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066680" y="2057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小卡西目送着远去的鸟群，对爸爸说：“这些鸟的样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并不好看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，但是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我特别喜欢它们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590920" y="1447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小鸟是怎样植树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65825a8967c35d930e244466"/>
          <p:cNvPicPr/>
          <p:nvPr/>
        </p:nvPicPr>
        <p:blipFill>
          <a:blip r:embed="rId2"/>
          <a:stretch/>
        </p:blipFill>
        <p:spPr>
          <a:xfrm>
            <a:off x="4267080" y="2971800"/>
            <a:ext cx="3353040" cy="269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9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886200" y="1676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小鸟在一只鸟的领导下，均匀、整齐地排列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用嘴啄，用爪子刨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，不一会儿，每只鸟都在沙滩上挖了个小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371600" y="1143000"/>
            <a:ext cx="579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楷体_GB2312"/>
              </a:rPr>
              <a:t>当鸟群又飞回来时，每只鸟的嘴里都</a:t>
            </a:r>
            <a:r>
              <a:rPr b="1" lang="zh-CN" sz="4000" spc="-1" strike="noStrike" u="sng">
                <a:solidFill>
                  <a:srgbClr val="9933ff"/>
                </a:solidFill>
                <a:uFillTx/>
                <a:latin typeface="Arial"/>
                <a:ea typeface="楷体_GB2312"/>
              </a:rPr>
              <a:t>衔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楷体_GB2312"/>
              </a:rPr>
              <a:t>着一根带绿叶的树枝。它们把树枝</a:t>
            </a:r>
            <a:r>
              <a:rPr b="1" lang="zh-CN" sz="4000" spc="-1" strike="noStrike" u="sng">
                <a:solidFill>
                  <a:srgbClr val="9933ff"/>
                </a:solidFill>
                <a:uFillTx/>
                <a:latin typeface="Arial"/>
                <a:ea typeface="楷体_GB2312"/>
              </a:rPr>
              <a:t>放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楷体_GB2312"/>
              </a:rPr>
              <a:t>在自己挖的坑里，再用松软的土</a:t>
            </a:r>
            <a:r>
              <a:rPr b="1" lang="zh-CN" sz="4000" spc="-1" strike="noStrike" u="sng">
                <a:solidFill>
                  <a:srgbClr val="9933ff"/>
                </a:solidFill>
                <a:uFillTx/>
                <a:latin typeface="Arial"/>
                <a:ea typeface="楷体_GB2312"/>
              </a:rPr>
              <a:t>盖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楷体_GB2312"/>
              </a:rPr>
              <a:t>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514600" y="4038480"/>
            <a:ext cx="3581280" cy="703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楷体_GB2312"/>
              </a:rPr>
              <a:t>课前诵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447920" y="190512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爸爸说：“这些鸟的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寿命只有三年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。明年它们再来的时候，会有三分之一的鸟死去。可是，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老的一代死去了，新的一代又会跟着来种树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762120" y="1523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这些会植树的鸟的寿命只有三年，但老的一代死去了，新的一代又会跟来种树，这些鸟为大自然作出了如此大的贡献，你想说点什么吗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743200" y="3808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课外拓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"/>
          <p:cNvSpPr/>
          <p:nvPr/>
        </p:nvSpPr>
        <p:spPr>
          <a:xfrm>
            <a:off x="1062000" y="5348160"/>
            <a:ext cx="71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295280" y="3048120"/>
            <a:ext cx="26672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再见</a:t>
            </a:r>
            <a:endParaRPr b="0" lang="en-US" sz="6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blinds dir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DB14-98DB-4E16-88BB-86E5F2F14A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3227400" y="1338120"/>
            <a:ext cx="185724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忆力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1812960" y="3222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1532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切事物并非美丽就可爱，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而是因为可爱才美丽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465280" y="1219320"/>
            <a:ext cx="185724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忆力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812960" y="3222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124080"/>
            <a:ext cx="5943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记忆的内容是</a:t>
            </a:r>
            <a:br>
              <a:rPr sz="4000"/>
            </a:br>
            <a:br>
              <a:rPr sz="3600"/>
            </a:b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102736mvfkfjqn9nirf9n4"/>
          <p:cNvPicPr/>
          <p:nvPr/>
        </p:nvPicPr>
        <p:blipFill>
          <a:blip r:embed="rId2"/>
          <a:stretch/>
        </p:blipFill>
        <p:spPr>
          <a:xfrm>
            <a:off x="5486400" y="1143000"/>
            <a:ext cx="2495520" cy="24955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7"/>
          <p:cNvSpPr/>
          <p:nvPr/>
        </p:nvSpPr>
        <p:spPr>
          <a:xfrm>
            <a:off x="3809880" y="3059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0143311222"/>
          <p:cNvPicPr/>
          <p:nvPr/>
        </p:nvPicPr>
        <p:blipFill>
          <a:blip r:embed="rId2"/>
          <a:stretch/>
        </p:blipFill>
        <p:spPr>
          <a:xfrm>
            <a:off x="3581280" y="990720"/>
            <a:ext cx="4286520" cy="3219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b29f82829d2b8bac6c8119a3"/>
          <p:cNvPicPr/>
          <p:nvPr/>
        </p:nvPicPr>
        <p:blipFill>
          <a:blip r:embed="rId3"/>
          <a:stretch/>
        </p:blipFill>
        <p:spPr>
          <a:xfrm>
            <a:off x="990720" y="1295280"/>
            <a:ext cx="2133360" cy="1781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981080" y="47242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3.12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中国植树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DY024"/>
          <p:cNvPicPr/>
          <p:nvPr/>
        </p:nvPicPr>
        <p:blipFill>
          <a:blip r:embed="rId2"/>
          <a:stretch/>
        </p:blipFill>
        <p:spPr>
          <a:xfrm>
            <a:off x="0" y="0"/>
            <a:ext cx="4419720" cy="3137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DY109"/>
          <p:cNvPicPr/>
          <p:nvPr/>
        </p:nvPicPr>
        <p:blipFill>
          <a:blip r:embed="rId3"/>
          <a:stretch/>
        </p:blipFill>
        <p:spPr>
          <a:xfrm>
            <a:off x="0" y="3666960"/>
            <a:ext cx="4495680" cy="31910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5029200" y="48769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鸟会植树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133720" y="213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114800" y="1523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yu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905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m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943600" y="1523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f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191120" y="213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095880" y="213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209680" y="403848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ff"/>
                </a:solidFill>
                <a:latin typeface="Arial"/>
                <a:ea typeface="楷体_GB2312"/>
              </a:rPr>
              <a:t>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191120" y="3429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gà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981080" y="34290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zhu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019920" y="34290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xu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267080" y="403848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ff"/>
                </a:solidFill>
                <a:latin typeface="Arial"/>
                <a:ea typeface="楷体_GB2312"/>
              </a:rPr>
              <a:t>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172200" y="40384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ff"/>
                </a:solidFill>
                <a:latin typeface="Arial"/>
                <a:ea typeface="楷体_GB2312"/>
              </a:rPr>
              <a:t>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2232000" cy="1959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3635280" y="4076640"/>
            <a:ext cx="2232000" cy="1959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2232000" cy="1959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5"/>
          <a:stretch/>
        </p:blipFill>
        <p:spPr>
          <a:xfrm>
            <a:off x="3562200" y="1628640"/>
            <a:ext cx="2232000" cy="1959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6"/>
          <a:stretch/>
        </p:blipFill>
        <p:spPr>
          <a:xfrm>
            <a:off x="6443640" y="4076640"/>
            <a:ext cx="1862280" cy="1959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7"/>
          <a:stretch/>
        </p:blipFill>
        <p:spPr>
          <a:xfrm>
            <a:off x="6442200" y="1628640"/>
            <a:ext cx="1863720" cy="19591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755640" y="1989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楷体_GB2312"/>
              </a:rPr>
              <a:t>茂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6400800" y="4419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大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6172200" y="1981080"/>
            <a:ext cx="23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Arial"/>
                <a:ea typeface="楷体_GB2312"/>
              </a:rPr>
              <a:t>黑黝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851280" y="4292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翻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826920" y="4365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爪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3778200" y="1989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盘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"/>
          <p:cNvPicPr/>
          <p:nvPr/>
        </p:nvPicPr>
        <p:blipFill>
          <a:blip r:embed="rId8"/>
          <a:stretch/>
        </p:blipFill>
        <p:spPr>
          <a:xfrm>
            <a:off x="0" y="0"/>
            <a:ext cx="1763640" cy="1341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7"/>
          <p:cNvSpPr/>
          <p:nvPr/>
        </p:nvSpPr>
        <p:spPr>
          <a:xfrm>
            <a:off x="2843280" y="260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楷体_GB2312"/>
              </a:rPr>
              <a:t>词语花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762120" y="2057400"/>
            <a:ext cx="41907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知道会植树的鸟在哪里植树吗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它什么时间会去那里植树</a:t>
            </a:r>
            <a:r>
              <a:rPr b="1" lang="en-US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29:56Z</dcterms:modified>
  <cp:revision>1</cp:revision>
  <dc:subject/>
  <dc:title>幻灯片 1</dc:title>
</cp:coreProperties>
</file>