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B7A-A76A-4AA5-9C9D-A305D62E9C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43E7-5839-4F59-B78A-1C673E6EF1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C861-E5E5-4DC8-8197-F58E177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723D-2818-433A-81A4-EA1D9343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98C8-F61F-4CC5-A327-2B48829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0C77-01B5-4EAB-BAE7-B98E55F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E81B-B0E2-48FE-90F1-A745973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0F99-B2FC-48D4-A372-84DB914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07F2-2008-4B86-B91D-180951D1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5DC0-D8CA-423F-8A10-E02EB759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E228-E342-4B50-A9F5-C818D021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7964-0F49-4861-B4EE-84D20E6F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46C5-7638-4208-9201-1D3997CD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4D53-8862-4DA4-8C5A-E13E0EB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8798-05D6-4583-9226-8D58117A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02B3-5DDA-4514-9F8B-2F9E79CE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AD9DB-F216-4687-9421-804AEB8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7A28-C0D3-47FA-B77A-8414D12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6C1B-07AC-4BF5-93F1-C086F464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BCFA8-1A88-4638-8C63-3FF100B9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E9AE-43CF-4515-B2D7-5A5DC7E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BC99-C7E0-4A12-9B62-13792360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02AC-F494-47AA-A206-A43A2C5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869F-9607-4AA2-96EC-151B7ED5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1887-B6E0-4550-BE3D-5C7EDBE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3BFB-A5A7-4C37-9552-1A63B99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D733-95A1-416F-91A1-4D6E2B2F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FAEA-59DC-48D8-A919-68A2056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65B6-4CD8-43E0-ABE9-FA95BAB5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27A73-B4E8-46BC-9A48-30C6F5E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346A6-4DE9-43AB-8660-3589003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7624C-AB41-4DDF-A65C-E967C74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717E-F7E5-4E73-BAE8-8D2252A6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B7A0-6DE5-42DE-9971-86C04BE3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997C-3BA9-46C0-AF48-B27BF61A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1096-BBBD-4DBC-9923-058CA758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8265-842F-4EDE-AB04-8A17B00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DBB2-A7A2-499C-BC06-00410EA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4EE8D-7629-4E06-A292-31E08019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9707-A566-4896-BCA2-EFB6E54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1ECE-749B-4E8D-90E5-1FABA55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2DD7-3D7B-4B05-9DBE-A287848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25748-9654-4A81-A297-436A1B8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AE53-510E-41D3-A2A3-2D0DF67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8AD3-A5C4-4B6F-B892-FCB876B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0728-1F00-46C5-8780-6707728C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1C0B-F59B-4F47-9EF2-F72DCDA7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7269D-2AEC-427F-AD48-4D266E85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AE108-0836-4E8A-B4F1-F56D1D0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49E0-E51F-4DC3-8C37-92938F3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48D5E-518C-425E-BEE7-2E63CCA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5092-984F-4A63-9311-413C2F0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EF1C-5D17-4E54-A57B-9CA54A05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C02DB-174D-4438-B834-958D50B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39BF0-5581-43CF-AEA2-34546E9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1B9E4-F502-4820-A2C5-C6A55CF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CDFFE-54AF-4707-BF32-34D5EB9A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13864-2D02-41DE-8A1E-B88F832E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C3F36-28D4-46AC-B04D-4223451F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921AA-130C-4904-80C9-C113B303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1F224-F7DF-4AA0-8A30-B8B4BFC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8CF49-D89C-4CDA-B9D9-B023AF6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83452-4FA7-4AC0-B0F8-3000E37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C7A46-B59E-4733-8CCE-67B7BE6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904C-BDAF-45A6-A32D-93639EE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BAB0-9AD1-481A-B4EC-87BC848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2019F-3513-4DE0-87D9-E58735E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FBC09-8C64-4989-B13A-7E5B687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FF0FF-CEB9-4F8E-B4BC-1FBB11FA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7DE76-DD6C-4B06-93FF-5E9303F4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12FF-1A71-41E6-A989-769118FD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1C536-A018-4A64-86E2-1C58FB3B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C47B-C3F3-49D2-81B9-BB14BAB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CAFA-8841-4CB8-AB6D-371C0F2D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0E68-C1D4-49D0-8580-CA17285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52C5A-FBE7-4802-82D1-D734868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55E1F-3D8D-4D12-9E1D-810D562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5635-C3A4-4AE4-B215-EEE1CD1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6AC7D-919A-4E22-BDC5-3603C60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3077C-1B6A-484A-8AFE-98C6BDC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FE7B9-3803-4F5B-9A4D-1F73A53C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7A62F-D1D4-4877-AAE1-4BE42CF7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9DB0E-9043-41FA-92CD-3EEDED69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60381-6A2A-4BEF-805D-2E5376DF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84DB7-0FCF-4E8E-88B9-84ADA9B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BB2B-A769-4E9C-89FD-5B3A3C3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F7FA1-A817-487F-AC11-90B9851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A3D17-BC41-449E-AF8D-0350E75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F736F-1B4A-4999-9ACA-60C2510E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C7567-8E4C-4130-8F33-D29A9CB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EBBFE-0D71-4C71-A805-2997CEA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BC5C-C8AD-4777-812E-A66B672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56AE5-6360-4DE1-B4BA-1CE04F53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9B5C6-9A98-4DB5-84EE-D23175F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F37FC-3145-41DB-8B40-53BC80C9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0D4-CE81-466B-B14C-6ECA8433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93D-ECBA-41C0-AF52-B015423D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D13-2BDC-423E-AE1B-2D6E8D3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831-4401-45A7-9478-4827467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A95-5770-4924-A473-432368AC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5AA-013D-4E5A-9EA0-6486E0F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E48-2D4C-4090-8891-94F4570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0AC-6393-4EFC-8FA2-719F4949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302-AF6E-4CF9-BFC7-58A0001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33E-A6F7-4C17-A1A6-775E6A97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F3F-F057-4C62-A180-FB21FED4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0FD-FDA8-4AA9-B314-B1E0A9AD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BDFF-D209-44FC-9FB5-619DD092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F1A-09F8-49B7-B0C1-C8BB2B4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F4E-9896-4D2C-8621-7E532B4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9CCB-503F-45B0-A6CE-4FE1729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013D-E319-42BE-B36B-62200592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06E2-B2EA-4063-A791-5D987F9F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D901-DADA-4F57-8970-F99E296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4F4-CEE5-4963-BD31-0BAB59A4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2250-F5C3-45FE-AFAB-3C8ADC1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8A7-101F-407F-8B37-D33E0DA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92B7-48DF-4DA5-B968-083A6DF6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8A01-0ADA-46A3-8CFC-D97CD477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49EB-DF32-4256-9E3E-2164862B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11DF-BEFF-4A82-A433-F899BA4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53E3-14B6-43B5-B30D-E090C22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A3BB-C2A6-4154-ADC6-67F2D67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660F-1F66-494A-83FA-0848218D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AEFE-5A79-4638-BA23-4A65F3F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EA42-5E7F-4818-AB03-D4CE921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858B-ED45-40D6-9388-82B7FBAD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B784-FCA6-428A-9B94-5873424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FBB7-25C2-4D79-B89D-4DBB17E4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D52C-F6DF-4A96-96A8-04347948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C3D8-B48E-4539-A58A-71537011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2FC9-5A89-43E4-889B-966B76F3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0123-EA95-46F2-865C-519052E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E0F1-050E-434D-80B8-5FB39A24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5219-3C90-417B-8D89-69565F5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1608-07D1-4671-BB88-A3C334FF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E8C7-ACA8-4CD2-8555-EDC4B7CA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D98F-E166-43E2-8DE5-CC469FF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60B2-47EE-40B8-83F9-9FC02CA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136B-11F2-4DED-9C42-3CFBEAA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930C-A0E2-45A3-8C1C-885264C4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2288-34C3-4F4F-8F7B-772CC0E5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68D9E-15B3-47E5-B8E2-9900CB3D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01C1-A0E0-4A4B-86C2-DED9028A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A9DB-A047-4C7B-80C9-ACF4314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5DEC-8CD5-4970-9331-13897AA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1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2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3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4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F233-3E76-4010-B9DF-227C092B0A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450-332E-43CC-9F94-93CCC9C3E2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869C-E02E-4CCB-823C-A7CC8A442B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7ADE-567C-4D97-AF19-107A16F5C0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F8EC-90A0-401B-BB6B-F0F9D20707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D2F-7CC3-4B42-869C-272B7333CD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3AA2-6899-4EE0-9BA5-A09A2CFDC4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1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2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3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4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4F5-3500-4C53-AC84-A84A33B077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1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2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3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4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1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2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3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4" marL="343080" indent="-343080">
              <a:spcBef>
                <a:spcPts val="700"/>
              </a:spcBef>
              <a:buClr>
                <a:srgbClr val="336699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AC66-AF95-49A0-B178-679F00C29D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CD0-6429-4714-9264-643FEC0DE3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87F-C35F-471F-A774-751444ECE0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BEF-C930-4631-8F39-9E53321146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10Birds28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华文隶书"/>
                <a:ea typeface="华文隶书"/>
              </a:rPr>
              <a:t>金翅雀</a:t>
            </a:r>
            <a:endParaRPr b="1" lang="en-US" sz="11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楷体_GB2312"/>
              </a:rPr>
              <a:t>【葡萄牙】米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楷体_GB2312"/>
              </a:rPr>
              <a:t>托尔加</a:t>
            </a:r>
            <a:endParaRPr b="0" lang="en-US" sz="3000" spc="-1" strike="noStrike">
              <a:solidFill>
                <a:srgbClr val="336699"/>
              </a:solidFill>
              <a:latin typeface="微软雅黑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整体感知"/>
          <p:cNvPicPr/>
          <p:nvPr/>
        </p:nvPicPr>
        <p:blipFill>
          <a:blip r:embed="rId2"/>
          <a:stretch/>
        </p:blipFill>
        <p:spPr>
          <a:xfrm>
            <a:off x="324000" y="836640"/>
            <a:ext cx="3481200" cy="7192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3"/>
          <p:cNvSpPr/>
          <p:nvPr/>
        </p:nvSpPr>
        <p:spPr>
          <a:xfrm>
            <a:off x="466560" y="5229360"/>
            <a:ext cx="76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98600" y="3483000"/>
            <a:ext cx="83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父亲同样爱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684360" y="1846440"/>
            <a:ext cx="70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父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父亲抬起沉重的眼皮，也开始聚精会神地听儿子说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整体感知"/>
          <p:cNvPicPr/>
          <p:nvPr/>
        </p:nvPicPr>
        <p:blipFill>
          <a:blip r:embed="rId2"/>
          <a:stretch/>
        </p:blipFill>
        <p:spPr>
          <a:xfrm>
            <a:off x="971640" y="458640"/>
            <a:ext cx="2612880" cy="540000"/>
          </a:xfrm>
          <a:prstGeom prst="rect">
            <a:avLst/>
          </a:prstGeom>
          <a:ln w="0">
            <a:noFill/>
          </a:ln>
        </p:spPr>
      </p:pic>
      <p:sp>
        <p:nvSpPr>
          <p:cNvPr id="686" name="WordArt 3"/>
          <p:cNvSpPr txBox="1"/>
          <p:nvPr/>
        </p:nvSpPr>
        <p:spPr>
          <a:xfrm>
            <a:off x="1116000" y="1557360"/>
            <a:ext cx="1082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孩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755640" y="21668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很高兴，指手画脚地讲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WordArt 5"/>
          <p:cNvSpPr txBox="1"/>
          <p:nvPr/>
        </p:nvSpPr>
        <p:spPr>
          <a:xfrm>
            <a:off x="1187280" y="2925720"/>
            <a:ext cx="866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beve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父母</a:t>
            </a:r>
            <a:endParaRPr b="1" lang="en-US" sz="1800" spc="1" strike="noStrike">
              <a:ln w="9360">
                <a:solidFill>
                  <a:srgbClr val="cc99ff"/>
                </a:solidFill>
                <a:beve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755640" y="364176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母亲把儿子的话句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入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田，还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个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吻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着可爱的宝贝，父亲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开始吃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整体感知"/>
          <p:cNvPicPr/>
          <p:nvPr/>
        </p:nvPicPr>
        <p:blipFill>
          <a:blip r:embed="rId2"/>
          <a:stretch/>
        </p:blipFill>
        <p:spPr>
          <a:xfrm>
            <a:off x="876240" y="476280"/>
            <a:ext cx="2787840" cy="57636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3"/>
          <p:cNvSpPr/>
          <p:nvPr/>
        </p:nvSpPr>
        <p:spPr>
          <a:xfrm>
            <a:off x="646200" y="1844640"/>
            <a:ext cx="65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这句话中，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46200" y="35114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母亲听得非常认真，全身心地投入。但儿子平淡的开头却无法吸引父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整体感知"/>
          <p:cNvPicPr/>
          <p:nvPr/>
        </p:nvPicPr>
        <p:blipFill>
          <a:blip r:embed="rId2"/>
          <a:stretch/>
        </p:blipFill>
        <p:spPr>
          <a:xfrm>
            <a:off x="878040" y="549360"/>
            <a:ext cx="2923920" cy="604800"/>
          </a:xfrm>
          <a:prstGeom prst="rect">
            <a:avLst/>
          </a:prstGeom>
          <a:ln w="0">
            <a:noFill/>
          </a:ln>
        </p:spPr>
      </p:pic>
      <p:sp>
        <p:nvSpPr>
          <p:cNvPr id="694" name="WordArt 3"/>
          <p:cNvSpPr txBox="1"/>
          <p:nvPr/>
        </p:nvSpPr>
        <p:spPr>
          <a:xfrm>
            <a:off x="1260360" y="155736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孩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1189080" y="22068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孩子没在意，接着讲下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252360" y="2854440"/>
            <a:ext cx="8567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孩子没有注意到父亲的反应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已渐渐沉浸在自己的讲述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整体感知"/>
          <p:cNvPicPr/>
          <p:nvPr/>
        </p:nvPicPr>
        <p:blipFill>
          <a:blip r:embed="rId2"/>
          <a:stretch/>
        </p:blipFill>
        <p:spPr>
          <a:xfrm>
            <a:off x="108000" y="333360"/>
            <a:ext cx="2017800" cy="4158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3"/>
          <p:cNvSpPr/>
          <p:nvPr/>
        </p:nvSpPr>
        <p:spPr>
          <a:xfrm>
            <a:off x="684360" y="1916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又抬起疲倦的眼皮，和母亲一样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心吊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听着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住了呼吸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这句话中，你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WordArt 4"/>
          <p:cNvSpPr txBox="1"/>
          <p:nvPr/>
        </p:nvSpPr>
        <p:spPr>
          <a:xfrm>
            <a:off x="971640" y="981000"/>
            <a:ext cx="101592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父母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00000" y="573408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250920" y="5083200"/>
            <a:ext cx="85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父亲为孩子的安全担忧，紧张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324000" y="1701720"/>
            <a:ext cx="849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3" descr="整体感知"/>
          <p:cNvPicPr/>
          <p:nvPr/>
        </p:nvPicPr>
        <p:blipFill>
          <a:blip r:embed="rId2"/>
          <a:stretch/>
        </p:blipFill>
        <p:spPr>
          <a:xfrm>
            <a:off x="34920" y="189000"/>
            <a:ext cx="2019240" cy="4176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4"/>
          <p:cNvSpPr/>
          <p:nvPr/>
        </p:nvSpPr>
        <p:spPr>
          <a:xfrm>
            <a:off x="755640" y="170172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饶有兴趣地说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这件事的时候，孩子的表情天真无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心境非常坦然，非常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孩子陶醉在自己发现鸟蛋的欣喜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5"/>
          <p:cNvSpPr txBox="1"/>
          <p:nvPr/>
        </p:nvSpPr>
        <p:spPr>
          <a:xfrm>
            <a:off x="1044720" y="765000"/>
            <a:ext cx="1082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孩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2700360" y="2259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课文的最后一段，猜想一下，父亲和母亲会谈些什么？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微笑的小女孩"/>
          <p:cNvPicPr/>
          <p:nvPr/>
        </p:nvPicPr>
        <p:blipFill>
          <a:blip r:embed="rId2"/>
          <a:stretch/>
        </p:blipFill>
        <p:spPr>
          <a:xfrm>
            <a:off x="1042920" y="2997360"/>
            <a:ext cx="1481040" cy="296856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755640" y="620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问题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537B-1DCD-4D97-9A2E-F892AF9F9C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20130619162838-1262826929[1]"/>
          <p:cNvPicPr/>
          <p:nvPr/>
        </p:nvPicPr>
        <p:blipFill>
          <a:blip r:embed="rId2"/>
          <a:stretch/>
        </p:blipFill>
        <p:spPr>
          <a:xfrm>
            <a:off x="108000" y="131760"/>
            <a:ext cx="8947080" cy="6610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20130619163330-607831310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b0df4bb9fa4f2b24203054b6bdba2352[1]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4"/>
          <p:cNvSpPr/>
          <p:nvPr/>
        </p:nvSpPr>
        <p:spPr>
          <a:xfrm>
            <a:off x="205092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755640" y="1628640"/>
            <a:ext cx="67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生字词，积累描写人物心理活动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有感情地朗读课文，体会父母在孩子讲述过程中的心境变化，品味父母对孩子的关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学习作者运用心理描写刻画人物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973080" y="477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755640" y="2708280"/>
            <a:ext cx="72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uā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橄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ǎnlǎ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iā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uá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ēn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ǐ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ān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茸茸 暖烘烘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战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兢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īn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不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ān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真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不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读一读"/>
          <p:cNvPicPr/>
          <p:nvPr/>
        </p:nvPicPr>
        <p:blipFill>
          <a:blip r:embed="rId2"/>
          <a:stretch/>
        </p:blipFill>
        <p:spPr>
          <a:xfrm>
            <a:off x="1042920" y="404640"/>
            <a:ext cx="16956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3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小女孩"/>
          <p:cNvPicPr/>
          <p:nvPr/>
        </p:nvPicPr>
        <p:blipFill>
          <a:blip r:embed="rId2"/>
          <a:stretch/>
        </p:blipFill>
        <p:spPr>
          <a:xfrm>
            <a:off x="250920" y="2565360"/>
            <a:ext cx="1966680" cy="327996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1552680" y="1628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文中孩子讲述了自己的经历，这是一个怎样的故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初读感知"/>
          <p:cNvPicPr/>
          <p:nvPr/>
        </p:nvPicPr>
        <p:blipFill>
          <a:blip r:embed="rId3"/>
          <a:stretch/>
        </p:blipFill>
        <p:spPr>
          <a:xfrm>
            <a:off x="826920" y="765000"/>
            <a:ext cx="2419560" cy="5860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1592280" y="45115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现鸟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3392640" y="46562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975120" y="45115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开始爬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983200" y="4673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6632640" y="45370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现鸟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2112840" y="551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2708280" y="53830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亲吻鸟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4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小女孩"/>
          <p:cNvPicPr/>
          <p:nvPr/>
        </p:nvPicPr>
        <p:blipFill>
          <a:blip r:embed="rId2"/>
          <a:stretch/>
        </p:blipFill>
        <p:spPr>
          <a:xfrm>
            <a:off x="539640" y="2708280"/>
            <a:ext cx="1967040" cy="32796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2340000" y="2149560"/>
            <a:ext cx="547200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孩子讲述这件事情的过程中，孩子的心境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父母的心情又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4" descr="初读感知"/>
          <p:cNvPicPr/>
          <p:nvPr/>
        </p:nvPicPr>
        <p:blipFill>
          <a:blip r:embed="rId3"/>
          <a:stretch/>
        </p:blipFill>
        <p:spPr>
          <a:xfrm>
            <a:off x="611280" y="1197000"/>
            <a:ext cx="2592360" cy="627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2"/>
          <p:cNvSpPr txBox="1"/>
          <p:nvPr/>
        </p:nvSpPr>
        <p:spPr>
          <a:xfrm>
            <a:off x="1403280" y="1341360"/>
            <a:ext cx="86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孩子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6" name="Picture 3" descr="整体感知"/>
          <p:cNvPicPr/>
          <p:nvPr/>
        </p:nvPicPr>
        <p:blipFill>
          <a:blip r:embed="rId2"/>
          <a:stretch/>
        </p:blipFill>
        <p:spPr>
          <a:xfrm>
            <a:off x="755640" y="476280"/>
            <a:ext cx="2376360" cy="490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4"/>
          <p:cNvSpPr/>
          <p:nvPr/>
        </p:nvSpPr>
        <p:spPr>
          <a:xfrm>
            <a:off x="684360" y="1774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发现了一个鸟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WordArt 5"/>
          <p:cNvSpPr txBox="1"/>
          <p:nvPr/>
        </p:nvSpPr>
        <p:spPr>
          <a:xfrm>
            <a:off x="1332000" y="2565360"/>
            <a:ext cx="1081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父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250920" y="3114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亲：抬起头，瞪大黑黑的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684360" y="393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母亲非常关心自己的孩子，无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小的  事情都能牵动她的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0:31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6:26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