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es.wav" ContentType="audio/x-wav"/>
  <Override PartName="/ppt/media/image2.jpeg" ContentType="image/jpeg"/>
  <Override PartName="/ppt/media/curve.wav" ContentType="audio/x-wav"/>
  <Override PartName="/ppt/media/image3.png" ContentType="image/png"/>
  <Override PartName="/ppt/media/laser.wav" ContentType="audio/x-wav"/>
  <Override PartName="/ppt/media/untie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385-76DC-4F52-B853-CB0AC72E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BAC-F1D2-4A4B-9CCF-9EF9781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A5F-8D34-4B12-B302-32DAD392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9AF-DE79-400A-868B-AE8E7A8E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9B9-DA12-45A9-B989-3542E15B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CFA-6EFB-4299-B5B6-6E52BE2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6D1-6B82-4A4F-A3DF-4F4C5E4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7B2-EBFD-4BFF-9C24-949DF82C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2E0-804E-4146-A050-3236C32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FFC-5090-4FBC-B8B6-60C2CF8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68-B587-4BDF-9F77-9462A24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E0B-06DA-4254-97CC-26703FE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293371-8BB9-4008-B3D9-7A3F45DE1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urv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glass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unti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urv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urv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474920" y="981000"/>
            <a:ext cx="60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2451240" y="2421000"/>
            <a:ext cx="4032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latin typeface="华文中宋"/>
              </a:rPr>
              <a:t>礁盘</a:t>
            </a:r>
            <a:endParaRPr b="1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latin typeface="华文中宋"/>
              <a:ea typeface="华文中宋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82700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en-GB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  <p:sndAc>
      <p:stSnd>
        <p:snd r:embed="rId2" name="curv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7B2F-B259-4C57-8AFE-96C6775783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720720" y="647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Arial"/>
              </a:rPr>
              <a:t>理解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31640" y="1227240"/>
            <a:ext cx="74152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纳闷：因为疑惑而发闷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稀奇：稀少而惊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沉吟：（遇到复杂或疑难的事）迟疑不决，低声自语。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喃喃：象声词，连续不断地小声说话的声音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环视：向周围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147600" y="1224000"/>
            <a:ext cx="885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小岛是一个怎么样的岛？礁盘南边有什么秘密？菜地的土、菜种是从哪儿来的？你从中体会到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16000" y="574560"/>
            <a:ext cx="2160360" cy="57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glass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647640" y="9288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339933"/>
                </a:solidFill>
                <a:latin typeface="楷体_GB2312"/>
              </a:rPr>
              <a:t>读第</a:t>
            </a:r>
            <a:r>
              <a:rPr b="1" lang="en-US" sz="4000" spc="-1" strike="noStrike">
                <a:solidFill>
                  <a:srgbClr val="339933"/>
                </a:solidFill>
                <a:latin typeface="楷体_GB2312"/>
              </a:rPr>
              <a:t>11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——</a:t>
            </a:r>
            <a:r>
              <a:rPr b="1" lang="en-US" sz="4000" spc="-1" strike="noStrike">
                <a:solidFill>
                  <a:srgbClr val="339933"/>
                </a:solidFill>
                <a:latin typeface="楷体_GB2312"/>
              </a:rPr>
              <a:t>25</a:t>
            </a:r>
            <a:r>
              <a:rPr b="1" lang="zh-CN" sz="4000" spc="-1" strike="noStrike">
                <a:solidFill>
                  <a:srgbClr val="339933"/>
                </a:solidFill>
                <a:latin typeface="楷体_GB2312"/>
              </a:rPr>
              <a:t>自然段，思考：将军为什么变了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9933"/>
                </a:solidFill>
                <a:latin typeface="楷体_GB2312"/>
              </a:rPr>
              <a:t>脸色</a:t>
            </a: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339933"/>
                </a:solidFill>
                <a:latin typeface="楷体_GB2312"/>
              </a:rPr>
              <a:t>？将军看到什么，说了什么，又做了什么？从中你又体会到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2160720" cy="57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3" name="unti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4"/>
          <p:cNvSpPr/>
          <p:nvPr/>
        </p:nvSpPr>
        <p:spPr>
          <a:xfrm>
            <a:off x="234000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"/>
          <p:cNvSpPr/>
          <p:nvPr/>
        </p:nvSpPr>
        <p:spPr>
          <a:xfrm>
            <a:off x="861840" y="165564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6600" spc="-1" strike="noStrike">
                <a:solidFill>
                  <a:srgbClr val="339933"/>
                </a:solidFill>
                <a:latin typeface="楷体_GB2312"/>
              </a:rPr>
              <a:t>阅读第</a:t>
            </a:r>
            <a:r>
              <a:rPr b="1" lang="en-US" sz="6600" spc="-1" strike="noStrike">
                <a:solidFill>
                  <a:srgbClr val="339933"/>
                </a:solidFill>
                <a:latin typeface="楷体_GB2312"/>
              </a:rPr>
              <a:t>26</a:t>
            </a:r>
            <a:r>
              <a:rPr b="1" lang="zh-CN" sz="6600" spc="-1" strike="noStrike">
                <a:solidFill>
                  <a:srgbClr val="339933"/>
                </a:solidFill>
                <a:latin typeface="楷体_GB2312"/>
              </a:rPr>
              <a:t>自然段，思考</a:t>
            </a:r>
            <a:r>
              <a:rPr b="1" lang="en-GB" sz="6600" spc="-1" strike="noStrike">
                <a:solidFill>
                  <a:srgbClr val="339933"/>
                </a:solidFill>
                <a:latin typeface="楷体_GB2312"/>
              </a:rPr>
              <a:t>:</a:t>
            </a:r>
            <a:r>
              <a:rPr b="1" lang="zh-CN" sz="6600" spc="-1" strike="noStrike">
                <a:solidFill>
                  <a:srgbClr val="339933"/>
                </a:solidFill>
                <a:latin typeface="楷体_GB2312"/>
              </a:rPr>
              <a:t>将军这一举动的含义是什么？</a:t>
            </a:r>
            <a:r>
              <a:rPr b="1" lang="zh-CN" sz="5400" spc="-1" strike="noStrike">
                <a:solidFill>
                  <a:srgbClr val="339933"/>
                </a:solidFill>
                <a:latin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47640" y="1006560"/>
            <a:ext cx="2160720" cy="57780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31880" y="1081080"/>
            <a:ext cx="73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spcBef>
                <a:spcPts val="17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从课文中哪些句子可以看出海岛环境的艰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楷体_GB2312"/>
              </a:rPr>
              <a:t>a.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</a:rPr>
              <a:t>小岛其实是个礁盘</a:t>
            </a:r>
            <a:r>
              <a:rPr b="1" lang="en-US" sz="36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</a:rPr>
              <a:t>甚至没有土，就驮着一群海军陆战队的士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楷体_GB2312"/>
              </a:rPr>
              <a:t>b. 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</a:rPr>
              <a:t>将军上岛在算这儿最凉快的时候，也就是十来摄氏度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楷体_GB2312"/>
              </a:rPr>
              <a:t>c. 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</a:rPr>
              <a:t>植物是无法生长的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9900cc"/>
                </a:solidFill>
                <a:latin typeface="楷体_GB2312"/>
              </a:rPr>
              <a:t>满嘴起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2160720" cy="57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3" name="cur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20720" y="974880"/>
            <a:ext cx="7380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9900cc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课文中那些地方可以看出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们爱岛，艰苦创造建设海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</a:rPr>
              <a:t>a.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只见礁石围成一圈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竟露出一片绿绿的菜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</a:rPr>
              <a:t>b.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战士们用大棚种菜的办法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从老家一口袋一口袋背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</a:rPr>
              <a:t>c.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将军顺着看去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竟构成了一幅中国地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</a:rPr>
              <a:t>d.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将军离开礁盘时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行了一个军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2016360" cy="540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3" name="lase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39640" y="122400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课文中哪些句子体现出了将士们之间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楷体_GB2312"/>
              </a:rPr>
              <a:t>厚的情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</a:rPr>
              <a:t>a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全国大半的省份</a:t>
            </a:r>
            <a:r>
              <a:rPr b="1" lang="en-US" sz="32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而是一个长辈。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</a:rPr>
              <a:t>b.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饭堂里，</a:t>
            </a:r>
            <a:r>
              <a:rPr b="1" lang="en-US" sz="32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孩子们，我谢谢你们</a:t>
            </a:r>
            <a:r>
              <a:rPr b="1" lang="en-US" sz="32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楷体_GB2312"/>
              </a:rPr>
              <a:t>c.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将军看到了饭桌边上的一桶汤，</a:t>
            </a:r>
            <a:r>
              <a:rPr b="1" lang="en-US" sz="3200" spc="-1" strike="noStrike">
                <a:solidFill>
                  <a:srgbClr val="9900cc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舀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</a:rPr>
              <a:t>碗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2016000" cy="5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3" name="laser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1403280" y="2276640"/>
            <a:ext cx="67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</a:rPr>
              <a:t>1.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</a:rPr>
              <a:t>自读课文，谈谈自己读后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</a:rPr>
              <a:t>2.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</a:rPr>
              <a:t>试着给驻守边关、海防前线的解放军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</a:rPr>
              <a:t>叔写一封慰问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763640" y="836640"/>
            <a:ext cx="2305080" cy="56844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"/>
          <p:cNvSpPr/>
          <p:nvPr/>
        </p:nvSpPr>
        <p:spPr>
          <a:xfrm>
            <a:off x="2120760" y="50418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curv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1:55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3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