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8CEE-28E6-498F-9F91-A06583859CCA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8CF1-A812-4C78-BC96-C0EFDF8A0CFD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C56-06F9-4BD8-83B7-B3FC929C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B22-9F21-4930-A3DC-6EF80612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B09-6408-4C09-81AE-630464DB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737-4CA4-43E1-A239-6A69580C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6C6-1F26-4C47-823B-30167E4C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750-AC61-4AF3-A285-E912CD52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DA7-DD0E-4DA2-803B-DAD3431E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23A-10F9-435A-A8FE-83D7AD05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565-9EEE-488B-A87E-9E19F90E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8E4-F225-4496-B0C9-6DAE78EE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42E-3D5A-43D6-BBFA-D6DB1DC2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B81-344E-4193-948F-0608AF90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9DCA-A773-400B-A0D7-C8ECCF98B758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http://image.baidu.com/i?ct=503316480&amp;z=&amp;tn=baiduimagedetail&amp;word=%CE&#698;%C5&#892;&#428;&amp;in=3281&amp;cl=2&amp;lm=-1&amp;pn=99&amp;rn=1&amp;di=91932282810&amp;ln=2000&amp;fr=&amp;fm=detail&amp;fmq=1323857497562_R&amp;ic=0&amp;s=&amp;se=1&amp;sme=0&amp;tab=&amp;width=&amp;height=&amp;face=0&amp;is=&amp;istype=2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"/>
          <p:cNvSpPr txBox="1"/>
          <p:nvPr/>
        </p:nvSpPr>
        <p:spPr>
          <a:xfrm>
            <a:off x="1488960" y="1773360"/>
            <a:ext cx="6124680" cy="21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00000"/>
                </a:solidFill>
                <a:latin typeface="华文行楷"/>
              </a:rPr>
              <a:t>军犬黑子</a:t>
            </a:r>
            <a:endParaRPr b="1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c00000"/>
              </a:solidFill>
              <a:latin typeface="华文行楷"/>
              <a:ea typeface="华文行楷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04680" y="5300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727200" y="0"/>
            <a:ext cx="3232440" cy="4078440"/>
            <a:chOff x="-727200" y="0"/>
            <a:chExt cx="3232440" cy="4078440"/>
          </a:xfrm>
        </p:grpSpPr>
        <p:pic>
          <p:nvPicPr>
            <p:cNvPr id="74" name="Picture 3" descr="u=2870860315,4015261519&amp;fm=0&amp;gp=4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505240" cy="37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4"/>
            <p:cNvSpPr/>
            <p:nvPr/>
          </p:nvSpPr>
          <p:spPr>
            <a:xfrm>
              <a:off x="-727200" y="2133720"/>
              <a:ext cx="1521000" cy="19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是伙伴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5"/>
          <p:cNvGrpSpPr/>
          <p:nvPr/>
        </p:nvGrpSpPr>
        <p:grpSpPr>
          <a:xfrm>
            <a:off x="2411280" y="3429000"/>
            <a:ext cx="4032360" cy="3429000"/>
            <a:chOff x="2411280" y="3429000"/>
            <a:chExt cx="4032360" cy="3429000"/>
          </a:xfrm>
        </p:grpSpPr>
        <p:pic>
          <p:nvPicPr>
            <p:cNvPr id="77" name="Picture 6" descr="u=3744496983,1052335732&amp;fm=0&amp;gp=20"/>
            <p:cNvPicPr/>
            <p:nvPr/>
          </p:nvPicPr>
          <p:blipFill>
            <a:blip r:embed="rId2"/>
            <a:stretch/>
          </p:blipFill>
          <p:spPr>
            <a:xfrm>
              <a:off x="2411280" y="3448080"/>
              <a:ext cx="3672000" cy="34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7"/>
            <p:cNvSpPr/>
            <p:nvPr/>
          </p:nvSpPr>
          <p:spPr>
            <a:xfrm>
              <a:off x="3995640" y="3429000"/>
              <a:ext cx="244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是知己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8"/>
          <p:cNvGrpSpPr/>
          <p:nvPr/>
        </p:nvGrpSpPr>
        <p:grpSpPr>
          <a:xfrm>
            <a:off x="3995640" y="0"/>
            <a:ext cx="5148360" cy="3456000"/>
            <a:chOff x="3995640" y="0"/>
            <a:chExt cx="5148360" cy="3456000"/>
          </a:xfrm>
        </p:grpSpPr>
        <p:pic>
          <p:nvPicPr>
            <p:cNvPr id="80" name="Picture 9" descr="u=4226940114,675496308&amp;fm=0&amp;gp=20"/>
            <p:cNvPicPr/>
            <p:nvPr/>
          </p:nvPicPr>
          <p:blipFill>
            <a:blip r:embed="rId3"/>
            <a:stretch/>
          </p:blipFill>
          <p:spPr>
            <a:xfrm>
              <a:off x="3995640" y="0"/>
              <a:ext cx="514836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0"/>
            <p:cNvSpPr/>
            <p:nvPr/>
          </p:nvSpPr>
          <p:spPr>
            <a:xfrm>
              <a:off x="6622920" y="1268280"/>
              <a:ext cx="252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是亲人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34920" y="34920"/>
            <a:ext cx="4330800" cy="50832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" descr=""/>
          <p:cNvPicPr/>
          <p:nvPr/>
        </p:nvPicPr>
        <p:blipFill>
          <a:blip r:embed="rId2"/>
          <a:stretch/>
        </p:blipFill>
        <p:spPr>
          <a:xfrm>
            <a:off x="4565520" y="39600"/>
            <a:ext cx="4540320" cy="5104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684360" y="5157720"/>
            <a:ext cx="252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威风凛凛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虎视眈眈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目光如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724360" y="5300640"/>
            <a:ext cx="196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沮丧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精神委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2916360" y="5516640"/>
            <a:ext cx="2519280" cy="720720"/>
          </a:xfrm>
          <a:prstGeom prst="rightArrow">
            <a:avLst>
              <a:gd name="adj1" fmla="val 50000"/>
              <a:gd name="adj2" fmla="val 113539"/>
            </a:avLst>
          </a:prstGeom>
          <a:solidFill>
            <a:srgbClr val="ff99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543480" y="5091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2.baidu.com/it/u=3689354268,2241224213&amp;fm=0&amp;gp=0.jpg">
            <a:hlinkClick r:id="rId3"/>
          </p:cNvPr>
          <p:cNvPicPr/>
          <p:nvPr/>
        </p:nvPicPr>
        <p:blipFill>
          <a:blip r:embed="rId4"/>
          <a:stretch/>
        </p:blipFill>
        <p:spPr>
          <a:xfrm rot="20603400">
            <a:off x="3995640" y="4292280"/>
            <a:ext cx="673200" cy="124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图片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3"/>
          <p:cNvGrpSpPr/>
          <p:nvPr/>
        </p:nvGrpSpPr>
        <p:grpSpPr>
          <a:xfrm>
            <a:off x="380880" y="228600"/>
            <a:ext cx="2209680" cy="1143000"/>
            <a:chOff x="380880" y="228600"/>
            <a:chExt cx="2209680" cy="1143000"/>
          </a:xfrm>
        </p:grpSpPr>
        <p:sp>
          <p:nvSpPr>
            <p:cNvPr id="91" name="AutoShape 4"/>
            <p:cNvSpPr/>
            <p:nvPr/>
          </p:nvSpPr>
          <p:spPr>
            <a:xfrm>
              <a:off x="380880" y="228600"/>
              <a:ext cx="2209680" cy="1143000"/>
            </a:xfrm>
            <a:prstGeom prst="cloudCallout">
              <a:avLst>
                <a:gd name="adj1" fmla="val 115300"/>
                <a:gd name="adj2" fmla="val 42222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533160" y="53316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学习生字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6"/>
          <p:cNvSpPr/>
          <p:nvPr/>
        </p:nvSpPr>
        <p:spPr>
          <a:xfrm>
            <a:off x="407880" y="1905120"/>
            <a:ext cx="8382240" cy="40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zhèng   chān             cè                   xi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令我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怔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进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一测          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yù                  kuì              piàn                zhō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加              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溃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骗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局         无动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349200" y="198108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沮丧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灰心失望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无动于衷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心里一点也没有触动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滂沱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本文形容哭得很厉害，眼泪、鼻涕流得很多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委靡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精神不振，意志消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80880" y="457200"/>
            <a:ext cx="2666880" cy="1066680"/>
            <a:chOff x="380880" y="457200"/>
            <a:chExt cx="2666880" cy="1066680"/>
          </a:xfrm>
        </p:grpSpPr>
        <p:sp>
          <p:nvSpPr>
            <p:cNvPr id="97" name="AutoShape 5"/>
            <p:cNvSpPr/>
            <p:nvPr/>
          </p:nvSpPr>
          <p:spPr>
            <a:xfrm>
              <a:off x="380880" y="457200"/>
              <a:ext cx="2666880" cy="1066680"/>
            </a:xfrm>
            <a:prstGeom prst="cloudCallout">
              <a:avLst>
                <a:gd name="adj1" fmla="val 115300"/>
                <a:gd name="adj2" fmla="val 42222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564480" y="741240"/>
              <a:ext cx="229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理解词语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08200" y="3006360"/>
            <a:ext cx="786744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一部分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1-2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由军犬训导员引出狗的故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二部分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黑子被戏弄的全过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三部分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黑子被戏弄后的举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四部分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点明主旨，动物也是有尊严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1757520" y="914400"/>
            <a:ext cx="5886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分析课文结构，划分层次</a:t>
            </a:r>
            <a:endParaRPr b="1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173160" y="380880"/>
            <a:ext cx="20523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初读感知</a:t>
            </a:r>
            <a:endParaRPr b="1" lang="en-US" sz="4400" spc="-1" strike="noStrike">
              <a:ln w="0">
                <a:noFill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2009042317510264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9"/>
          <p:cNvSpPr txBox="1"/>
          <p:nvPr/>
        </p:nvSpPr>
        <p:spPr>
          <a:xfrm>
            <a:off x="2843280" y="0"/>
            <a:ext cx="345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找一找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692280" y="1484280"/>
            <a:ext cx="7907040" cy="3384720"/>
            <a:chOff x="692280" y="1484280"/>
            <a:chExt cx="7907040" cy="3384720"/>
          </a:xfrm>
        </p:grpSpPr>
        <p:sp>
          <p:nvSpPr>
            <p:cNvPr id="105" name="Text Box 4"/>
            <p:cNvSpPr/>
            <p:nvPr/>
          </p:nvSpPr>
          <p:spPr>
            <a:xfrm>
              <a:off x="692280" y="1484280"/>
              <a:ext cx="79070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r>
                <a:rPr b="1" lang="zh-CN" sz="3600" spc="-1" strike="noStrike">
                  <a:solidFill>
                    <a:srgbClr val="cc00cc"/>
                  </a:solidFill>
                  <a:latin typeface="Arial"/>
                </a:rPr>
                <a:t>、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黑子几次找出了小偷？每次它都是怎样找的？（用“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——”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从文章中标出有关句子）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cc00"/>
                  </a:solidFill>
                  <a:latin typeface="Arial"/>
                </a:rPr>
                <a:t>2</a:t>
              </a:r>
              <a:r>
                <a:rPr b="1" lang="zh-CN" sz="3600" spc="-1" strike="noStrike">
                  <a:solidFill>
                    <a:srgbClr val="00cc00"/>
                  </a:solidFill>
                  <a:latin typeface="Arial"/>
                </a:rPr>
                <a:t>、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黑子的情感有哪些变化？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用“   ”标出黑子情感变化的词语。）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10"/>
            <p:cNvSpPr/>
            <p:nvPr/>
          </p:nvSpPr>
          <p:spPr>
            <a:xfrm>
              <a:off x="2095200" y="4581360"/>
              <a:ext cx="430920" cy="287640"/>
            </a:xfrm>
            <a:prstGeom prst="triangle">
              <a:avLst>
                <a:gd name="adj" fmla="val 50000"/>
              </a:avLst>
            </a:prstGeom>
            <a:solidFill>
              <a:srgbClr val="ebf7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5" descr="2009042317563315"/>
          <p:cNvPicPr/>
          <p:nvPr/>
        </p:nvPicPr>
        <p:blipFill>
          <a:blip r:embed="rId1"/>
          <a:stretch/>
        </p:blipFill>
        <p:spPr>
          <a:xfrm>
            <a:off x="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4">
            <a:hlinkClick r:id="rId2" action="ppaction://hlinksldjump"/>
          </p:cNvPr>
          <p:cNvSpPr/>
          <p:nvPr/>
        </p:nvSpPr>
        <p:spPr>
          <a:xfrm>
            <a:off x="1905120" y="228600"/>
            <a:ext cx="3124080" cy="762120"/>
          </a:xfrm>
          <a:prstGeom prst="cloudCallout">
            <a:avLst>
              <a:gd name="adj1" fmla="val 77134"/>
              <a:gd name="adj2" fmla="val 98125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黑子找小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52280" y="1143000"/>
            <a:ext cx="762120" cy="1676520"/>
          </a:xfrm>
          <a:prstGeom prst="wedgeEllipseCallout">
            <a:avLst>
              <a:gd name="adj1" fmla="val 85625"/>
              <a:gd name="adj2" fmla="val 1382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52280" y="3505320"/>
            <a:ext cx="762120" cy="1676160"/>
          </a:xfrm>
          <a:prstGeom prst="wedgeEllipseCallout">
            <a:avLst>
              <a:gd name="adj1" fmla="val 87500"/>
              <a:gd name="adj2" fmla="val 1268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二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413000" y="1413000"/>
            <a:ext cx="6842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黑子过去了，嗅嗅这个，闻闻那个，没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少劲就叼住了“小偷”的裤腿，将它拉出了队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1116000" y="3860640"/>
            <a:ext cx="752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黑子相信了训导员，又回去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它经过了谨慎的辨别，还是把那人叼了出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017960" y="1916280"/>
            <a:ext cx="3824280" cy="360"/>
            <a:chOff x="4017960" y="1916280"/>
            <a:chExt cx="3824280" cy="360"/>
          </a:xfrm>
        </p:grpSpPr>
        <p:sp>
          <p:nvSpPr>
            <p:cNvPr id="114" name="Line 18"/>
            <p:cNvSpPr/>
            <p:nvPr/>
          </p:nvSpPr>
          <p:spPr>
            <a:xfrm>
              <a:off x="4017960" y="1916280"/>
              <a:ext cx="3824280" cy="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017960" y="1916280"/>
              <a:ext cx="3824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468440" y="2708280"/>
            <a:ext cx="6649920" cy="360"/>
            <a:chOff x="1468440" y="2708280"/>
            <a:chExt cx="6649920" cy="360"/>
          </a:xfrm>
        </p:grpSpPr>
        <p:sp>
          <p:nvSpPr>
            <p:cNvPr id="117" name="Line 19"/>
            <p:cNvSpPr/>
            <p:nvPr/>
          </p:nvSpPr>
          <p:spPr>
            <a:xfrm>
              <a:off x="1468440" y="2708280"/>
              <a:ext cx="6649920" cy="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1468440" y="2708280"/>
              <a:ext cx="6649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27440" y="4437000"/>
            <a:ext cx="3768840" cy="360"/>
            <a:chOff x="4627440" y="4437000"/>
            <a:chExt cx="3768840" cy="360"/>
          </a:xfrm>
        </p:grpSpPr>
        <p:sp>
          <p:nvSpPr>
            <p:cNvPr id="120" name="Line 20"/>
            <p:cNvSpPr/>
            <p:nvPr/>
          </p:nvSpPr>
          <p:spPr>
            <a:xfrm>
              <a:off x="4627440" y="4437000"/>
              <a:ext cx="3768840" cy="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627440" y="4437000"/>
              <a:ext cx="3768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45960" y="4941360"/>
            <a:ext cx="4322880" cy="360"/>
            <a:chOff x="1245960" y="4941360"/>
            <a:chExt cx="4322880" cy="360"/>
          </a:xfrm>
        </p:grpSpPr>
        <p:sp>
          <p:nvSpPr>
            <p:cNvPr id="123" name="Line 21"/>
            <p:cNvSpPr/>
            <p:nvPr/>
          </p:nvSpPr>
          <p:spPr>
            <a:xfrm>
              <a:off x="1246320" y="4941720"/>
              <a:ext cx="4322520" cy="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 rot="10800000">
              <a:off x="1245960" y="4941360"/>
              <a:ext cx="4322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22"/>
          <p:cNvSpPr/>
          <p:nvPr/>
        </p:nvSpPr>
        <p:spPr>
          <a:xfrm>
            <a:off x="3992040" y="2781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信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4044240" y="5235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迷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9" descr="101212222625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/>
          <p:cNvSpPr/>
          <p:nvPr/>
        </p:nvSpPr>
        <p:spPr>
          <a:xfrm>
            <a:off x="0" y="260280"/>
            <a:ext cx="1908000" cy="720720"/>
          </a:xfrm>
          <a:prstGeom prst="wedgeEllipseCallout">
            <a:avLst>
              <a:gd name="adj1" fmla="val 56888"/>
              <a:gd name="adj2" fmla="val 5374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三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39640" y="1052640"/>
            <a:ext cx="83901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觉得就是它黑子愈加迷惑了，只好又走回去。这次，黑子用了很长的时间去嗅辨。最后，它站在那个“小偷”的腿边转过头来，望着训导员，意思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觉得就是他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36480" y="2060640"/>
            <a:ext cx="3103560" cy="360"/>
            <a:chOff x="636480" y="2060640"/>
            <a:chExt cx="3103560" cy="360"/>
          </a:xfrm>
        </p:grpSpPr>
        <p:sp>
          <p:nvSpPr>
            <p:cNvPr id="131" name="Line 18"/>
            <p:cNvSpPr/>
            <p:nvPr/>
          </p:nvSpPr>
          <p:spPr>
            <a:xfrm>
              <a:off x="636480" y="2060640"/>
              <a:ext cx="3103560" cy="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636480" y="2060640"/>
              <a:ext cx="3103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19"/>
          <p:cNvSpPr/>
          <p:nvPr/>
        </p:nvSpPr>
        <p:spPr>
          <a:xfrm>
            <a:off x="304920" y="4005360"/>
            <a:ext cx="862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黑子沮丧极了，在每人的脚边都停一会儿，看看这个人像不像“小偷”，又扭过头去看看训导员的眼色，试图从中寻找一点点什么迹象或什么表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后，当它捕捉到了训导员的眼色在一刹那间的微小变化时，它把站在身边的一个人叼了出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0" y="3141720"/>
            <a:ext cx="1476360" cy="647640"/>
            <a:chOff x="0" y="3141720"/>
            <a:chExt cx="1476360" cy="647640"/>
          </a:xfrm>
        </p:grpSpPr>
        <p:sp>
          <p:nvSpPr>
            <p:cNvPr id="135" name="AutoShape 21"/>
            <p:cNvSpPr/>
            <p:nvPr/>
          </p:nvSpPr>
          <p:spPr>
            <a:xfrm>
              <a:off x="0" y="3141720"/>
              <a:ext cx="1476360" cy="647640"/>
            </a:xfrm>
            <a:prstGeom prst="wedgeEllipseCallout">
              <a:avLst>
                <a:gd name="adj1" fmla="val 54194"/>
                <a:gd name="adj2" fmla="val 75490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2"/>
            <p:cNvSpPr/>
            <p:nvPr/>
          </p:nvSpPr>
          <p:spPr>
            <a:xfrm>
              <a:off x="223200" y="321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第四次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8118360" y="1557360"/>
            <a:ext cx="741600" cy="360"/>
            <a:chOff x="8118360" y="1557360"/>
            <a:chExt cx="741600" cy="360"/>
          </a:xfrm>
        </p:grpSpPr>
        <p:sp>
          <p:nvSpPr>
            <p:cNvPr id="138" name="Line 23"/>
            <p:cNvSpPr/>
            <p:nvPr/>
          </p:nvSpPr>
          <p:spPr>
            <a:xfrm>
              <a:off x="8118360" y="1557360"/>
              <a:ext cx="741600" cy="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8118360" y="1557360"/>
              <a:ext cx="74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073400" y="5516640"/>
            <a:ext cx="4710240" cy="360"/>
            <a:chOff x="4073400" y="5516640"/>
            <a:chExt cx="4710240" cy="360"/>
          </a:xfrm>
        </p:grpSpPr>
        <p:sp>
          <p:nvSpPr>
            <p:cNvPr id="141" name="Line 24"/>
            <p:cNvSpPr/>
            <p:nvPr/>
          </p:nvSpPr>
          <p:spPr>
            <a:xfrm>
              <a:off x="4073400" y="5516640"/>
              <a:ext cx="4710240" cy="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4073400" y="5516640"/>
              <a:ext cx="4710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47720" y="6021360"/>
            <a:ext cx="7593120" cy="360"/>
            <a:chOff x="747720" y="6021360"/>
            <a:chExt cx="7593120" cy="360"/>
          </a:xfrm>
        </p:grpSpPr>
        <p:sp>
          <p:nvSpPr>
            <p:cNvPr id="144" name="Line 25"/>
            <p:cNvSpPr/>
            <p:nvPr/>
          </p:nvSpPr>
          <p:spPr>
            <a:xfrm>
              <a:off x="747720" y="6021360"/>
              <a:ext cx="7593120" cy="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747720" y="6021360"/>
              <a:ext cx="759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31"/>
          <p:cNvSpPr/>
          <p:nvPr/>
        </p:nvSpPr>
        <p:spPr>
          <a:xfrm>
            <a:off x="4157640" y="105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愈加迷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1454040" y="4029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沮丧极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009042317510264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969840" y="2133720"/>
            <a:ext cx="681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训导员几次否定了黑子？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﹏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文章中标出训导员的态度和语言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2843280" y="0"/>
            <a:ext cx="345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找一找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523880" y="189000"/>
            <a:ext cx="6477120" cy="1595880"/>
          </a:xfrm>
          <a:prstGeom prst="rect">
            <a:avLst/>
          </a:prstGeom>
          <a:noFill/>
          <a:ln w="9360">
            <a:solidFill>
              <a:srgbClr val="797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训导员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使劲儿晃了晃脑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对黑子说：不！不是它！再去找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是它！再去找！训导员坚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523880" y="2276640"/>
            <a:ext cx="6477120" cy="581400"/>
          </a:xfrm>
          <a:prstGeom prst="rect">
            <a:avLst/>
          </a:prstGeom>
          <a:noFill/>
          <a:ln w="9360">
            <a:solidFill>
              <a:srgbClr val="797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！不对！训导员还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摇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再去找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79680" y="3573360"/>
            <a:ext cx="6478560" cy="520560"/>
          </a:xfrm>
          <a:prstGeom prst="rect">
            <a:avLst/>
          </a:prstGeom>
          <a:noFill/>
          <a:ln w="9360">
            <a:solidFill>
              <a:srgbClr val="797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！不是它！绝对不是！训导员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吼，且表情严厉起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360360" y="189000"/>
            <a:ext cx="762120" cy="1676160"/>
          </a:xfrm>
          <a:prstGeom prst="wedgeEllipseCallout">
            <a:avLst>
              <a:gd name="adj1" fmla="val 100962"/>
              <a:gd name="adj2" fmla="val 388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304920" y="1844640"/>
            <a:ext cx="761760" cy="1676520"/>
          </a:xfrm>
          <a:prstGeom prst="wedgeEllipseCallout">
            <a:avLst>
              <a:gd name="adj1" fmla="val 102083"/>
              <a:gd name="adj2" fmla="val 161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二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193680" y="3284640"/>
            <a:ext cx="763560" cy="1676160"/>
          </a:xfrm>
          <a:prstGeom prst="wedgeEllipseCallout">
            <a:avLst>
              <a:gd name="adj1" fmla="val 139583"/>
              <a:gd name="adj2" fmla="val -142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三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3962520" y="5877000"/>
            <a:ext cx="4495680" cy="761760"/>
          </a:xfrm>
          <a:prstGeom prst="cloudCallout">
            <a:avLst>
              <a:gd name="adj1" fmla="val -74574"/>
              <a:gd name="adj2" fmla="val -76250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训导员的否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193680" y="4724280"/>
            <a:ext cx="763560" cy="1676520"/>
          </a:xfrm>
          <a:prstGeom prst="wedgeEllipseCallout">
            <a:avLst>
              <a:gd name="adj1" fmla="val 121796"/>
              <a:gd name="adj2" fmla="val -1240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四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579680" y="4941720"/>
            <a:ext cx="6478560" cy="581400"/>
          </a:xfrm>
          <a:prstGeom prst="rect">
            <a:avLst/>
          </a:prstGeom>
          <a:noFill/>
          <a:ln w="9360">
            <a:solidFill>
              <a:srgbClr val="797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在它们里头！马上找出来！训导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838080" y="13716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同学们，你们知道狗又被称为什么吗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1" name="Picture 3" descr="军犬黑子2"/>
          <p:cNvPicPr/>
          <p:nvPr/>
        </p:nvPicPr>
        <p:blipFill>
          <a:blip r:embed="rId1"/>
          <a:stretch/>
        </p:blipFill>
        <p:spPr>
          <a:xfrm>
            <a:off x="2362320" y="2797200"/>
            <a:ext cx="411480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143000" y="19810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能在军队中执行特殊任务的犬又叫什么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6477120" y="5410080"/>
            <a:ext cx="1828800" cy="1067040"/>
          </a:xfrm>
          <a:prstGeom prst="wedgeEllipseCallout">
            <a:avLst>
              <a:gd name="adj1" fmla="val -52342"/>
              <a:gd name="adj2" fmla="val -40328"/>
            </a:avLst>
          </a:prstGeom>
          <a:solidFill>
            <a:srgbClr val="7979a5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犬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62940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1205212D31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2251800" y="476280"/>
            <a:ext cx="2235240" cy="2531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军犬黑子是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什么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情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放弃那个“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偷”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 rot="2068800">
            <a:off x="4355640" y="3357720"/>
            <a:ext cx="1297080" cy="485640"/>
          </a:xfrm>
          <a:prstGeom prst="rightArrow">
            <a:avLst>
              <a:gd name="adj1" fmla="val 50000"/>
              <a:gd name="adj2" fmla="val 86791"/>
            </a:avLst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5651640" y="1989000"/>
            <a:ext cx="3241440" cy="3141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军犬黑子是在训导员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再否定、催促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放弃那个“小偷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1" descr="20100410152222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8"/>
          <p:cNvSpPr txBox="1"/>
          <p:nvPr/>
        </p:nvSpPr>
        <p:spPr>
          <a:xfrm>
            <a:off x="179280" y="0"/>
            <a:ext cx="309744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找一找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66" name="Group 14"/>
          <p:cNvGrpSpPr/>
          <p:nvPr/>
        </p:nvGrpSpPr>
        <p:grpSpPr>
          <a:xfrm>
            <a:off x="1579680" y="1773360"/>
            <a:ext cx="5984640" cy="1922400"/>
            <a:chOff x="1579680" y="1773360"/>
            <a:chExt cx="5984640" cy="1922400"/>
          </a:xfrm>
        </p:grpSpPr>
        <p:sp>
          <p:nvSpPr>
            <p:cNvPr id="167" name="Text Box 3"/>
            <p:cNvSpPr/>
            <p:nvPr/>
          </p:nvSpPr>
          <p:spPr>
            <a:xfrm>
              <a:off x="1579680" y="1773360"/>
              <a:ext cx="5984640" cy="1922400"/>
            </a:xfrm>
            <a:prstGeom prst="rect">
              <a:avLst/>
            </a:prstGeom>
            <a:noFill/>
            <a:ln w="93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、当黑子明白这是一场骗局时，表现是怎样的？（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用“    ”从文章中标出有关句子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）作者是从哪几个方面来描写黑子遭遇戏弄后的痛苦的？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347440" y="2852640"/>
              <a:ext cx="498600" cy="360"/>
              <a:chOff x="5347440" y="2852640"/>
              <a:chExt cx="498600" cy="360"/>
            </a:xfrm>
          </p:grpSpPr>
          <p:sp>
            <p:nvSpPr>
              <p:cNvPr id="169" name="Line 12"/>
              <p:cNvSpPr/>
              <p:nvPr/>
            </p:nvSpPr>
            <p:spPr>
              <a:xfrm>
                <a:off x="5347440" y="2852640"/>
                <a:ext cx="4986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5347440" y="2852640"/>
                <a:ext cx="49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4" descr="10121223123382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755640" y="1197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黑子明白了这是一场骗局时，它极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痛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嗷叫一声，大滴热泪流了出来，之后，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沉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垂下了头，一步一步地走开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27040" y="3789360"/>
            <a:ext cx="7696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黑子挣脱了训导员的搂抱，一步一步地走到了营外的一座土岗下，找了个背风的地方趴下了。此后好几天，黑子不吃不喝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神情委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任训导员怎么哄，也始终不肯原谅他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457200" y="152280"/>
            <a:ext cx="3047760" cy="914040"/>
            <a:chOff x="457200" y="152280"/>
            <a:chExt cx="3047760" cy="914040"/>
          </a:xfrm>
        </p:grpSpPr>
        <p:sp>
          <p:nvSpPr>
            <p:cNvPr id="175" name="AutoShape 5"/>
            <p:cNvSpPr/>
            <p:nvPr/>
          </p:nvSpPr>
          <p:spPr>
            <a:xfrm>
              <a:off x="457200" y="152280"/>
              <a:ext cx="3047760" cy="914040"/>
            </a:xfrm>
            <a:prstGeom prst="cloudCallout">
              <a:avLst>
                <a:gd name="adj1" fmla="val 115300"/>
                <a:gd name="adj2" fmla="val 42222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667080" y="193320"/>
              <a:ext cx="262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黑子的表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7"/>
          <p:cNvSpPr/>
          <p:nvPr/>
        </p:nvSpPr>
        <p:spPr>
          <a:xfrm>
            <a:off x="415800" y="5667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1136520" y="2492280"/>
            <a:ext cx="6016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黑子不理他，低着头往营外走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469800" y="3068640"/>
            <a:ext cx="6915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黑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动于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看也不看他一眼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13400" y="2060640"/>
            <a:ext cx="2494080" cy="703440"/>
            <a:chOff x="5513400" y="2060640"/>
            <a:chExt cx="2494080" cy="703440"/>
          </a:xfrm>
        </p:grpSpPr>
        <p:sp>
          <p:nvSpPr>
            <p:cNvPr id="181" name="Line 15"/>
            <p:cNvSpPr/>
            <p:nvPr/>
          </p:nvSpPr>
          <p:spPr>
            <a:xfrm>
              <a:off x="5513400" y="2060640"/>
              <a:ext cx="24940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5513400" y="2060640"/>
              <a:ext cx="2494080" cy="70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241800" y="2997360"/>
            <a:ext cx="2493720" cy="703440"/>
            <a:chOff x="3241800" y="2997360"/>
            <a:chExt cx="2493720" cy="703440"/>
          </a:xfrm>
        </p:grpSpPr>
        <p:sp>
          <p:nvSpPr>
            <p:cNvPr id="184" name="Line 16"/>
            <p:cNvSpPr/>
            <p:nvPr/>
          </p:nvSpPr>
          <p:spPr>
            <a:xfrm>
              <a:off x="3241800" y="2997360"/>
              <a:ext cx="24937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3241800" y="2997360"/>
              <a:ext cx="2493720" cy="70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079640" y="4365720"/>
            <a:ext cx="6818040" cy="703440"/>
            <a:chOff x="1079640" y="4365720"/>
            <a:chExt cx="6818040" cy="703440"/>
          </a:xfrm>
        </p:grpSpPr>
        <p:sp>
          <p:nvSpPr>
            <p:cNvPr id="187" name="Line 17"/>
            <p:cNvSpPr/>
            <p:nvPr/>
          </p:nvSpPr>
          <p:spPr>
            <a:xfrm>
              <a:off x="1079640" y="4365720"/>
              <a:ext cx="68180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1079640" y="4365720"/>
              <a:ext cx="6818040" cy="70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14400" y="4797360"/>
            <a:ext cx="5541840" cy="703440"/>
            <a:chOff x="914400" y="4797360"/>
            <a:chExt cx="5541840" cy="703440"/>
          </a:xfrm>
        </p:grpSpPr>
        <p:sp>
          <p:nvSpPr>
            <p:cNvPr id="190" name="Line 18"/>
            <p:cNvSpPr/>
            <p:nvPr/>
          </p:nvSpPr>
          <p:spPr>
            <a:xfrm>
              <a:off x="914400" y="4797360"/>
              <a:ext cx="55418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914400" y="4797360"/>
              <a:ext cx="5541840" cy="70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136520" y="2421000"/>
            <a:ext cx="2494080" cy="703440"/>
            <a:chOff x="1136520" y="2421000"/>
            <a:chExt cx="2494080" cy="703440"/>
          </a:xfrm>
        </p:grpSpPr>
        <p:sp>
          <p:nvSpPr>
            <p:cNvPr id="193" name="Line 19"/>
            <p:cNvSpPr/>
            <p:nvPr/>
          </p:nvSpPr>
          <p:spPr>
            <a:xfrm>
              <a:off x="1136520" y="2421000"/>
              <a:ext cx="24940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1136520" y="2421000"/>
              <a:ext cx="2494080" cy="70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523880" y="5300640"/>
            <a:ext cx="1827360" cy="703440"/>
            <a:chOff x="1523880" y="5300640"/>
            <a:chExt cx="1827360" cy="703440"/>
          </a:xfrm>
        </p:grpSpPr>
        <p:sp>
          <p:nvSpPr>
            <p:cNvPr id="196" name="Line 20"/>
            <p:cNvSpPr/>
            <p:nvPr/>
          </p:nvSpPr>
          <p:spPr>
            <a:xfrm>
              <a:off x="1523880" y="5300640"/>
              <a:ext cx="18273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523880" y="5300640"/>
              <a:ext cx="1827360" cy="70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408480" y="3645000"/>
            <a:ext cx="2493720" cy="703440"/>
            <a:chOff x="3408480" y="3645000"/>
            <a:chExt cx="2493720" cy="703440"/>
          </a:xfrm>
        </p:grpSpPr>
        <p:sp>
          <p:nvSpPr>
            <p:cNvPr id="199" name="Line 21"/>
            <p:cNvSpPr/>
            <p:nvPr/>
          </p:nvSpPr>
          <p:spPr>
            <a:xfrm>
              <a:off x="3408480" y="3645000"/>
              <a:ext cx="24937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408480" y="3645000"/>
              <a:ext cx="2493720" cy="70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"/>
                            </p:stCondLst>
                            <p:childTnLst>
                              <p:par>
                                <p:cTn id="372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1"/>
                            </p:stCondLst>
                            <p:childTnLst>
                              <p:par>
                                <p:cTn id="384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99640" y="1988640"/>
            <a:ext cx="74170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作者从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神态、动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个方面来写黑子遭到欺骗后的痛苦的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文本框 1"/>
          <p:cNvSpPr/>
          <p:nvPr/>
        </p:nvSpPr>
        <p:spPr>
          <a:xfrm>
            <a:off x="74520" y="4795920"/>
            <a:ext cx="70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 rot="20431200">
            <a:off x="406440" y="933480"/>
            <a:ext cx="298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7710000"/>
                </a:gradFill>
                <a:latin typeface="宋体"/>
              </a:rPr>
              <a:t>想一想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7710000"/>
              </a:gradFill>
              <a:latin typeface="宋体"/>
              <a:ea typeface="宋体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619280" y="2519280"/>
            <a:ext cx="7076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假如现在的黑子会说话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你觉得它会对训导员说些什么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20100410152222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1523880" y="1773360"/>
            <a:ext cx="6042240" cy="1008360"/>
          </a:xfrm>
          <a:prstGeom prst="rect">
            <a:avLst/>
          </a:prstGeom>
          <a:noFill/>
          <a:ln w="9360">
            <a:solidFill>
              <a:srgbClr val="797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训导员看到黑子的痛苦时是怎么做的？心情是怎样的？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79280" y="0"/>
            <a:ext cx="309744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找一找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7" descr="201142911593482898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2"/>
          <p:cNvSpPr/>
          <p:nvPr/>
        </p:nvSpPr>
        <p:spPr>
          <a:xfrm>
            <a:off x="304920" y="1628640"/>
            <a:ext cx="728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黑子！黑子！你上哪儿去！训导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害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，追上去问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803160" y="2852640"/>
            <a:ext cx="69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黑子！黑子！对不起！训导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360360" y="371628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黑子！别生气！我这是跟你闹着玩儿呢！训导员扑上去，紧紧地搂住了黑子，在它面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热泪滂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138240" y="0"/>
            <a:ext cx="3657600" cy="762120"/>
          </a:xfrm>
          <a:prstGeom prst="cloudCallout">
            <a:avLst>
              <a:gd name="adj1" fmla="val 106912"/>
              <a:gd name="adj2" fmla="val 128125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训导员的表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60360" y="3429000"/>
            <a:ext cx="8028000" cy="26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个生命都是有感情的、有尊严的，我们要学会尊重生命，这不仅仅是对待自己的同类，更包括对待那些无言的生命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60360" y="0"/>
            <a:ext cx="2015640" cy="1152000"/>
            <a:chOff x="360360" y="0"/>
            <a:chExt cx="2015640" cy="1152000"/>
          </a:xfrm>
        </p:grpSpPr>
        <p:sp>
          <p:nvSpPr>
            <p:cNvPr id="215" name="AutoShape 5"/>
            <p:cNvSpPr/>
            <p:nvPr/>
          </p:nvSpPr>
          <p:spPr>
            <a:xfrm>
              <a:off x="360360" y="0"/>
              <a:ext cx="2015640" cy="1152000"/>
            </a:xfrm>
            <a:prstGeom prst="horizontalScroll">
              <a:avLst>
                <a:gd name="adj" fmla="val 12500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648000" y="192240"/>
              <a:ext cx="134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a50021"/>
                  </a:solidFill>
                  <a:latin typeface="Arial"/>
                </a:rPr>
                <a:t>总结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7"/>
          <p:cNvSpPr/>
          <p:nvPr/>
        </p:nvSpPr>
        <p:spPr>
          <a:xfrm>
            <a:off x="304920" y="1341360"/>
            <a:ext cx="61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人们这才发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哪怕是只狗，也是要尊严的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1887480" y="256536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同意作者的看法吗？你是怎么想的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07CE-FC47-43B1-8848-5260F54A0B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2520" y="1947960"/>
            <a:ext cx="808992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你对军犬有哪些了解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军犬被官兵称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无言的战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”，被视为官兵的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第二生命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”，可见军犬与官兵有着非同一般的感情，今天我们就来认识一条名叫黑子的军犬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u=2652355888,2667907553&amp;fm=0&amp;gp=32"/>
          <p:cNvPicPr/>
          <p:nvPr/>
        </p:nvPicPr>
        <p:blipFill>
          <a:blip r:embed="rId1"/>
          <a:stretch/>
        </p:blipFill>
        <p:spPr>
          <a:xfrm>
            <a:off x="0" y="0"/>
            <a:ext cx="4643280" cy="384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u=3156260037,3043905749&amp;fm=0&amp;gp=22"/>
          <p:cNvPicPr/>
          <p:nvPr/>
        </p:nvPicPr>
        <p:blipFill>
          <a:blip r:embed="rId2"/>
          <a:stretch/>
        </p:blipFill>
        <p:spPr>
          <a:xfrm>
            <a:off x="0" y="3575160"/>
            <a:ext cx="4643280" cy="3282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523400" y="260280"/>
            <a:ext cx="3720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99"/>
                </a:solidFill>
                <a:latin typeface="Arial"/>
                <a:ea typeface="楷体_GB2312"/>
              </a:rPr>
              <a:t>如父子般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99"/>
                </a:solidFill>
                <a:latin typeface="Arial"/>
                <a:ea typeface="楷体_GB2312"/>
              </a:rPr>
              <a:t>         </a:t>
            </a:r>
            <a:r>
              <a:rPr b="1" lang="zh-CN" sz="6600" spc="-1" strike="noStrike">
                <a:solidFill>
                  <a:srgbClr val="ff3399"/>
                </a:solidFill>
                <a:latin typeface="Arial"/>
                <a:ea typeface="楷体_GB2312"/>
              </a:rPr>
              <a:t>相依相伴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7"/>
          <p:cNvSpPr/>
          <p:nvPr/>
        </p:nvSpPr>
        <p:spPr>
          <a:xfrm>
            <a:off x="5148360" y="4292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u=2993760820,3923326416&amp;fm=0&amp;gp=32"/>
          <p:cNvPicPr/>
          <p:nvPr/>
        </p:nvPicPr>
        <p:blipFill>
          <a:blip r:embed="rId1"/>
          <a:stretch/>
        </p:blipFill>
        <p:spPr>
          <a:xfrm>
            <a:off x="0" y="0"/>
            <a:ext cx="3409920" cy="537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u=3121129710,313781969&amp;fm=0&amp;gp=36"/>
          <p:cNvPicPr/>
          <p:nvPr/>
        </p:nvPicPr>
        <p:blipFill>
          <a:blip r:embed="rId2"/>
          <a:stretch/>
        </p:blipFill>
        <p:spPr>
          <a:xfrm>
            <a:off x="4427640" y="3790800"/>
            <a:ext cx="4716360" cy="3067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635280" y="1125360"/>
            <a:ext cx="5400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如兄弟般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亲密无间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u=812109186,3845778270&amp;fm=4&amp;gp=44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u=2863828334,1872507321&amp;fm=0&amp;gp=40"/>
          <p:cNvPicPr/>
          <p:nvPr/>
        </p:nvPicPr>
        <p:blipFill>
          <a:blip r:embed="rId2"/>
          <a:stretch/>
        </p:blipFill>
        <p:spPr>
          <a:xfrm>
            <a:off x="0" y="0"/>
            <a:ext cx="4427640" cy="3429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589040" y="3755880"/>
            <a:ext cx="51116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如恋人般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           </a:t>
            </a: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难舍难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u=1936310716,2046314115&amp;fm=0&amp;gp=8"/>
          <p:cNvPicPr/>
          <p:nvPr/>
        </p:nvPicPr>
        <p:blipFill>
          <a:blip r:embed="rId1"/>
          <a:stretch/>
        </p:blipFill>
        <p:spPr>
          <a:xfrm>
            <a:off x="468360" y="981000"/>
            <a:ext cx="4037040" cy="4095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4917240" y="333360"/>
            <a:ext cx="33998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训练时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配合默契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u=2782217534,42607163&amp;fm=0&amp;gp=40"/>
          <p:cNvPicPr/>
          <p:nvPr/>
        </p:nvPicPr>
        <p:blipFill>
          <a:blip r:embed="rId1"/>
          <a:stretch/>
        </p:blipFill>
        <p:spPr>
          <a:xfrm>
            <a:off x="2697120" y="189000"/>
            <a:ext cx="3745080" cy="3557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116000" y="3860640"/>
            <a:ext cx="7272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战场上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                </a:t>
            </a: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同生共死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t"/>
          <p:cNvPicPr/>
          <p:nvPr/>
        </p:nvPicPr>
        <p:blipFill>
          <a:blip r:embed="rId1"/>
          <a:stretch/>
        </p:blipFill>
        <p:spPr>
          <a:xfrm>
            <a:off x="539640" y="333360"/>
            <a:ext cx="2419560" cy="364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u=3041680913,1503146900&amp;fm=0&amp;gp=42"/>
          <p:cNvPicPr/>
          <p:nvPr/>
        </p:nvPicPr>
        <p:blipFill>
          <a:blip r:embed="rId2"/>
          <a:stretch/>
        </p:blipFill>
        <p:spPr>
          <a:xfrm>
            <a:off x="395280" y="4433760"/>
            <a:ext cx="2881440" cy="1746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4086360" y="836640"/>
            <a:ext cx="3078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伤离别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         </a:t>
            </a: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泪洒衣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05:30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2:11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