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1.gif" ContentType="image/gif"/>
  <Override PartName="/ppt/media/image14.png" ContentType="image/png"/>
  <Override PartName="/ppt/media/image10.jpeg" ContentType="image/jpeg"/>
  <Override PartName="/ppt/media/image8.jpeg" ContentType="image/jpeg"/>
  <Override PartName="/ppt/media/image6.gif" ContentType="image/gif"/>
  <Override PartName="/ppt/media/image5.gif" ContentType="image/gif"/>
  <Override PartName="/ppt/media/image19.png" ContentType="image/png"/>
  <Override PartName="/ppt/media/image3.jpeg" ContentType="image/jpeg"/>
  <Override PartName="/ppt/media/image17.gif" ContentType="image/gif"/>
  <Override PartName="/ppt/media/image15.jpeg" ContentType="image/jpeg"/>
  <Override PartName="/ppt/media/image18.gif" ContentType="image/gif"/>
  <Override PartName="/ppt/media/image13.jpeg" ContentType="image/jpeg"/>
  <Override PartName="/ppt/media/image4.png" ContentType="image/png"/>
  <Override PartName="/ppt/media/image1.jpeg" ContentType="image/jpeg"/>
  <Override PartName="/ppt/media/suction.wav" ContentType="audio/x-wav"/>
  <Override PartName="/ppt/media/image2.png" ContentType="image/png"/>
  <Override PartName="/ppt/media/image9.jpeg" ContentType="image/jpe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09CC-F6BE-425E-942F-8A2F160164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626D-C5FD-4214-A7E9-6AF2BC3E59E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08F-309B-480A-8D6E-6B16986E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3F6-B464-4200-8835-542E0773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714-7FEE-4EDB-93B5-EB456575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600-277E-41F8-87DB-82452D6E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436C-7C2D-4094-99C9-F8B98759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266D-8B80-4E18-8299-CAA07B6C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4B5C-8157-4FB1-B90C-0206EA5D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3B75-9C12-4D61-A63F-172B3F60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4EFA-BC29-43EA-B150-FB94DC6F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BD5D-D9E3-4F51-B3E5-FFC9A79F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8A35-129D-4780-A515-062C5A81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3C2-90C6-4F74-A323-EE1874AB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57D1-550A-4644-95AB-F650332E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3219-DB05-4BC9-BF4B-CF5E86B9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A179-E168-49B0-B18D-640E8DF5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7EBC-5323-4F56-BE71-843F11DA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5278-3198-4BDB-9F3A-4C2EBD7C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569-9ECC-4340-961A-1DA35119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0B2-D9DA-4BBE-ABD5-1E2B090D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CDE-9423-449B-8DD2-3DB244CB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281-814A-4CC5-B30D-75E77024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1A5-4BEC-44D4-8881-CA75C8E8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C02-1947-4BBE-BF1A-720FAEEB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C19-57E9-4567-A0AA-DB85B446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E79A-B2C2-4F9D-9A78-A8E540830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0373-8B96-4381-BE90-ADE4456622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3.jpeg"/><Relationship Id="rId2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audio" Target="../media/chimes.wav"/><Relationship Id="rId6" Type="http://schemas.openxmlformats.org/officeDocument/2006/relationships/audio" Target="../media/suction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5.gif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5.gif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6.gif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9"/>
          <p:cNvSpPr/>
          <p:nvPr/>
        </p:nvSpPr>
        <p:spPr>
          <a:xfrm>
            <a:off x="2882160" y="8366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金色的草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30"/>
          <p:cNvSpPr/>
          <p:nvPr/>
        </p:nvSpPr>
        <p:spPr>
          <a:xfrm>
            <a:off x="1472400" y="580536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46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247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4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55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2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74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钓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77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278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5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86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3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05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绒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08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309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6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317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4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36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察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39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340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2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7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348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5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67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瓣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70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371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5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8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379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6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98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掌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1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02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9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410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5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7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29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劲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32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33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4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0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441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48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60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1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拢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63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64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8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9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0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1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472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3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7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8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79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91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2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朝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94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495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2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503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4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7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0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2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5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526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1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2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3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534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5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6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9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41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53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4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装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020848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1116000" y="2492280"/>
            <a:ext cx="71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592"/>
                </a:solidFill>
                <a:latin typeface="楷体_GB2312"/>
                <a:ea typeface="楷体_GB2312"/>
              </a:rPr>
              <a:t>（    ）的草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393840" y="5337000"/>
            <a:ext cx="85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56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557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0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1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3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4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565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7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2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84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5" name="Text Box 42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些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同学们，你们见过蒲公英吗？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请介绍一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5508720" y="1628640"/>
            <a:ext cx="3635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蒲公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多年生草本植物，全株含白色乳状汁液，叶子倒披针形，羽状分裂，花黄色，头状花序，结瘦果，褐色，有白色软毛。根茎都可入药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4" descr="pu gong ying"/>
          <p:cNvPicPr/>
          <p:nvPr/>
        </p:nvPicPr>
        <p:blipFill>
          <a:blip r:embed="rId1"/>
          <a:stretch/>
        </p:blipFill>
        <p:spPr>
          <a:xfrm>
            <a:off x="0" y="1628640"/>
            <a:ext cx="5219640" cy="522936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  <p:sndAc>
      <p:stSnd>
        <p:snd r:embed="rId2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4" descr="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3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" descr="caoyuancaodi2_184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5"/>
          <p:cNvSpPr/>
          <p:nvPr/>
        </p:nvSpPr>
        <p:spPr>
          <a:xfrm>
            <a:off x="133200" y="0"/>
            <a:ext cx="9010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们住在乡下，窗前是一大片草地。草地上长满了蒲公英。当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蒲公英盛开的时候，这片草地就变成了金色的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611280" y="60213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看看图中这两个娘子分别是谁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他们在做什么  看情况读课文    下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803880" y="619560"/>
            <a:ext cx="126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色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1942200" y="1987920"/>
            <a:ext cx="126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色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3137400" y="3356640"/>
            <a:ext cx="126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色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4331160" y="4753440"/>
            <a:ext cx="126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色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6" descr="2"/>
          <p:cNvPicPr/>
          <p:nvPr/>
        </p:nvPicPr>
        <p:blipFill>
          <a:blip r:embed="rId1"/>
          <a:stretch/>
        </p:blipFill>
        <p:spPr>
          <a:xfrm>
            <a:off x="0" y="3257640"/>
            <a:ext cx="2720880" cy="360036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7"/>
          <p:cNvSpPr/>
          <p:nvPr/>
        </p:nvSpPr>
        <p:spPr>
          <a:xfrm>
            <a:off x="3003120" y="619560"/>
            <a:ext cx="16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阳光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4082400" y="1987920"/>
            <a:ext cx="16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麦浪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9"/>
          <p:cNvSpPr/>
          <p:nvPr/>
        </p:nvSpPr>
        <p:spPr>
          <a:xfrm>
            <a:off x="5277960" y="3385080"/>
            <a:ext cx="16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童年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0"/>
          <p:cNvSpPr/>
          <p:nvPr/>
        </p:nvSpPr>
        <p:spPr>
          <a:xfrm>
            <a:off x="6460560" y="4796280"/>
            <a:ext cx="16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草地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2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604" name="Group 3"/>
            <p:cNvGrpSpPr/>
            <p:nvPr/>
          </p:nvGrpSpPr>
          <p:grpSpPr>
            <a:xfrm>
              <a:off x="0" y="0"/>
              <a:ext cx="1828080" cy="6857640"/>
              <a:chOff x="0" y="0"/>
              <a:chExt cx="1828080" cy="6857640"/>
            </a:xfrm>
          </p:grpSpPr>
          <p:pic>
            <p:nvPicPr>
              <p:cNvPr id="605" name="Picture 4" descr="BGFL016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Picture 5" descr="BGFL016"/>
              <p:cNvPicPr/>
              <p:nvPr/>
            </p:nvPicPr>
            <p:blipFill>
              <a:blip r:embed="rId2"/>
              <a:stretch/>
            </p:blipFill>
            <p:spPr>
              <a:xfrm>
                <a:off x="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7" name="Picture 6" descr="BGFL016"/>
              <p:cNvPicPr/>
              <p:nvPr/>
            </p:nvPicPr>
            <p:blipFill>
              <a:blip r:embed="rId3"/>
              <a:stretch/>
            </p:blipFill>
            <p:spPr>
              <a:xfrm>
                <a:off x="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8" name="Picture 7" descr="BGFL016"/>
              <p:cNvPicPr/>
              <p:nvPr/>
            </p:nvPicPr>
            <p:blipFill>
              <a:blip r:embed="rId4"/>
              <a:stretch/>
            </p:blipFill>
            <p:spPr>
              <a:xfrm>
                <a:off x="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9" name="Group 8"/>
            <p:cNvGrpSpPr/>
            <p:nvPr/>
          </p:nvGrpSpPr>
          <p:grpSpPr>
            <a:xfrm>
              <a:off x="1828440" y="0"/>
              <a:ext cx="1828440" cy="6857640"/>
              <a:chOff x="1828440" y="0"/>
              <a:chExt cx="1828440" cy="6857640"/>
            </a:xfrm>
          </p:grpSpPr>
          <p:pic>
            <p:nvPicPr>
              <p:cNvPr id="610" name="Picture 9" descr="BGFL016"/>
              <p:cNvPicPr/>
              <p:nvPr/>
            </p:nvPicPr>
            <p:blipFill>
              <a:blip r:embed="rId5"/>
              <a:stretch/>
            </p:blipFill>
            <p:spPr>
              <a:xfrm>
                <a:off x="18284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1" name="Picture 10" descr="BGFL016"/>
              <p:cNvPicPr/>
              <p:nvPr/>
            </p:nvPicPr>
            <p:blipFill>
              <a:blip r:embed="rId6"/>
              <a:stretch/>
            </p:blipFill>
            <p:spPr>
              <a:xfrm>
                <a:off x="18284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11" descr="BGFL016"/>
              <p:cNvPicPr/>
              <p:nvPr/>
            </p:nvPicPr>
            <p:blipFill>
              <a:blip r:embed="rId7"/>
              <a:stretch/>
            </p:blipFill>
            <p:spPr>
              <a:xfrm>
                <a:off x="18284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3" name="Picture 12" descr="BGFL016"/>
              <p:cNvPicPr/>
              <p:nvPr/>
            </p:nvPicPr>
            <p:blipFill>
              <a:blip r:embed="rId8"/>
              <a:stretch/>
            </p:blipFill>
            <p:spPr>
              <a:xfrm>
                <a:off x="18284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4" name="Group 13"/>
            <p:cNvGrpSpPr/>
            <p:nvPr/>
          </p:nvGrpSpPr>
          <p:grpSpPr>
            <a:xfrm>
              <a:off x="3657600" y="0"/>
              <a:ext cx="1828080" cy="6857640"/>
              <a:chOff x="3657600" y="0"/>
              <a:chExt cx="1828080" cy="6857640"/>
            </a:xfrm>
          </p:grpSpPr>
          <p:pic>
            <p:nvPicPr>
              <p:cNvPr id="615" name="Picture 14" descr="BGFL016"/>
              <p:cNvPicPr/>
              <p:nvPr/>
            </p:nvPicPr>
            <p:blipFill>
              <a:blip r:embed="rId9"/>
              <a:stretch/>
            </p:blipFill>
            <p:spPr>
              <a:xfrm>
                <a:off x="365760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6" name="Picture 15" descr="BGFL016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7" name="Picture 16" descr="BGFL016"/>
              <p:cNvPicPr/>
              <p:nvPr/>
            </p:nvPicPr>
            <p:blipFill>
              <a:blip r:embed="rId11"/>
              <a:stretch/>
            </p:blipFill>
            <p:spPr>
              <a:xfrm>
                <a:off x="365760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8" name="Picture 17" descr="BGFL016"/>
              <p:cNvPicPr/>
              <p:nvPr/>
            </p:nvPicPr>
            <p:blipFill>
              <a:blip r:embed="rId12"/>
              <a:stretch/>
            </p:blipFill>
            <p:spPr>
              <a:xfrm>
                <a:off x="365760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9" name="Group 18"/>
            <p:cNvGrpSpPr/>
            <p:nvPr/>
          </p:nvGrpSpPr>
          <p:grpSpPr>
            <a:xfrm>
              <a:off x="5486040" y="0"/>
              <a:ext cx="1828080" cy="6857640"/>
              <a:chOff x="5486040" y="0"/>
              <a:chExt cx="1828080" cy="6857640"/>
            </a:xfrm>
          </p:grpSpPr>
          <p:pic>
            <p:nvPicPr>
              <p:cNvPr id="620" name="Picture 19" descr="BGFL016"/>
              <p:cNvPicPr/>
              <p:nvPr/>
            </p:nvPicPr>
            <p:blipFill>
              <a:blip r:embed="rId13"/>
              <a:stretch/>
            </p:blipFill>
            <p:spPr>
              <a:xfrm>
                <a:off x="548604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1" name="Picture 20" descr="BGFL016"/>
              <p:cNvPicPr/>
              <p:nvPr/>
            </p:nvPicPr>
            <p:blipFill>
              <a:blip r:embed="rId14"/>
              <a:stretch/>
            </p:blipFill>
            <p:spPr>
              <a:xfrm>
                <a:off x="548604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2" name="Picture 21" descr="BGFL016"/>
              <p:cNvPicPr/>
              <p:nvPr/>
            </p:nvPicPr>
            <p:blipFill>
              <a:blip r:embed="rId15"/>
              <a:stretch/>
            </p:blipFill>
            <p:spPr>
              <a:xfrm>
                <a:off x="548604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3" name="Picture 22" descr="BGFL016"/>
              <p:cNvPicPr/>
              <p:nvPr/>
            </p:nvPicPr>
            <p:blipFill>
              <a:blip r:embed="rId16"/>
              <a:stretch/>
            </p:blipFill>
            <p:spPr>
              <a:xfrm>
                <a:off x="548604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4" name="Group 23"/>
            <p:cNvGrpSpPr/>
            <p:nvPr/>
          </p:nvGrpSpPr>
          <p:grpSpPr>
            <a:xfrm>
              <a:off x="7314840" y="0"/>
              <a:ext cx="1828440" cy="6857640"/>
              <a:chOff x="7314840" y="0"/>
              <a:chExt cx="1828440" cy="6857640"/>
            </a:xfrm>
          </p:grpSpPr>
          <p:pic>
            <p:nvPicPr>
              <p:cNvPr id="625" name="Picture 24" descr="BGFL016"/>
              <p:cNvPicPr/>
              <p:nvPr/>
            </p:nvPicPr>
            <p:blipFill>
              <a:blip r:embed="rId17"/>
              <a:stretch/>
            </p:blipFill>
            <p:spPr>
              <a:xfrm>
                <a:off x="73148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6" name="Picture 25" descr="BGFL016"/>
              <p:cNvPicPr/>
              <p:nvPr/>
            </p:nvPicPr>
            <p:blipFill>
              <a:blip r:embed="rId18"/>
              <a:stretch/>
            </p:blipFill>
            <p:spPr>
              <a:xfrm>
                <a:off x="73148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7" name="Picture 26" descr="BGFL016"/>
              <p:cNvPicPr/>
              <p:nvPr/>
            </p:nvPicPr>
            <p:blipFill>
              <a:blip r:embed="rId19"/>
              <a:stretch/>
            </p:blipFill>
            <p:spPr>
              <a:xfrm>
                <a:off x="73148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8" name="Picture 27" descr="BGFL016"/>
              <p:cNvPicPr/>
              <p:nvPr/>
            </p:nvPicPr>
            <p:blipFill>
              <a:blip r:embed="rId20"/>
              <a:stretch/>
            </p:blipFill>
            <p:spPr>
              <a:xfrm>
                <a:off x="73148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29" name="Picture 28" descr="未标题-1 拷贝"/>
          <p:cNvPicPr/>
          <p:nvPr/>
        </p:nvPicPr>
        <p:blipFill>
          <a:blip r:embed="rId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30"/>
          <p:cNvSpPr/>
          <p:nvPr/>
        </p:nvSpPr>
        <p:spPr>
          <a:xfrm>
            <a:off x="684360" y="595008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板书   玩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0"/>
          <p:cNvSpPr/>
          <p:nvPr/>
        </p:nvSpPr>
        <p:spPr>
          <a:xfrm>
            <a:off x="9360" y="104760"/>
            <a:ext cx="9134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阅读要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考图中这两个孩子分别是谁？他们在做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圈一圈他们玩耍时的动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5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和弟弟常常在草地上玩耍。有一次，弟弟跑在我前面，我装着一本正经的样子，喊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廖沙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回过头来，我就使劲一吹，把蒲公英的绒毛吹到他脸上。弟弟也假装打哈欠，把蒲公英的绒毛朝我脸上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9051840" y="37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4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和弟弟常常在草地上玩耍。有一次，弟弟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跑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前面，我装着一本正经的样子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廖沙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回过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，我就使劲一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把蒲公英的绒毛吹到他脸上。弟弟也假装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哈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把蒲公英的绒毛朝我脸上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"/>
          <p:cNvSpPr/>
          <p:nvPr/>
        </p:nvSpPr>
        <p:spPr>
          <a:xfrm>
            <a:off x="9051840" y="37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4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5"/>
          <p:cNvSpPr/>
          <p:nvPr/>
        </p:nvSpPr>
        <p:spPr>
          <a:xfrm>
            <a:off x="0" y="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和弟弟常常在草地上玩耍。有一次，弟弟跑在我前面，我装着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本正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样子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廖沙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回过头来，我就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使劲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把蒲公英的绒毛吹到他脸上。弟弟也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假装打哈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把蒲公英的绒毛朝我脸上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6"/>
          <p:cNvSpPr/>
          <p:nvPr/>
        </p:nvSpPr>
        <p:spPr>
          <a:xfrm>
            <a:off x="0" y="5373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本正经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形容很规矩、很庄重的样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9051840" y="37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11"/>
          <p:cNvSpPr/>
          <p:nvPr/>
        </p:nvSpPr>
        <p:spPr>
          <a:xfrm>
            <a:off x="2987640" y="609300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</a:rPr>
              <a:t>我会说一句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0020848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332000" y="2708280"/>
            <a:ext cx="71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592"/>
                </a:solidFill>
                <a:latin typeface="楷体_GB2312"/>
                <a:ea typeface="楷体_GB2312"/>
              </a:rPr>
              <a:t>（      ）的草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627280" y="1508040"/>
            <a:ext cx="2521080" cy="34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Times New Roman"/>
                <a:ea typeface="黑体"/>
              </a:rPr>
              <a:t>碧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Times New Roman"/>
                <a:ea typeface="黑体"/>
              </a:rPr>
              <a:t>可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Times New Roman"/>
                <a:ea typeface="黑体"/>
              </a:rPr>
              <a:t>无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_2004615202317"/>
          <p:cNvPicPr/>
          <p:nvPr/>
        </p:nvPicPr>
        <p:blipFill>
          <a:blip r:embed="rId1"/>
          <a:stretch/>
        </p:blipFill>
        <p:spPr>
          <a:xfrm>
            <a:off x="0" y="0"/>
            <a:ext cx="4800600" cy="45720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4"/>
          <p:cNvSpPr/>
          <p:nvPr/>
        </p:nvSpPr>
        <p:spPr>
          <a:xfrm>
            <a:off x="0" y="4815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些并不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引人注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蒲公英，给我们带来了不少快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5148360" y="11970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引人注目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引起人的注意，使人把视线集中在一点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2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2"/>
          <p:cNvSpPr/>
          <p:nvPr/>
        </p:nvSpPr>
        <p:spPr>
          <a:xfrm>
            <a:off x="100080" y="330120"/>
            <a:ext cx="893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3"/>
          <p:cNvSpPr/>
          <p:nvPr/>
        </p:nvSpPr>
        <p:spPr>
          <a:xfrm>
            <a:off x="174600" y="225360"/>
            <a:ext cx="89344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0" y="1341360"/>
            <a:ext cx="903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他的个子很高，在人群中很引人注目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双塘中心小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几个大字在阳光的照射下，金光闪闪，特别引人注目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今天小丽穿的花裙子格外引人注目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_2004615202317"/>
          <p:cNvPicPr/>
          <p:nvPr/>
        </p:nvPicPr>
        <p:blipFill>
          <a:blip r:embed="rId1"/>
          <a:stretch/>
        </p:blipFill>
        <p:spPr>
          <a:xfrm>
            <a:off x="0" y="0"/>
            <a:ext cx="4800600" cy="45720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4"/>
          <p:cNvSpPr/>
          <p:nvPr/>
        </p:nvSpPr>
        <p:spPr>
          <a:xfrm>
            <a:off x="0" y="4815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些并不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引人注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蒲公英，给我们带来了不少快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5148360" y="11970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引人注目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引起人的注意，使人把视线集中在一点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2" name="chimes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自读第三自然段，思考，我先发现了什么？又发现了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468360" y="155736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有一天，我起得很早去钓鱼，发现草地并不是金色的，而是绿色的。中午回家的时候，我看见草地是金色的。傍晚的时候，草地又变绿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4213080" y="1339920"/>
            <a:ext cx="23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1" name="chimes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200422015533427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flower"/>
          <p:cNvPicPr/>
          <p:nvPr/>
        </p:nvPicPr>
        <p:blipFill>
          <a:blip r:embed="rId2"/>
          <a:stretch/>
        </p:blipFill>
        <p:spPr>
          <a:xfrm>
            <a:off x="4211640" y="5084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" descr="flower"/>
          <p:cNvPicPr/>
          <p:nvPr/>
        </p:nvPicPr>
        <p:blipFill>
          <a:blip r:embed="rId3"/>
          <a:stretch/>
        </p:blipFill>
        <p:spPr>
          <a:xfrm>
            <a:off x="2411280" y="4797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7" descr="flower"/>
          <p:cNvPicPr/>
          <p:nvPr/>
        </p:nvPicPr>
        <p:blipFill>
          <a:blip r:embed="rId4"/>
          <a:stretch/>
        </p:blipFill>
        <p:spPr>
          <a:xfrm>
            <a:off x="755640" y="522936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3"/>
          <p:cNvSpPr/>
          <p:nvPr/>
        </p:nvSpPr>
        <p:spPr>
          <a:xfrm>
            <a:off x="3419640" y="54936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蒲公英的变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539640" y="1557360"/>
            <a:ext cx="14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28440" y="2517840"/>
            <a:ext cx="23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草地颜色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2401200" y="1557360"/>
            <a:ext cx="19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早晨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8"/>
          <p:cNvSpPr/>
          <p:nvPr/>
        </p:nvSpPr>
        <p:spPr>
          <a:xfrm>
            <a:off x="4710600" y="1557360"/>
            <a:ext cx="168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中午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9"/>
          <p:cNvSpPr/>
          <p:nvPr/>
        </p:nvSpPr>
        <p:spPr>
          <a:xfrm>
            <a:off x="7007040" y="1628640"/>
            <a:ext cx="8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傍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2611440" y="2517840"/>
            <a:ext cx="155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绿色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12"/>
          <p:cNvSpPr/>
          <p:nvPr/>
        </p:nvSpPr>
        <p:spPr>
          <a:xfrm>
            <a:off x="4623480" y="2517840"/>
            <a:ext cx="185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金色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3"/>
          <p:cNvSpPr/>
          <p:nvPr/>
        </p:nvSpPr>
        <p:spPr>
          <a:xfrm>
            <a:off x="7138440" y="24462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绿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18" descr="04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62880" y="-231840"/>
            <a:ext cx="1581120" cy="15699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chimes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AutoShape 5"/>
          <p:cNvSpPr/>
          <p:nvPr/>
        </p:nvSpPr>
        <p:spPr>
          <a:xfrm>
            <a:off x="1332000" y="2421000"/>
            <a:ext cx="6264360" cy="1511280"/>
          </a:xfrm>
          <a:prstGeom prst="cloudCallout">
            <a:avLst>
              <a:gd name="adj1" fmla="val -49342"/>
              <a:gd name="adj2" fmla="val 8151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这是为什么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1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080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蒲公英的花就（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，可以（        ）、（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。早晨，花朵（         ），它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        ），草地就是（           ）的；中午，花朵   （       ），它是（               ），草地就（                        ）、傍晚，花朵又（       ）草地就（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1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1080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蒲公英的花就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像我们的手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，可以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张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、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合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。早晨，花朵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合拢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，它是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绿色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，草地就是（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绿色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的；中午，花朵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张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，它是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黄色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，草地就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变成金色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、傍晚，花朵又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合拢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草地就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变成绿色的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1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3"/>
          <p:cNvSpPr/>
          <p:nvPr/>
        </p:nvSpPr>
        <p:spPr>
          <a:xfrm>
            <a:off x="0" y="1197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来到草地上，仔细观察，发现蒲公英的花瓣是合拢的。原来，蒲公英的花就像我们的手掌，可以张开、合上。花朵张开时，它是金色的，草地也是金色的；花朵合拢时，金色的花瓣被包住，草地就变成绿色的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Tears.mp3" descr=""/>
          <p:cNvPicPr/>
          <p:nvPr/>
        </p:nvPicPr>
        <p:blipFill>
          <a:blip r:embed="rId1"/>
          <a:stretch/>
        </p:blipFill>
        <p:spPr>
          <a:xfrm>
            <a:off x="845964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6"/>
          <p:cNvSpPr/>
          <p:nvPr/>
        </p:nvSpPr>
        <p:spPr>
          <a:xfrm>
            <a:off x="5005440" y="971640"/>
            <a:ext cx="23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2" name="chimes.wav"/>
      </p:stSnd>
    </p:sndAc>
  </p:transition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30086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BK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891720" y="907920"/>
            <a:ext cx="749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读要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读课文一遍，注意读准字音，做了记号的字词多读几遍，读通课文，做到不加字不漏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2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200422015533427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3"/>
          <p:cNvSpPr/>
          <p:nvPr/>
        </p:nvSpPr>
        <p:spPr>
          <a:xfrm>
            <a:off x="755640" y="69228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善于思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755640" y="256536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仔细观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5" descr="flower"/>
          <p:cNvPicPr/>
          <p:nvPr/>
        </p:nvPicPr>
        <p:blipFill>
          <a:blip r:embed="rId2"/>
          <a:stretch/>
        </p:blipFill>
        <p:spPr>
          <a:xfrm>
            <a:off x="4211640" y="5084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" descr="flower"/>
          <p:cNvPicPr/>
          <p:nvPr/>
        </p:nvPicPr>
        <p:blipFill>
          <a:blip r:embed="rId3"/>
          <a:stretch/>
        </p:blipFill>
        <p:spPr>
          <a:xfrm>
            <a:off x="2411280" y="4797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flower"/>
          <p:cNvPicPr/>
          <p:nvPr/>
        </p:nvPicPr>
        <p:blipFill>
          <a:blip r:embed="rId4"/>
          <a:stretch/>
        </p:blipFill>
        <p:spPr>
          <a:xfrm>
            <a:off x="755640" y="5229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  <p:sndAc>
      <p:stSnd>
        <p:snd r:embed="rId5" name="chimes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3"/>
          <p:cNvSpPr/>
          <p:nvPr/>
        </p:nvSpPr>
        <p:spPr>
          <a:xfrm>
            <a:off x="0" y="1197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来到草地上，仔细观察，发现蒲公英的花瓣是合拢的。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原来，蒲公英的花就像我们的手掌，可以张开、合上。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花朵张开时，它是金色的，草地也是金色的；花朵合拢时，金色的花瓣被包住，草地就变成绿色的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Tears.mp3" descr=""/>
          <p:cNvPicPr/>
          <p:nvPr/>
        </p:nvPicPr>
        <p:blipFill>
          <a:blip r:embed="rId1"/>
          <a:stretch/>
        </p:blipFill>
        <p:spPr>
          <a:xfrm>
            <a:off x="845964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6"/>
          <p:cNvSpPr/>
          <p:nvPr/>
        </p:nvSpPr>
        <p:spPr>
          <a:xfrm>
            <a:off x="5005440" y="971640"/>
            <a:ext cx="23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2" name="chimes.wav"/>
      </p:stSnd>
    </p:sndAc>
  </p:transition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230086" fill="hold"/>
                                        <p:tgtEl>
                                          <p:spTgt spid="6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5"/>
          <p:cNvSpPr/>
          <p:nvPr/>
        </p:nvSpPr>
        <p:spPr>
          <a:xfrm>
            <a:off x="395280" y="620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草地！多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趣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蒲公英！从那时起，蒲公英成了我们最喜爱的一种花。它和我们一起睡觉，和我们一起起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324000" y="37180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多么可爱的草地！多么有趣的蒲公英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多么可爱的草地。多么有趣的蒲公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4"/>
          <p:cNvSpPr/>
          <p:nvPr/>
        </p:nvSpPr>
        <p:spPr>
          <a:xfrm>
            <a:off x="1476360" y="155736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课文的哪些地方可以看出草地的可爱、蒲公英的有趣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1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396720" y="692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那时起，蒲公英成了我们最喜爱的一种花。它和我们一起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睡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和我们一起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起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2989440" y="1989000"/>
            <a:ext cx="5184720" cy="0"/>
          </a:xfrm>
          <a:prstGeom prst="line">
            <a:avLst/>
          </a:prstGeom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7"/>
          <p:cNvSpPr/>
          <p:nvPr/>
        </p:nvSpPr>
        <p:spPr>
          <a:xfrm>
            <a:off x="468360" y="2637000"/>
            <a:ext cx="3313080" cy="0"/>
          </a:xfrm>
          <a:prstGeom prst="line">
            <a:avLst/>
          </a:prstGeom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4272120" y="3443400"/>
            <a:ext cx="38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拟人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114480" y="330120"/>
            <a:ext cx="9029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也会说拟人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鸟儿在树上叫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星星在闪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河在流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611280" y="1557360"/>
            <a:ext cx="60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鸟儿在树上欢快地唱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539640" y="4149720"/>
            <a:ext cx="70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小河唱着歌，欢快地流淌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625320" y="2806560"/>
            <a:ext cx="65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星星一闪一闪地眨着眼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1" name="chimes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5"/>
          <p:cNvSpPr/>
          <p:nvPr/>
        </p:nvSpPr>
        <p:spPr>
          <a:xfrm>
            <a:off x="395280" y="98100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草地！多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趣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蒲公英！从那时起，蒲公英成了我们最喜爱的一种花。它和我们一起睡觉，和我们一起起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4"/>
          <p:cNvSpPr/>
          <p:nvPr/>
        </p:nvSpPr>
        <p:spPr>
          <a:xfrm>
            <a:off x="0" y="26028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我把下面的句子抄了下来，你抄了哪些？你想抄哪些？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花朵张开时，它是金色的，草地也是金色的；花朵合拢时，金色的花瓣被包住，草地就变成绿色的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1" name="chimes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539640" y="1197000"/>
            <a:ext cx="7561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抄写生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遍，词语两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完成每课一练 一、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预习第三、四自然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背诵课文一、二自然段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1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BA5A-4789-43A2-8383-0AEB079F42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1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BK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19040" y="1339920"/>
            <a:ext cx="8305920" cy="44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uǎ        jìn     róng        jiǎ      zhuā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耍         劲     绒        假       装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áo       xiē       diào      ch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朝        些       钓       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àn       lǒng     zhǎng       q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瓣       拢        掌         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47"/>
          <p:cNvSpPr/>
          <p:nvPr/>
        </p:nvSpPr>
        <p:spPr>
          <a:xfrm>
            <a:off x="2900520" y="35323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BK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3"/>
          <p:cNvGrpSpPr/>
          <p:nvPr/>
        </p:nvGrpSpPr>
        <p:grpSpPr>
          <a:xfrm>
            <a:off x="987480" y="1087560"/>
            <a:ext cx="2700000" cy="2408400"/>
            <a:chOff x="987480" y="1087560"/>
            <a:chExt cx="2700000" cy="2408400"/>
          </a:xfrm>
        </p:grpSpPr>
        <p:sp>
          <p:nvSpPr>
            <p:cNvPr id="105" name="AutoShape 4"/>
            <p:cNvSpPr/>
            <p:nvPr/>
          </p:nvSpPr>
          <p:spPr>
            <a:xfrm rot="16200">
              <a:off x="1585800" y="1090440"/>
              <a:ext cx="1325520" cy="119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AutoShape 5"/>
            <p:cNvSpPr/>
            <p:nvPr/>
          </p:nvSpPr>
          <p:spPr>
            <a:xfrm rot="14145000">
              <a:off x="1184400" y="2014920"/>
              <a:ext cx="1340640" cy="1185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6"/>
            <p:cNvSpPr/>
            <p:nvPr/>
          </p:nvSpPr>
          <p:spPr>
            <a:xfrm rot="7101000">
              <a:off x="2182320" y="1958040"/>
              <a:ext cx="1325520" cy="119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7"/>
            <p:cNvSpPr/>
            <p:nvPr/>
          </p:nvSpPr>
          <p:spPr>
            <a:xfrm rot="3329400">
              <a:off x="2093760" y="2122200"/>
              <a:ext cx="46224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8"/>
          <p:cNvGrpSpPr/>
          <p:nvPr/>
        </p:nvGrpSpPr>
        <p:grpSpPr>
          <a:xfrm>
            <a:off x="5380560" y="663840"/>
            <a:ext cx="2699640" cy="2407680"/>
            <a:chOff x="5380560" y="663840"/>
            <a:chExt cx="2699640" cy="2407680"/>
          </a:xfrm>
        </p:grpSpPr>
        <p:sp>
          <p:nvSpPr>
            <p:cNvPr id="110" name="AutoShape 9"/>
            <p:cNvSpPr/>
            <p:nvPr/>
          </p:nvSpPr>
          <p:spPr>
            <a:xfrm rot="16200">
              <a:off x="5978880" y="666720"/>
              <a:ext cx="1325520" cy="119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10"/>
            <p:cNvSpPr/>
            <p:nvPr/>
          </p:nvSpPr>
          <p:spPr>
            <a:xfrm rot="14145000">
              <a:off x="5577480" y="1590840"/>
              <a:ext cx="1340280" cy="1185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11"/>
            <p:cNvSpPr/>
            <p:nvPr/>
          </p:nvSpPr>
          <p:spPr>
            <a:xfrm rot="7101000">
              <a:off x="6575040" y="1533960"/>
              <a:ext cx="1325520" cy="119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2"/>
            <p:cNvSpPr/>
            <p:nvPr/>
          </p:nvSpPr>
          <p:spPr>
            <a:xfrm rot="3329400">
              <a:off x="6486480" y="1698120"/>
              <a:ext cx="46224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3"/>
          <p:cNvGrpSpPr/>
          <p:nvPr/>
        </p:nvGrpSpPr>
        <p:grpSpPr>
          <a:xfrm>
            <a:off x="1936080" y="4213440"/>
            <a:ext cx="2700720" cy="2407680"/>
            <a:chOff x="1936080" y="4213440"/>
            <a:chExt cx="2700720" cy="2407680"/>
          </a:xfrm>
        </p:grpSpPr>
        <p:sp>
          <p:nvSpPr>
            <p:cNvPr id="115" name="AutoShape 14"/>
            <p:cNvSpPr/>
            <p:nvPr/>
          </p:nvSpPr>
          <p:spPr>
            <a:xfrm rot="16200">
              <a:off x="2534760" y="4216320"/>
              <a:ext cx="1326240" cy="119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15"/>
            <p:cNvSpPr/>
            <p:nvPr/>
          </p:nvSpPr>
          <p:spPr>
            <a:xfrm rot="14145000">
              <a:off x="2133360" y="5139720"/>
              <a:ext cx="1340280" cy="118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AutoShape 16"/>
            <p:cNvSpPr/>
            <p:nvPr/>
          </p:nvSpPr>
          <p:spPr>
            <a:xfrm rot="7101000">
              <a:off x="3130920" y="5083560"/>
              <a:ext cx="1326240" cy="119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7"/>
            <p:cNvSpPr/>
            <p:nvPr/>
          </p:nvSpPr>
          <p:spPr>
            <a:xfrm rot="3329400">
              <a:off x="3042720" y="5247720"/>
              <a:ext cx="462240" cy="3808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Text Box 18"/>
          <p:cNvSpPr/>
          <p:nvPr/>
        </p:nvSpPr>
        <p:spPr>
          <a:xfrm>
            <a:off x="1367280" y="9921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2520000" y="10652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977200" y="1827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2595960" y="2665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1529280" y="2665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1224360" y="1903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5922000" y="4888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6912360" y="4888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7293600" y="1327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7065000" y="2317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5922000" y="2317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5617080" y="1403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2243520" y="39844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3234240" y="39844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3767760" y="4746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3539160" y="5584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2014920" y="4822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2167560" y="5584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36"/>
          <p:cNvGrpSpPr/>
          <p:nvPr/>
        </p:nvGrpSpPr>
        <p:grpSpPr>
          <a:xfrm>
            <a:off x="5524920" y="3756240"/>
            <a:ext cx="2699640" cy="2407680"/>
            <a:chOff x="5524920" y="3756240"/>
            <a:chExt cx="2699640" cy="2407680"/>
          </a:xfrm>
        </p:grpSpPr>
        <p:sp>
          <p:nvSpPr>
            <p:cNvPr id="138" name="AutoShape 37"/>
            <p:cNvSpPr/>
            <p:nvPr/>
          </p:nvSpPr>
          <p:spPr>
            <a:xfrm rot="16200">
              <a:off x="6123240" y="3759120"/>
              <a:ext cx="1325520" cy="119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38"/>
            <p:cNvSpPr/>
            <p:nvPr/>
          </p:nvSpPr>
          <p:spPr>
            <a:xfrm rot="14145000">
              <a:off x="5721840" y="4683240"/>
              <a:ext cx="1340280" cy="1185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AutoShape 39"/>
            <p:cNvSpPr/>
            <p:nvPr/>
          </p:nvSpPr>
          <p:spPr>
            <a:xfrm rot="7101000">
              <a:off x="6719400" y="4626360"/>
              <a:ext cx="1325520" cy="119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40"/>
            <p:cNvSpPr/>
            <p:nvPr/>
          </p:nvSpPr>
          <p:spPr>
            <a:xfrm rot="3329400">
              <a:off x="6630840" y="4790520"/>
              <a:ext cx="462240" cy="380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41"/>
          <p:cNvSpPr/>
          <p:nvPr/>
        </p:nvSpPr>
        <p:spPr>
          <a:xfrm>
            <a:off x="5990040" y="3657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6980760" y="3657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7514280" y="4419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7285680" y="52578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5"/>
          <p:cNvSpPr/>
          <p:nvPr/>
        </p:nvSpPr>
        <p:spPr>
          <a:xfrm>
            <a:off x="5761440" y="4495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6"/>
          <p:cNvSpPr/>
          <p:nvPr/>
        </p:nvSpPr>
        <p:spPr>
          <a:xfrm>
            <a:off x="5914080" y="52578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9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150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158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5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Picture 31" descr="21"/>
          <p:cNvPicPr/>
          <p:nvPr/>
        </p:nvPicPr>
        <p:blipFill>
          <a:blip r:embed="rId27"/>
          <a:stretch/>
        </p:blipFill>
        <p:spPr>
          <a:xfrm>
            <a:off x="838080" y="38088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2"/>
          <p:cNvSpPr/>
          <p:nvPr/>
        </p:nvSpPr>
        <p:spPr>
          <a:xfrm>
            <a:off x="2160360" y="6620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我会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3"/>
          <p:cNvSpPr/>
          <p:nvPr/>
        </p:nvSpPr>
        <p:spPr>
          <a:xfrm>
            <a:off x="826920" y="1341360"/>
            <a:ext cx="8317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盛开    玩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耍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   一本正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使劲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绒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毛    假装    朝向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这些   引人注目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钓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鱼  观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花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瓣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    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拢 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   手掌   有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1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182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9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190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7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9" name="Picture 31" descr="21"/>
          <p:cNvPicPr/>
          <p:nvPr/>
        </p:nvPicPr>
        <p:blipFill>
          <a:blip r:embed="rId27"/>
          <a:stretch/>
        </p:blipFill>
        <p:spPr>
          <a:xfrm>
            <a:off x="755640" y="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2"/>
          <p:cNvSpPr/>
          <p:nvPr/>
        </p:nvSpPr>
        <p:spPr>
          <a:xfrm>
            <a:off x="2819880" y="26028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比一比，辨一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2050920" y="711360"/>
            <a:ext cx="5185080" cy="59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7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钓</a:t>
            </a:r>
            <a:r>
              <a:rPr b="1" lang="zh-CN" sz="77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r>
              <a:rPr b="1" lang="en-US" sz="77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—</a:t>
            </a:r>
            <a:r>
              <a:rPr b="1" lang="zh-CN" sz="77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钩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7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拢 </a:t>
            </a:r>
            <a:r>
              <a:rPr b="1" lang="en-US" sz="77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— </a:t>
            </a:r>
            <a:r>
              <a:rPr b="1" lang="zh-CN" sz="77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扰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7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瓣 </a:t>
            </a:r>
            <a:r>
              <a:rPr b="1" lang="en-US" sz="77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— </a:t>
            </a:r>
            <a:r>
              <a:rPr b="1" lang="zh-CN" sz="77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辫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7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耍</a:t>
            </a:r>
            <a:r>
              <a:rPr b="1" lang="zh-CN" sz="77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r>
              <a:rPr b="1" lang="en-US" sz="77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— </a:t>
            </a:r>
            <a:r>
              <a:rPr b="1" lang="zh-CN" sz="77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要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7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绒 —— </a:t>
            </a:r>
            <a:r>
              <a:rPr b="1" lang="zh-CN" sz="77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成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3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214" name="Picture 4" descr="8HANA1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Picture 5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Picture 6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Picture 7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Picture 8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Picture 9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Picture 10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1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222" name="Picture 12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icture 13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4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15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16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17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18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9" name="Picture 19" descr="8HANA1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20" descr="8HANA1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21" descr="8HANA1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2" descr="8HANA1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23" descr="8HANA1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24" descr="8HANA1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5" descr="8HANA1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26" descr="8HANA1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27" descr="8HANA1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28" descr="8HANA1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29" descr="8HANA1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30" descr="8HANA1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Picture 31" descr="book9"/>
          <p:cNvPicPr/>
          <p:nvPr/>
        </p:nvPicPr>
        <p:blipFill>
          <a:blip r:embed="rId27"/>
          <a:stretch/>
        </p:blipFill>
        <p:spPr>
          <a:xfrm>
            <a:off x="685800" y="304920"/>
            <a:ext cx="1523880" cy="12618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2"/>
          <p:cNvSpPr/>
          <p:nvPr/>
        </p:nvSpPr>
        <p:spPr>
          <a:xfrm>
            <a:off x="2058840" y="68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  <a:ea typeface="华文琥珀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057400" y="1295280"/>
          <a:ext cx="4952880" cy="447048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1872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cc99"/>
                      </a:solidFill>
                    </a:lnL>
                    <a:lnR w="1872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1872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 Box 44"/>
          <p:cNvSpPr/>
          <p:nvPr/>
        </p:nvSpPr>
        <p:spPr>
          <a:xfrm>
            <a:off x="3354480" y="91440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耍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4:28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7:19Z</dcterms:modified>
  <cp:revision>9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