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BE1F-F9BE-4132-AB44-DFE926C5EE5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1846-08D5-4954-B554-B29166E95FDD}" type="slidenum">
              <a:rPr b="0" lang="zh-CN" sz="12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164B-0D7F-4684-BF54-3A1CBCAFD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E658-3CD2-4E4A-B4F1-DF6740C4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8697-3E2D-4B40-B5EC-7D3FE19C7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B690-60C5-44BB-8863-58C9CAA1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1261-62F5-48E7-9101-1A0A1CE5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3B96-1AF2-41C6-B776-AB175AFE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9F6F-67F4-4AC3-A150-C318B64F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16E4-D216-4A62-8582-6D80C5A8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7F35-201A-40DD-9CD3-54381B83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F5B5-BEC5-47C5-9CF9-A3F5180E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46A9-B5AD-4DEA-94DF-4CBE98FE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DB38-0D4E-44D9-A367-C7C21833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033D-029E-4164-9171-261ADA41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BB3C-B112-47DF-8168-B6A5D4AE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F372-7A5D-4F9A-923E-76037476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F641-48FE-4C3C-877E-98183885E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BB31-58A9-4C83-AAE5-16F4634A1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3140-1BFB-44E0-9F92-1551C1DE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C823-67F9-46F2-AA59-FFC71E7E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8829-586D-403E-9D39-4C170D9B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9B8A-565B-44A7-A77A-9C84EE4D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A4A2-9F54-48E5-B9E8-C5BBD3E4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F0DC-ED4E-4328-B14C-1BA40C96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37D4-9266-4FB8-BF0E-DB277A74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299E-94A4-4A3C-93B9-56404FF18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AFFF-152D-468B-BF50-824878235CE3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800280" y="907920"/>
            <a:ext cx="2304720" cy="3598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3300"/>
                </a:solidFill>
                <a:latin typeface="华文中宋"/>
                <a:ea typeface="华文中宋"/>
              </a:rPr>
              <a:t>军</a:t>
            </a:r>
            <a:endParaRPr b="0" lang="en-US" sz="115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3300"/>
                </a:solidFill>
                <a:latin typeface="华文中宋"/>
                <a:ea typeface="华文中宋"/>
              </a:rPr>
              <a:t>神</a:t>
            </a:r>
            <a:endParaRPr b="0" lang="en-US" sz="115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1" name="矩形 6" descr=""/>
          <p:cNvPicPr/>
          <p:nvPr/>
        </p:nvPicPr>
        <p:blipFill>
          <a:blip r:embed="rId2"/>
          <a:stretch/>
        </p:blipFill>
        <p:spPr>
          <a:xfrm>
            <a:off x="1781280" y="5732640"/>
            <a:ext cx="567216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1258920" y="1413000"/>
            <a:ext cx="7200720" cy="24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你是一个真正的男子汉，一块会说话的钢板！你堪称军神！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0" y="1267920"/>
            <a:ext cx="9144000" cy="28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自由读课文，在文中找出流露沃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尔克医生情感的词语，并找找原因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5914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549360"/>
            <a:ext cx="85406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、得知拒绝用麻醉剂，他很恼火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、听了理由，他很惊讶， 怔住了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、做着手术产生好感，他开始关心。 可以      哼叫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、进而钦佩。 由衷地说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、得知刘伯承清晰地记得手术的刀数，并且经历了这么多的折磨，他惊叹起来。 吓了一跳、惊呆了、失声嚷道 ，眉毛扬了起来、教训的口吻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啊！你是一个真正的男子汉，一块会说话的钢板！如果你是一位军人，那么，你就是一个“军神”！ 这是一句比喻句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把（                ）比作（               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用（                ）比喻（                ） 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0" y="1989000"/>
            <a:ext cx="81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762120" y="16002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沃克医生称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657600" y="1600200"/>
            <a:ext cx="16765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0066"/>
                </a:solidFill>
                <a:uFillTx/>
                <a:latin typeface="宋体"/>
                <a:hlinkClick r:id="rId1" action="ppaction://hlinksldjump"/>
              </a:rPr>
              <a:t>刘伯承</a:t>
            </a:r>
            <a:r>
              <a:rPr b="0" lang="zh-CN" sz="2400" spc="-1" strike="noStrike" u="sng">
                <a:solidFill>
                  <a:srgbClr val="cc0066"/>
                </a:solidFill>
                <a:uFillTx/>
                <a:latin typeface="Times New Roman"/>
                <a:hlinkClick r:id="rId2" action="ppaction://hlinksldjump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562720" y="16002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军神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143000" y="2863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求治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2743200" y="2895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术前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267080" y="2895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术中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5867280" y="2895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术后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295280" y="43117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宋体"/>
              </a:rPr>
              <a:t>镇定、平静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3962520" y="43117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宋体"/>
              </a:rPr>
              <a:t>一声不吭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AutoShape 11"/>
          <p:cNvSpPr/>
          <p:nvPr/>
        </p:nvSpPr>
        <p:spPr>
          <a:xfrm>
            <a:off x="2209680" y="3124080"/>
            <a:ext cx="609840" cy="152640"/>
          </a:xfrm>
          <a:prstGeom prst="rightArrow">
            <a:avLst>
              <a:gd name="adj1" fmla="val 50000"/>
              <a:gd name="adj2" fmla="val 99882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AutoShape 12"/>
          <p:cNvSpPr/>
          <p:nvPr/>
        </p:nvSpPr>
        <p:spPr>
          <a:xfrm>
            <a:off x="3809880" y="3124080"/>
            <a:ext cx="533520" cy="152640"/>
          </a:xfrm>
          <a:prstGeom prst="rightArrow">
            <a:avLst>
              <a:gd name="adj1" fmla="val 50000"/>
              <a:gd name="adj2" fmla="val 87382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5334120" y="3124080"/>
            <a:ext cx="533160" cy="152640"/>
          </a:xfrm>
          <a:prstGeom prst="rightArrow">
            <a:avLst>
              <a:gd name="adj1" fmla="val 50000"/>
              <a:gd name="adj2" fmla="val 87323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AutoShape 14"/>
          <p:cNvSpPr/>
          <p:nvPr/>
        </p:nvSpPr>
        <p:spPr>
          <a:xfrm>
            <a:off x="3276720" y="190512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AutoShape 15"/>
          <p:cNvSpPr/>
          <p:nvPr/>
        </p:nvSpPr>
        <p:spPr>
          <a:xfrm>
            <a:off x="5181480" y="1905120"/>
            <a:ext cx="381240" cy="152280"/>
          </a:xfrm>
          <a:prstGeom prst="rightArrow">
            <a:avLst>
              <a:gd name="adj1" fmla="val 50000"/>
              <a:gd name="adj2" fmla="val 62589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AutoShape 16"/>
          <p:cNvSpPr/>
          <p:nvPr/>
        </p:nvSpPr>
        <p:spPr>
          <a:xfrm>
            <a:off x="2438280" y="3581280"/>
            <a:ext cx="152640" cy="762120"/>
          </a:xfrm>
          <a:prstGeom prst="downArrow">
            <a:avLst>
              <a:gd name="adj1" fmla="val 50000"/>
              <a:gd name="adj2" fmla="val 124823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AutoShape 17"/>
          <p:cNvSpPr/>
          <p:nvPr/>
        </p:nvSpPr>
        <p:spPr>
          <a:xfrm>
            <a:off x="4800600" y="3581280"/>
            <a:ext cx="152280" cy="762120"/>
          </a:xfrm>
          <a:prstGeom prst="downArrow">
            <a:avLst>
              <a:gd name="adj1" fmla="val 50000"/>
              <a:gd name="adj2" fmla="val 125118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AutoShape 18"/>
          <p:cNvSpPr/>
          <p:nvPr/>
        </p:nvSpPr>
        <p:spPr>
          <a:xfrm>
            <a:off x="6705720" y="190512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2" name="Group 19"/>
          <p:cNvGrpSpPr/>
          <p:nvPr/>
        </p:nvGrpSpPr>
        <p:grpSpPr>
          <a:xfrm>
            <a:off x="7467480" y="1720800"/>
            <a:ext cx="838440" cy="3156120"/>
            <a:chOff x="7467480" y="1720800"/>
            <a:chExt cx="838440" cy="3156120"/>
          </a:xfrm>
        </p:grpSpPr>
        <p:sp>
          <p:nvSpPr>
            <p:cNvPr id="133" name="AutoShape 20"/>
            <p:cNvSpPr/>
            <p:nvPr/>
          </p:nvSpPr>
          <p:spPr>
            <a:xfrm>
              <a:off x="7467480" y="1752480"/>
              <a:ext cx="685800" cy="3124440"/>
            </a:xfrm>
            <a:prstGeom prst="wedgeRoundRectCallout">
              <a:avLst>
                <a:gd name="adj1" fmla="val -77777"/>
                <a:gd name="adj2" fmla="val 49032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4" name="Text Box 21"/>
            <p:cNvSpPr/>
            <p:nvPr/>
          </p:nvSpPr>
          <p:spPr>
            <a:xfrm>
              <a:off x="7467480" y="172080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宋体"/>
                </a:rPr>
                <a:t>惊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5" name="Text Box 22"/>
            <p:cNvSpPr/>
            <p:nvPr/>
          </p:nvSpPr>
          <p:spPr>
            <a:xfrm>
              <a:off x="7467480" y="23302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宋体"/>
                </a:rPr>
                <a:t>人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6" name="Text Box 23"/>
            <p:cNvSpPr/>
            <p:nvPr/>
          </p:nvSpPr>
          <p:spPr>
            <a:xfrm>
              <a:off x="7467480" y="294012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宋体"/>
                </a:rPr>
                <a:t>的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7" name="Text Box 24"/>
            <p:cNvSpPr/>
            <p:nvPr/>
          </p:nvSpPr>
          <p:spPr>
            <a:xfrm>
              <a:off x="7467480" y="354960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宋体"/>
                </a:rPr>
                <a:t>毅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8" name="Text Box 25"/>
            <p:cNvSpPr/>
            <p:nvPr/>
          </p:nvSpPr>
          <p:spPr>
            <a:xfrm>
              <a:off x="7467480" y="415908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宋体"/>
                </a:rPr>
                <a:t>力</a:t>
              </a:r>
              <a:endParaRPr b="0" lang="en-US" sz="36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1403280" y="1125360"/>
            <a:ext cx="66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468360" y="1125360"/>
            <a:ext cx="828036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赞军神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英雄壮举泣鬼神，铁骨钢筋铸军魂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七十二刀生死痛，胜似昔日刮骨人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d01"/>
                </a:solidFill>
                <a:latin typeface="Arial"/>
                <a:ea typeface="方正姚体"/>
              </a:rPr>
              <a:t>写话</a:t>
            </a:r>
            <a:endParaRPr b="0" lang="en-US" sz="8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0" lang="zh-CN" sz="6000" spc="-1" strike="noStrike">
                <a:solidFill>
                  <a:srgbClr val="0033cc"/>
                </a:solidFill>
                <a:latin typeface="Arial"/>
              </a:rPr>
              <a:t>刘伯承爷爷，我想对您说：“</a:t>
            </a: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——————————————</a:t>
            </a:r>
            <a:r>
              <a:rPr b="0" lang="zh-CN" sz="6000" spc="-1" strike="noStrike">
                <a:solidFill>
                  <a:srgbClr val="0033cc"/>
                </a:solidFill>
                <a:latin typeface="Arial"/>
              </a:rPr>
              <a:t>。”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文本框 1"/>
          <p:cNvSpPr/>
          <p:nvPr/>
        </p:nvSpPr>
        <p:spPr>
          <a:xfrm>
            <a:off x="1270080" y="6099120"/>
            <a:ext cx="57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609480" y="12636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、搜集一些像刘伯承一样有着坚强意志的人的材料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577800" y="2254320"/>
            <a:ext cx="810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、你还知道有哪些人为祖国的解放事业和建设事业做出贡献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142280" y="3444840"/>
            <a:ext cx="19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、写一篇读后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487880" y="4629240"/>
            <a:ext cx="15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、欣赏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赞军神</a:t>
            </a: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4962960" y="3465360"/>
            <a:ext cx="2863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英雄壮举泣鬼神，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铁骨钢筋铸军魂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七十二刀生死痛，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Times New Roman"/>
              </a:rPr>
              <a:t>胜似昔日刮骨人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049560" y="228600"/>
            <a:ext cx="296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课下延 伸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A852-9947-4F0E-8BE6-7C6711A8461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93" name="内容占位符 3" descr="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《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军神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》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时代背景</a:t>
            </a:r>
            <a:br>
              <a:rPr sz="4000"/>
            </a:b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916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年在反对袁世凯称帝的护国战争中，刘伯承率领的东护国军攻占四川丰都城时，他身先士卒，带头冲锋，不幸被子弹打伤了右眼，负了重伤。由于流血过多，他昏迷了过去。一些人认为他不行了。但刘伯承却奇迹般地活了下来。后在一家外国教会医院接受秘密治疗。手术后医生翘起大拇指对旁边的人说：</a:t>
            </a:r>
            <a:r>
              <a:rPr b="0" lang="zh-CN" sz="2800" spc="-1" strike="noStrike">
                <a:solidFill>
                  <a:srgbClr val="ff0000"/>
                </a:solidFill>
                <a:latin typeface="Garamond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真不愧为英雄。我当了这么多年的外科医生，还没有遇见一个像他这样的人，他真有你们中国古代关云长刮骨疗毒的气概</a:t>
            </a:r>
            <a:r>
              <a:rPr b="0" lang="zh-CN" sz="2800" spc="-1" strike="noStrike">
                <a:solidFill>
                  <a:srgbClr val="ff0000"/>
                </a:solidFill>
                <a:latin typeface="Garamond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04920" y="22860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幼圆"/>
              </a:rPr>
              <a:t>生字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1447920"/>
            <a:ext cx="731520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ff"/>
                </a:solidFill>
                <a:latin typeface="Times New Roman"/>
              </a:rPr>
              <a:t>沃 </a:t>
            </a:r>
            <a:r>
              <a:rPr b="0" lang="zh-CN" sz="6600" spc="-1" strike="noStrike" u="sng">
                <a:solidFill>
                  <a:srgbClr val="cc0066"/>
                </a:solidFill>
                <a:uFillTx/>
                <a:latin typeface="Times New Roman"/>
                <a:hlinkClick r:id="rId1" action="ppaction://hlinksldjump"/>
              </a:rPr>
              <a:t>龄</a:t>
            </a:r>
            <a:r>
              <a:rPr b="1" lang="zh-CN" sz="6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0" lang="zh-CN" sz="6600" spc="-1" strike="noStrike" u="sng">
                <a:solidFill>
                  <a:srgbClr val="cc0066"/>
                </a:solidFill>
                <a:uFillTx/>
                <a:latin typeface="Times New Roman"/>
                <a:hlinkClick r:id="rId2" action="ppaction://hlinksldjump"/>
              </a:rPr>
              <a:t>匪</a:t>
            </a:r>
            <a:r>
              <a:rPr b="1" lang="zh-CN" sz="6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0" lang="zh-CN" sz="6600" spc="-1" strike="noStrike" u="sng">
                <a:solidFill>
                  <a:srgbClr val="cc0066"/>
                </a:solidFill>
                <a:uFillTx/>
                <a:latin typeface="Times New Roman"/>
                <a:hlinkClick r:id="rId3" action="ppaction://hlinksldjump"/>
              </a:rPr>
              <a:t>醉</a:t>
            </a:r>
            <a:r>
              <a:rPr b="1" lang="zh-CN" sz="6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0" lang="zh-CN" sz="6600" spc="-1" strike="noStrike" u="sng">
                <a:solidFill>
                  <a:srgbClr val="cc0066"/>
                </a:solidFill>
                <a:uFillTx/>
                <a:latin typeface="Times New Roman"/>
                <a:hlinkClick r:id="rId4" action="ppaction://hlinksldjump"/>
              </a:rPr>
              <a:t>勉</a:t>
            </a:r>
            <a:r>
              <a:rPr b="1" lang="zh-CN" sz="6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0" lang="zh-CN" sz="6600" spc="-1" strike="noStrike" u="sng">
                <a:solidFill>
                  <a:srgbClr val="cc0066"/>
                </a:solidFill>
                <a:uFillTx/>
                <a:latin typeface="Times New Roman"/>
                <a:hlinkClick r:id="rId5" action="ppaction://hlinksldjump"/>
              </a:rPr>
              <a:t>承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09480" y="429264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ff66"/>
                </a:solidFill>
                <a:latin typeface="Times New Roman"/>
              </a:rPr>
              <a:t>绷   吭   衷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838080" y="2781360"/>
            <a:ext cx="762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刘 拒 剂 施 哼 堪 晕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04920" y="22860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  <a:ea typeface="幼圆"/>
              </a:rPr>
              <a:t>词语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04920" y="1219320"/>
            <a:ext cx="853416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年龄  土匪  拒绝  施行 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勉强  过奖  诊所  惊疑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从容镇定      目光柔和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肃然起敬          麻醉剂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50920" y="907560"/>
            <a:ext cx="854064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仔细读课文，从课文中找出有关的正确答案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为什么称他为“军神”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课文写了他什么事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为什么给“军神”两字打上双引号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39640" y="1859760"/>
            <a:ext cx="77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     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插入"/>
          <p:cNvPicPr/>
          <p:nvPr/>
        </p:nvPicPr>
        <p:blipFill>
          <a:blip r:embed="rId1"/>
          <a:stretch/>
        </p:blipFill>
        <p:spPr>
          <a:xfrm>
            <a:off x="1195560" y="0"/>
            <a:ext cx="67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324000" y="1413000"/>
            <a:ext cx="8640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病人一声不吭，他的双手紧紧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抓住身下的白垫单，手背青筋暴起，汗如雨下。他越来越使劲，崭新的白垫单居然被抓破了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2124000" y="263700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187280" y="1341360"/>
            <a:ext cx="7201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沃克惊呆了，大声嚷道：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你是一个真正的男子汉，一块会说话的钢板！你堪称军神！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02:31:4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2:16Z</dcterms:modified>
  <cp:revision>9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