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chimes.wav" ContentType="audio/x-wav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type.wav" ContentType="audio/x-wav"/>
  <Override PartName="/ppt/media/image6.jpeg" ContentType="image/jpeg"/>
  <Override PartName="/ppt/media/image27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21C6-0E2D-492B-8065-C96204AB51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7FFB-B29A-4123-9A61-671D4B4D07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78F-42F6-4993-B42F-BDDCF282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C8B-E23F-4D2B-8F97-57CBDE15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69F-2732-49DD-A36C-D9D281B1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A9C-DD25-47A5-9B8D-A1A3F2CE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AD6-217D-4EDB-BBAC-447489E6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C23-083A-4533-B828-0EFEBF08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B66-CD84-44A7-A8E1-4F07A6CE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782-EE13-42D7-AEC7-5AC149AF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3A9-990F-4986-9687-507F89CA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25A-06FF-4E2C-941D-211DD3A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396-456F-438D-A2DD-F66E5FFE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D4F-6E2B-4EB5-8CCB-66F41635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2774-8782-4908-AE6E-F0DEB21D7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0000"/>
          <p:cNvPicPr/>
          <p:nvPr/>
        </p:nvPicPr>
        <p:blipFill>
          <a:blip r:embed="rId1"/>
          <a:stretch/>
        </p:blipFill>
        <p:spPr>
          <a:xfrm>
            <a:off x="0" y="531720"/>
            <a:ext cx="9144000" cy="6326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1373040" y="1916280"/>
            <a:ext cx="640080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255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捐赠天堂</a:t>
            </a:r>
            <a:endParaRPr b="1" i="1" lang="en-US" sz="9600" spc="1" strike="noStrike">
              <a:ln w="2556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82700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3" descr="005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620640"/>
            <a:ext cx="6264360" cy="79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感谢这些最可爱的人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11"/>
          <p:cNvPicPr/>
          <p:nvPr/>
        </p:nvPicPr>
        <p:blipFill>
          <a:blip r:embed="rId2"/>
          <a:stretch/>
        </p:blipFill>
        <p:spPr>
          <a:xfrm>
            <a:off x="1314360" y="1628640"/>
            <a:ext cx="3186360" cy="218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12"/>
          <p:cNvPicPr/>
          <p:nvPr/>
        </p:nvPicPr>
        <p:blipFill>
          <a:blip r:embed="rId3"/>
          <a:stretch/>
        </p:blipFill>
        <p:spPr>
          <a:xfrm>
            <a:off x="4651200" y="1557360"/>
            <a:ext cx="3233880" cy="218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13"/>
          <p:cNvPicPr/>
          <p:nvPr/>
        </p:nvPicPr>
        <p:blipFill>
          <a:blip r:embed="rId4"/>
          <a:stretch/>
        </p:blipFill>
        <p:spPr>
          <a:xfrm>
            <a:off x="1260360" y="3938760"/>
            <a:ext cx="3240360" cy="218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09"/>
          <p:cNvPicPr/>
          <p:nvPr/>
        </p:nvPicPr>
        <p:blipFill>
          <a:blip r:embed="rId5"/>
          <a:stretch/>
        </p:blipFill>
        <p:spPr>
          <a:xfrm>
            <a:off x="4645080" y="3933720"/>
            <a:ext cx="324000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468360" y="69228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可知道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废墟掩埋了一切的背景下，这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两张剪纸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带给一个可怜孩子的是什么吗？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丈夫动情地对我说，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黑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那是一个快乐至极的天堂呀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想，在这个世界上，大概只有孩子才最懂得孩子：自己爱的，就相信小朋友一定也爱。哪怕捧在手里的只是几粒石子，甚至是一块捏的什么也不像的泥巴，但当他把这作为礼物赠给一个极企盼它的小伙伴时，他们就共有了一个快乐的天堂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黑体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895480" y="895320"/>
            <a:ext cx="374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像听神话一样听着他的讲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知什么时候已把那两张曾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予他莫大欢乐与安慰的剪纸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了自己的胸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326320" y="3429000"/>
            <a:ext cx="33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“贴”字，你读懂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431640" y="3105000"/>
            <a:ext cx="828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这篇感人的文章中，你从哪儿感受到一颗童心给予另一颗童心的幸福与快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</a:t>
            </a:r>
            <a:r>
              <a:rPr b="0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结合</a:t>
            </a:r>
            <a:r>
              <a:rPr b="0" lang="zh-CN" sz="4000" spc="-1" strike="noStrike">
                <a:solidFill>
                  <a:srgbClr val="333399"/>
                </a:solidFill>
                <a:latin typeface="幼圆"/>
                <a:ea typeface="华文行楷"/>
              </a:rPr>
              <a:t>课文相关语句</a:t>
            </a:r>
            <a:r>
              <a:rPr b="0" lang="zh-CN" sz="4000" spc="-1" strike="noStrike">
                <a:solidFill>
                  <a:srgbClr val="333399"/>
                </a:solidFill>
                <a:latin typeface="华文新魏"/>
                <a:ea typeface="华文行楷"/>
              </a:rPr>
              <a:t>谈谈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的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受，也可以</a:t>
            </a:r>
            <a:r>
              <a:rPr b="0" lang="zh-CN" sz="4000" spc="-1" strike="noStrike">
                <a:solidFill>
                  <a:srgbClr val="333399"/>
                </a:solidFill>
                <a:latin typeface="华文新魏"/>
                <a:ea typeface="华文行楷"/>
              </a:rPr>
              <a:t>通过</a:t>
            </a:r>
            <a:r>
              <a:rPr b="0" lang="zh-CN" sz="4000" spc="-1" strike="noStrike">
                <a:solidFill>
                  <a:srgbClr val="333399"/>
                </a:solidFill>
                <a:latin typeface="幼圆"/>
                <a:ea typeface="华文行楷"/>
              </a:rPr>
              <a:t>朗读</a:t>
            </a:r>
            <a:r>
              <a:rPr b="0" lang="zh-CN" sz="4000" spc="-1" strike="noStrike">
                <a:solidFill>
                  <a:srgbClr val="333399"/>
                </a:solidFill>
                <a:latin typeface="华文新魏"/>
                <a:ea typeface="华文行楷"/>
              </a:rPr>
              <a:t>表达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895480" y="895320"/>
            <a:ext cx="374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像听神话一样听着他的讲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知什么时候已把那两张曾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予他莫大欢乐与安慰的剪纸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了自己的胸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66280" y="3602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476360" y="371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找出”我“对”剪纸“态度变化的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2843280" y="104616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我多么希望自己就是这两张剪纸的赠送者，多么希望童年时的一次赠送被人刻骨铭心地牢记着，越来越成为一笔千金不换的财富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华文新魏"/>
              </a:rPr>
              <a:t>…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002"/>
          <p:cNvPicPr/>
          <p:nvPr/>
        </p:nvPicPr>
        <p:blipFill>
          <a:blip r:embed="rId1"/>
          <a:stretch/>
        </p:blipFill>
        <p:spPr>
          <a:xfrm>
            <a:off x="0" y="0"/>
            <a:ext cx="8893080" cy="6291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2700360" y="1125360"/>
            <a:ext cx="568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我只知道，一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童心给另一颗童心捐赠了一个真正的天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于孩子来说什么才是真正的天堂？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588960" y="605808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1332000" y="765000"/>
            <a:ext cx="743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1.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读完全文，你最想说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句话是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671480" y="2349360"/>
            <a:ext cx="678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想象灾区的小朋友收到毛毛熊和发带时的情景，续编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（想象要合情合理，从童心的角度去思考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9B56-A8D3-460B-9864-201BFD50D4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07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9"/>
          <p:cNvSpPr/>
          <p:nvPr/>
        </p:nvSpPr>
        <p:spPr>
          <a:xfrm>
            <a:off x="8317080" y="6093000"/>
            <a:ext cx="287280" cy="360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11280" y="169704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在毛毛熊的肚子上缝着一块白布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面歪歪扭扭地写着 ：“灾区的小朋友 ，我不知道你是谁，可我知道受灾后，你连吃饭、穿衣都困难，肯定没有毛毛熊和发带。是我求妈妈一定把它们送给你的。祝你快乐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0"/>
          <p:cNvPicPr/>
          <p:nvPr/>
        </p:nvPicPr>
        <p:blipFill>
          <a:blip r:embed="rId2"/>
          <a:stretch/>
        </p:blipFill>
        <p:spPr>
          <a:xfrm>
            <a:off x="5580000" y="5157720"/>
            <a:ext cx="2232000" cy="17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0"/>
          <p:cNvPicPr/>
          <p:nvPr/>
        </p:nvPicPr>
        <p:blipFill>
          <a:blip r:embed="rId3"/>
          <a:stretch/>
        </p:blipFill>
        <p:spPr>
          <a:xfrm>
            <a:off x="7810560" y="5157720"/>
            <a:ext cx="1333440" cy="170028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1"/>
          <p:cNvSpPr/>
          <p:nvPr/>
        </p:nvSpPr>
        <p:spPr>
          <a:xfrm>
            <a:off x="700200" y="5375160"/>
            <a:ext cx="51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11280" y="1125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分到的书很新，翻开第一页，里面竟有两张剪纸！他高兴得欢呼起来。这欢呼引来了全班的同学，大家嫉妒地分享了他那份巨大的欢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……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047680" y="4365720"/>
            <a:ext cx="38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华文行楷"/>
              </a:rPr>
              <a:t>省略号省略了什么？联系当时的情景想象一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华文行楷"/>
              </a:rPr>
              <a:t>班里的同学会怎样？他们会说些什么？作者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华文行楷"/>
              </a:rPr>
              <a:t>丈夫当时会怎样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21"/>
          <p:cNvPicPr/>
          <p:nvPr/>
        </p:nvPicPr>
        <p:blipFill>
          <a:blip r:embed="rId2"/>
          <a:stretch/>
        </p:blipFill>
        <p:spPr>
          <a:xfrm>
            <a:off x="1332000" y="374760"/>
            <a:ext cx="4249800" cy="2781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2463840" y="38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908000" y="3139920"/>
            <a:ext cx="68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凌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河北唐山地区发生了大地震，在蓝光闪过的顷刻间，百万人口的城市被夷为平地，无数个家庭因此而破碎，甚至有的家庭从此在地球绝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希望之翼.wma" descr=""/>
          <p:cNvPicPr/>
          <p:nvPr/>
        </p:nvPicPr>
        <p:blipFill>
          <a:blip r:embed="rId3"/>
          <a:stretch/>
        </p:blipFill>
        <p:spPr>
          <a:xfrm>
            <a:off x="824400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22"/>
          <p:cNvPicPr/>
          <p:nvPr/>
        </p:nvPicPr>
        <p:blipFill>
          <a:blip r:embed="rId1"/>
          <a:stretch/>
        </p:blipFill>
        <p:spPr>
          <a:xfrm>
            <a:off x="0" y="0"/>
            <a:ext cx="9288360" cy="6788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1:09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4:02Z</dcterms:modified>
  <cp:revision>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