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coin.wav" ContentType="audio/x-wav"/>
  <Override PartName="/ppt/media/applause.wav" ContentType="audio/x-wav"/>
  <Override PartName="/ppt/media/image6.jpeg" ContentType="image/jpeg"/>
  <Override PartName="/ppt/media/chimes.wav" ContentType="audio/x-wav"/>
  <Override PartName="/ppt/media/image7.jpeg" ContentType="image/jpeg"/>
  <Override PartName="/ppt/media/image11.jpeg" ContentType="image/jpeg"/>
  <Override PartName="/ppt/media/image9.jpeg" ContentType="image/jpeg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8831-25C3-43F7-BC2D-A1EAA647EE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CD47-CCC3-4382-8A40-10F0C86C73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A62-86BF-45C1-B9FA-366CD80E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404-80FE-4886-AB95-2B658C3D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2A2-42E9-4618-BD79-E71B3989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DC8-B22B-4B4E-82BE-99FB58C5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520-BBCA-45F5-B8E5-879A61CC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A59-C5F3-4429-ADD3-720D51E5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C4FC-31EF-4178-9B41-C306B778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030-9595-4FCF-9907-F0C6108D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7C8-6793-480D-B57C-673C7E39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FD2-DE12-481A-96A8-6DE2EBCB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DAE-6D99-49D7-B17D-E11E4496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EC2-CCA8-43C8-A381-D32B33D6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7550-A506-4044-9170-A6007A0750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coin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779480" y="476280"/>
            <a:ext cx="5715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00"/>
                </a:solidFill>
                <a:latin typeface="华文隶书"/>
                <a:ea typeface="华文隶书"/>
              </a:rPr>
              <a:t>空城计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1820880" y="227664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50" name="矩形 9"/>
          <p:cNvSpPr/>
          <p:nvPr/>
        </p:nvSpPr>
        <p:spPr>
          <a:xfrm>
            <a:off x="1933200" y="6093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C9CC-FF53-46E1-84E7-AF36A96441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684360" y="719280"/>
            <a:ext cx="7846920" cy="523872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590920" y="1160640"/>
            <a:ext cx="403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方正隶书_GBK"/>
              </a:rPr>
              <a:t>滚滚长江东逝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方正隶书_GBK"/>
              </a:rPr>
              <a:t>浪花淘尽英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方正隶书_GBK"/>
              </a:rPr>
              <a:t>是非成败转头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方正隶书_GBK"/>
              </a:rPr>
              <a:t>青山依旧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方正隶书_GBK"/>
              </a:rPr>
              <a:t>几度夕阳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方正隶书_GBK"/>
              </a:rPr>
              <a:t>白发渔樵江渚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方正隶书_GBK"/>
              </a:rPr>
              <a:t>惯看秋月春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方正隶书_GBK"/>
              </a:rPr>
              <a:t>一壶浊酒喜相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方正隶书_GBK"/>
              </a:rPr>
              <a:t>古今多少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方正隶书_GBK"/>
              </a:rPr>
              <a:t>都付笑谈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隶书_GBK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电视剧 - 三国演义 - 主题曲 大江涛泾.mp3" descr="电视剧 - 三国演义 - 主题曲 大江涛泾"/>
          <p:cNvPicPr/>
          <p:nvPr/>
        </p:nvPicPr>
        <p:blipFill>
          <a:blip r:embed="rId2"/>
          <a:stretch/>
        </p:blipFill>
        <p:spPr>
          <a:xfrm>
            <a:off x="4665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2444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4空城计.mp3" descr="24空城计"/>
          <p:cNvPicPr/>
          <p:nvPr/>
        </p:nvPicPr>
        <p:blipFill>
          <a:blip r:embed="rId1"/>
          <a:stretch/>
        </p:blipFill>
        <p:spPr>
          <a:xfrm>
            <a:off x="466560" y="83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760400" y="797040"/>
            <a:ext cx="698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00000" y="148428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诸葛亮为什么要实施“空城计”？他是怎样实施“空城计”的？司马懿对诸葛亮的”空城计“作何反应？结果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86438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6"/>
          <p:cNvSpPr/>
          <p:nvPr/>
        </p:nvSpPr>
        <p:spPr>
          <a:xfrm>
            <a:off x="1332000" y="374004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0" y="836640"/>
            <a:ext cx="79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细读课文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1--2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自然段思考：诸葛亮在什么情况下想到用计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空城计6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987640" y="3860640"/>
            <a:ext cx="3095640" cy="140184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"/>
          <p:cNvGrpSpPr/>
          <p:nvPr/>
        </p:nvGrpSpPr>
        <p:grpSpPr>
          <a:xfrm>
            <a:off x="5940000" y="2133720"/>
            <a:ext cx="1660320" cy="1582560"/>
            <a:chOff x="5940000" y="2133720"/>
            <a:chExt cx="1660320" cy="1582560"/>
          </a:xfrm>
        </p:grpSpPr>
        <p:sp>
          <p:nvSpPr>
            <p:cNvPr id="61" name="Text Box 5"/>
            <p:cNvSpPr/>
            <p:nvPr/>
          </p:nvSpPr>
          <p:spPr>
            <a:xfrm>
              <a:off x="6517440" y="213372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5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"/>
            <p:cNvSpPr/>
            <p:nvPr/>
          </p:nvSpPr>
          <p:spPr>
            <a:xfrm flipH="1">
              <a:off x="5940000" y="2853000"/>
              <a:ext cx="1008360" cy="863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7" descr="诸葛亮"/>
          <p:cNvPicPr/>
          <p:nvPr/>
        </p:nvPicPr>
        <p:blipFill>
          <a:blip r:embed="rId2"/>
          <a:stretch/>
        </p:blipFill>
        <p:spPr>
          <a:xfrm>
            <a:off x="6661080" y="3502080"/>
            <a:ext cx="1728720" cy="161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司马懿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39640" y="3573360"/>
            <a:ext cx="1730520" cy="154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826920" y="5381640"/>
            <a:ext cx="77281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司马懿带领十五万人马朝西城打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诸葛亮身边没有大将，只有五千兵卒，有一半还是运粮草的兵，不能打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这些兵卒听说司马懿的大军来了，都吓得心惊胆战，不知怎么办才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0"/>
          <p:cNvGrpSpPr/>
          <p:nvPr/>
        </p:nvGrpSpPr>
        <p:grpSpPr>
          <a:xfrm>
            <a:off x="958680" y="2276640"/>
            <a:ext cx="2317680" cy="1439280"/>
            <a:chOff x="958680" y="2276640"/>
            <a:chExt cx="2317680" cy="1439280"/>
          </a:xfrm>
        </p:grpSpPr>
        <p:sp>
          <p:nvSpPr>
            <p:cNvPr id="67" name="Text Box 11"/>
            <p:cNvSpPr/>
            <p:nvPr/>
          </p:nvSpPr>
          <p:spPr>
            <a:xfrm>
              <a:off x="970560" y="2276640"/>
              <a:ext cx="170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50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2"/>
            <p:cNvSpPr/>
            <p:nvPr/>
          </p:nvSpPr>
          <p:spPr>
            <a:xfrm>
              <a:off x="2339640" y="2923920"/>
              <a:ext cx="936720" cy="792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3"/>
            <p:cNvSpPr/>
            <p:nvPr/>
          </p:nvSpPr>
          <p:spPr>
            <a:xfrm>
              <a:off x="958680" y="2276640"/>
              <a:ext cx="170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50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684360" y="2708280"/>
            <a:ext cx="7920000" cy="259380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叫把所有的旗子都藏起来，城里的人不许随便出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不许大声说话，把四面城门全部打开，每个城门口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十个兵卒扮成老百姓的模样，拿着扫帚打扫街道，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魏兵到了，也不许慌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诸葛亮吩咐完了，自己把鹤毛大衣一披，戴上丝织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头巾，领着两个小童儿上了城头，坐在城楼上喝酒弹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诸葛亮"/>
          <p:cNvPicPr/>
          <p:nvPr/>
        </p:nvPicPr>
        <p:blipFill>
          <a:blip r:embed="rId2"/>
          <a:stretch/>
        </p:blipFill>
        <p:spPr>
          <a:xfrm>
            <a:off x="324000" y="692280"/>
            <a:ext cx="2089080" cy="1873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701800" y="8380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看到这一切，诸葛亮是怎么做的呢？把他表示动作的词画出来。这些词说明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332000" y="558972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临危不惧 处事不惊 遇事冷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2411280" y="2997360"/>
            <a:ext cx="5040360" cy="187164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司马昭问：“为什么要撤退？只怕诸葛亮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兵，故意做出样子来迷惑我们。”司马懿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小小年纪懂得什么，快快后退四十里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908000" y="26028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工夫不大，司马懿的大军来到城下，看到这种情况，他有什么表现？他是怎么做的？他的儿子能阻拦他的这种做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467080" y="3046320"/>
            <a:ext cx="354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492360" y="6165720"/>
            <a:ext cx="42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谨慎 多疑 不听劝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司马懿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-30240" y="260280"/>
            <a:ext cx="1722600" cy="1548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2268360" y="1917720"/>
            <a:ext cx="5616720" cy="792000"/>
          </a:xfrm>
          <a:prstGeom prst="cloudCallout">
            <a:avLst>
              <a:gd name="adj1" fmla="val -59875"/>
              <a:gd name="adj2" fmla="val -6922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心里非常疑惑，连忙下令叫军队向后撤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1116000" y="2925720"/>
            <a:ext cx="1150920" cy="4320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9"/>
          <p:cNvGrpSpPr/>
          <p:nvPr/>
        </p:nvGrpSpPr>
        <p:grpSpPr>
          <a:xfrm>
            <a:off x="2050920" y="4726080"/>
            <a:ext cx="5618160" cy="1222200"/>
            <a:chOff x="2050920" y="4726080"/>
            <a:chExt cx="5618160" cy="1222200"/>
          </a:xfrm>
        </p:grpSpPr>
        <p:sp>
          <p:nvSpPr>
            <p:cNvPr id="82" name="AutoShape 10"/>
            <p:cNvSpPr/>
            <p:nvPr/>
          </p:nvSpPr>
          <p:spPr>
            <a:xfrm>
              <a:off x="2050920" y="5445360"/>
              <a:ext cx="5618160" cy="502920"/>
            </a:xfrm>
            <a:prstGeom prst="flowChartTerminator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由此我们可看出司马懿是怎样的一个人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11"/>
            <p:cNvSpPr/>
            <p:nvPr/>
          </p:nvSpPr>
          <p:spPr>
            <a:xfrm>
              <a:off x="4428000" y="4726080"/>
              <a:ext cx="792000" cy="502920"/>
            </a:xfrm>
            <a:prstGeom prst="upDownArrow">
              <a:avLst>
                <a:gd name="adj1" fmla="val 50000"/>
                <a:gd name="adj2" fmla="val 2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268360" y="40644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诸葛亮见司马懿撤退后，他才觉得怎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413080" y="17017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从中说明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718160" y="1701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Arial"/>
              </a:rPr>
              <a:t>担心、着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68360" y="2565360"/>
            <a:ext cx="80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左右官员都很惊奇，为什么魏国名将见了丞相退兵会这么快时，诸葛亮是怎么说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68360" y="3573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诸葛亮说：“司马懿知道我一向小心，决不敢冒险。今天城门大开，他就会怀疑我有埋伏，所以很快地撤退了。其实我倒不想冒险，实在是不得已，才用这个办法的。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96720" y="51595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从诸葛亮的语言描写中，你又体会到诸葛是一个怎样的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68360" y="5805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胆识过人 神机妙算 料事如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诸葛亮"/>
          <p:cNvPicPr/>
          <p:nvPr/>
        </p:nvPicPr>
        <p:blipFill>
          <a:blip r:embed="rId1"/>
          <a:stretch/>
        </p:blipFill>
        <p:spPr>
          <a:xfrm>
            <a:off x="36360" y="117360"/>
            <a:ext cx="2087640" cy="1873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"/>
          <p:cNvSpPr/>
          <p:nvPr/>
        </p:nvSpPr>
        <p:spPr>
          <a:xfrm>
            <a:off x="4213080" y="765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冷汗湿透了衣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90400" y="682560"/>
            <a:ext cx="844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拓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诸葛亮是《三国演义》里的主要人物。你还知道这本古典文学名著中的其他人物吗？再选几个写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44720" y="3429000"/>
            <a:ext cx="66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刘备         曹操        周瑜          关羽       张飞        孙权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620720" y="2708280"/>
            <a:ext cx="6624720" cy="21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96" name="文本框 1"/>
          <p:cNvSpPr/>
          <p:nvPr/>
        </p:nvSpPr>
        <p:spPr>
          <a:xfrm>
            <a:off x="826920" y="5843520"/>
            <a:ext cx="10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1:13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6:43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