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gif" ContentType="image/gif"/>
  <Override PartName="/ppt/media/type.wav" ContentType="audio/x-wav"/>
  <Override PartName="/ppt/media/image10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ED6E-91D0-4676-810A-72C3D40085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2334-43FC-41B4-9AE4-E3B47AEC1B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707-C8A8-4439-A2D9-E088066D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FFC-6B27-4020-94EC-E217685B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78A-7B02-4FB7-91BA-857EBBE7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17B-008D-4024-9536-9000A359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FC45-1D48-46DC-A314-2BD5D363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1784-603A-479E-8C4D-8E6B5E48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400F-58E0-444D-99D9-64894275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4134-B62C-4606-B468-A1246372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5A98-5733-4CB5-87E2-45907D09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E66E-E11C-4B71-8A5B-CD68C489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95AF-B39E-4559-85A4-B6D3E5C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6EB-1AF9-4DB0-B4EF-ACEF69FC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D344-3568-4366-828F-4DF5E934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9CC0-4753-45F2-81F7-AD9AAD18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8BCC-352E-4C92-BB84-A7CDED9E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428E-D023-4A75-B003-6F0015A3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E76A-E00C-4A07-AD43-BCCB9A6B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DCE8-0D7B-47D7-9406-EA7DFDE7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DD80-F6D4-4AC8-AB3E-67026EF1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7A06-0150-47D0-8845-F397707B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4DE3-8783-46E7-8EEE-C87EE8C6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D2E1-AE67-4C0A-B9C1-3DF6899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A9A-6104-4EF5-B6B7-E267F06D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21EA-FEFA-4208-A474-738075F8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92B9-E096-48D1-8089-C319CD68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56F0-1A47-4725-B596-BC06A1D0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8E8D-3186-478D-928C-1BA5BECC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AFAD-6207-4C20-8417-1487CF3A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258B-1EBE-4A86-8B9F-772F7C11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DCCF-34E4-4FFE-B6B4-77FE1656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6FC-C03E-4AAB-90CA-B2FEBA22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E68-9E24-4D05-B682-A5E2CC3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CE0-70BE-46AD-82B9-F79E4036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7F6-AE19-4C13-AB55-65EF0471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49D-8E73-4AAE-A9FF-883CA7C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7C1-6FA9-4ABC-BC6A-1BD5A9BE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3FD3-4EE1-428F-AFD8-0021CAB87A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86E9-1AB6-46E0-9F99-1AB79E5006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9802-6373-4D2A-9AC2-05038D1313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"/>
          <p:cNvPicPr/>
          <p:nvPr/>
        </p:nvPicPr>
        <p:blipFill>
          <a:blip r:embed="rId1"/>
          <a:srcRect l="0" t="0" r="784" b="9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219320" y="4267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华文新魏"/>
              </a:rPr>
              <a:t>22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刻 舟 求 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338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湘教版语文三年级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182700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个人一点儿也不着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掏出小刀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船舷上刻了一个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14400" y="312408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2209680" y="198108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533520" y="4572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人催他：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还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赶快捞！在船舷上刻个记号有什么用啊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14440" y="5943600"/>
            <a:ext cx="37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十分着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762120" y="990720"/>
            <a:ext cx="773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个人不慌不忙，指了指刻的记号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着急，宝剑是从这儿掉下去的，等船靠了岸，我从这儿跳下去，准能把宝剑捞上来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3048120" y="228600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2971800" y="2819520"/>
            <a:ext cx="54864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838080" y="3429000"/>
            <a:ext cx="76201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914400" y="3962520"/>
            <a:ext cx="53341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"/>
          <p:cNvGrpSpPr/>
          <p:nvPr/>
        </p:nvGrpSpPr>
        <p:grpSpPr>
          <a:xfrm>
            <a:off x="2362320" y="4038480"/>
            <a:ext cx="660240" cy="152280"/>
            <a:chOff x="2362320" y="4038480"/>
            <a:chExt cx="660240" cy="152280"/>
          </a:xfrm>
        </p:grpSpPr>
        <p:sp>
          <p:nvSpPr>
            <p:cNvPr id="204" name="AutoShape 8"/>
            <p:cNvSpPr/>
            <p:nvPr/>
          </p:nvSpPr>
          <p:spPr>
            <a:xfrm>
              <a:off x="2362320" y="40384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>
              <a:off x="2793960" y="40384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0"/>
          <p:cNvGrpSpPr/>
          <p:nvPr/>
        </p:nvGrpSpPr>
        <p:grpSpPr>
          <a:xfrm>
            <a:off x="914400" y="3962520"/>
            <a:ext cx="733320" cy="152280"/>
            <a:chOff x="914400" y="3962520"/>
            <a:chExt cx="733320" cy="152280"/>
          </a:xfrm>
        </p:grpSpPr>
        <p:sp>
          <p:nvSpPr>
            <p:cNvPr id="207" name="AutoShape 11"/>
            <p:cNvSpPr/>
            <p:nvPr/>
          </p:nvSpPr>
          <p:spPr>
            <a:xfrm>
              <a:off x="914400" y="396252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"/>
            <p:cNvSpPr/>
            <p:nvPr/>
          </p:nvSpPr>
          <p:spPr>
            <a:xfrm>
              <a:off x="1419120" y="396252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有人催他：“还不赶快捞！在船舷上刻个记号有什么用啊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那个人说：“不用着急，宝剑是从这儿掉下去的，等船靠了岸，我从这儿跳下去，准能把宝剑捞上来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4771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十分着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不慌不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2"/>
          <p:cNvSpPr/>
          <p:nvPr/>
        </p:nvSpPr>
        <p:spPr>
          <a:xfrm flipV="1">
            <a:off x="1371600" y="761760"/>
            <a:ext cx="3962520" cy="2514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"/>
          <p:cNvSpPr/>
          <p:nvPr/>
        </p:nvSpPr>
        <p:spPr>
          <a:xfrm flipV="1">
            <a:off x="2590920" y="274320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43120" y="380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刻舟求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572000" y="121932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2438280" y="4876920"/>
            <a:ext cx="609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186000" y="48196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335560" y="12193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027680" y="36576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？捞不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304920" y="1219320"/>
            <a:ext cx="2819160" cy="1066680"/>
          </a:xfrm>
          <a:prstGeom prst="cloudCallout">
            <a:avLst>
              <a:gd name="adj1" fmla="val -39865"/>
              <a:gd name="adj2" fmla="val 113837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那怎样才能捞到宝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Oval 3"/>
          <p:cNvSpPr/>
          <p:nvPr/>
        </p:nvSpPr>
        <p:spPr>
          <a:xfrm>
            <a:off x="3276720" y="1981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3657600" y="17524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3962520" y="16002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228600" y="304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学习感悟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114800" y="765000"/>
            <a:ext cx="50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267080" y="12193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你来说说这个人是个什么样的人呢？从哪里可以看出来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609480" y="457200"/>
            <a:ext cx="1543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总结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85800" y="1752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则成语故事讽刺了那种死心眼，不懂变通的人，告诉我们事物是发展变化的，要用发展变化的眼光看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4724280" y="3657600"/>
            <a:ext cx="3429000" cy="2209680"/>
          </a:xfrm>
          <a:prstGeom prst="cloudCallout">
            <a:avLst>
              <a:gd name="adj1" fmla="val 63657"/>
              <a:gd name="adj2" fmla="val 64222"/>
            </a:avLst>
          </a:prstGeom>
          <a:solidFill>
            <a:srgbClr val="f0f44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了这篇课文，你懂了什么道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Oval 3"/>
          <p:cNvSpPr/>
          <p:nvPr/>
        </p:nvSpPr>
        <p:spPr>
          <a:xfrm>
            <a:off x="3276720" y="1981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3657600" y="17524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3962520" y="16002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6"/>
          <p:cNvSpPr txBox="1"/>
          <p:nvPr/>
        </p:nvSpPr>
        <p:spPr>
          <a:xfrm>
            <a:off x="228600" y="304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学习感悟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4114800" y="765000"/>
            <a:ext cx="50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4572000" y="114300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熟读课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刻舟求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基训第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续写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刻舟求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489C-0A2E-4D20-8F26-EEDE700AF8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ef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719280" y="1219320"/>
            <a:ext cx="84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刻舟求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: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: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: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92000" y="3124080"/>
            <a:ext cx="8352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刻舟求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指的是在小船上刻个记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再从刻着记号的地方跳下水去找宝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962520" y="1219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刻印 雕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58000" y="1295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676520" y="2209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找，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029200" y="2133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古代的一种兵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1181160" y="5411880"/>
            <a:ext cx="52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听录音的时候轻声地跟读，注意故      事中人物的语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9480" y="34290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520" y="3276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标好段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给生字标好拼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09480" y="40384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33520" y="449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知道文章大致讲了一件什么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763560" y="1447920"/>
            <a:ext cx="81518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前，有个人坐船过江。他一不小心，挂在身上的宝剑掉进江里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个人一点儿也不着急，拿出小刀在船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xiá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刻了一个记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hào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人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uī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不赶快捞！在船舷上刻记号有什么用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个人不慌不忙，指了指刻的记号，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着急，宝剑是从这儿掉下去的，等船靠了岸，我从这儿跳下去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zhǔ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能把宝剑捞上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061080" y="228600"/>
            <a:ext cx="3409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舟求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剑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jiàn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已录下的691.WAV" descr=""/>
          <p:cNvPicPr/>
          <p:nvPr/>
        </p:nvPicPr>
        <p:blipFill>
          <a:blip r:embed="rId6"/>
          <a:stretch/>
        </p:blipFill>
        <p:spPr>
          <a:xfrm>
            <a:off x="304920" y="5943600"/>
            <a:ext cx="487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13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2514600"/>
            <a:ext cx="79246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ù            kè              jiàn        tāo                  xiá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言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苦     宝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剑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出       船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lāo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催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促    打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533520" y="304920"/>
            <a:ext cx="2209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我会读</a:t>
            </a:r>
            <a:endParaRPr b="0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a9ef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763560" y="1447920"/>
            <a:ext cx="81518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前，有个人坐船过江。他一不小心，挂在身上的宝剑掉进江里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个人一点儿也不着急，拿出小刀在船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xiá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刻了一个记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hào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人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uī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不赶快捞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个人不慌不忙，指了指刻的记号，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着急，宝剑是从这儿掉下去的，等船靠了岸，我从这儿跳下去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zhǔ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能把宝剑捞上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61080" y="228600"/>
            <a:ext cx="3409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舟求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剑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jiàn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已录下的1332.WAV" descr=""/>
          <p:cNvPicPr/>
          <p:nvPr/>
        </p:nvPicPr>
        <p:blipFill>
          <a:blip r:embed="rId6"/>
          <a:stretch/>
        </p:blipFill>
        <p:spPr>
          <a:xfrm>
            <a:off x="304920" y="6019920"/>
            <a:ext cx="42696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13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ef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324000" y="476280"/>
            <a:ext cx="2232000" cy="2434680"/>
            <a:chOff x="324000" y="476280"/>
            <a:chExt cx="2232000" cy="2434680"/>
          </a:xfrm>
        </p:grpSpPr>
        <p:grpSp>
          <p:nvGrpSpPr>
            <p:cNvPr id="158" name="Group 3"/>
            <p:cNvGrpSpPr/>
            <p:nvPr/>
          </p:nvGrpSpPr>
          <p:grpSpPr>
            <a:xfrm>
              <a:off x="324000" y="688680"/>
              <a:ext cx="2232000" cy="2222280"/>
              <a:chOff x="324000" y="688680"/>
              <a:chExt cx="2232000" cy="222228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324000" y="688680"/>
                <a:ext cx="2232000" cy="22222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5"/>
              <p:cNvGrpSpPr/>
              <p:nvPr/>
            </p:nvGrpSpPr>
            <p:grpSpPr>
              <a:xfrm>
                <a:off x="324000" y="688680"/>
                <a:ext cx="2230920" cy="2222280"/>
                <a:chOff x="324000" y="688680"/>
                <a:chExt cx="2230920" cy="2222280"/>
              </a:xfrm>
            </p:grpSpPr>
            <p:sp>
              <p:nvSpPr>
                <p:cNvPr id="161" name="Line 6"/>
                <p:cNvSpPr/>
                <p:nvPr/>
              </p:nvSpPr>
              <p:spPr>
                <a:xfrm>
                  <a:off x="1438920" y="688680"/>
                  <a:ext cx="0" cy="22222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7"/>
                <p:cNvSpPr/>
                <p:nvPr/>
              </p:nvSpPr>
              <p:spPr>
                <a:xfrm>
                  <a:off x="324000" y="1799280"/>
                  <a:ext cx="223092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Text Box 8"/>
            <p:cNvSpPr/>
            <p:nvPr/>
          </p:nvSpPr>
          <p:spPr>
            <a:xfrm>
              <a:off x="395280" y="476280"/>
              <a:ext cx="19684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剑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9"/>
          <p:cNvGrpSpPr/>
          <p:nvPr/>
        </p:nvGrpSpPr>
        <p:grpSpPr>
          <a:xfrm>
            <a:off x="5940360" y="692280"/>
            <a:ext cx="2376720" cy="2232000"/>
            <a:chOff x="5940360" y="692280"/>
            <a:chExt cx="2376720" cy="2232000"/>
          </a:xfrm>
        </p:grpSpPr>
        <p:sp>
          <p:nvSpPr>
            <p:cNvPr id="165" name="Rectangle 10"/>
            <p:cNvSpPr/>
            <p:nvPr/>
          </p:nvSpPr>
          <p:spPr>
            <a:xfrm>
              <a:off x="5940360" y="692280"/>
              <a:ext cx="2376720" cy="22320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1"/>
            <p:cNvGrpSpPr/>
            <p:nvPr/>
          </p:nvGrpSpPr>
          <p:grpSpPr>
            <a:xfrm>
              <a:off x="5940360" y="692280"/>
              <a:ext cx="2375640" cy="2232000"/>
              <a:chOff x="5940360" y="692280"/>
              <a:chExt cx="2375640" cy="2232000"/>
            </a:xfrm>
          </p:grpSpPr>
          <p:sp>
            <p:nvSpPr>
              <p:cNvPr id="167" name="Line 12"/>
              <p:cNvSpPr/>
              <p:nvPr/>
            </p:nvSpPr>
            <p:spPr>
              <a:xfrm>
                <a:off x="7127640" y="692280"/>
                <a:ext cx="0" cy="2232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3"/>
              <p:cNvSpPr/>
              <p:nvPr/>
            </p:nvSpPr>
            <p:spPr>
              <a:xfrm>
                <a:off x="5940360" y="1807560"/>
                <a:ext cx="237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Text Box 14"/>
          <p:cNvSpPr/>
          <p:nvPr/>
        </p:nvSpPr>
        <p:spPr>
          <a:xfrm>
            <a:off x="6543000" y="54936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5"/>
          <p:cNvGrpSpPr/>
          <p:nvPr/>
        </p:nvGrpSpPr>
        <p:grpSpPr>
          <a:xfrm>
            <a:off x="611280" y="3716280"/>
            <a:ext cx="2232000" cy="2435040"/>
            <a:chOff x="611280" y="3716280"/>
            <a:chExt cx="2232000" cy="2435040"/>
          </a:xfrm>
        </p:grpSpPr>
        <p:grpSp>
          <p:nvGrpSpPr>
            <p:cNvPr id="171" name="Group 16"/>
            <p:cNvGrpSpPr/>
            <p:nvPr/>
          </p:nvGrpSpPr>
          <p:grpSpPr>
            <a:xfrm>
              <a:off x="611280" y="3928680"/>
              <a:ext cx="2232000" cy="2222640"/>
              <a:chOff x="611280" y="3928680"/>
              <a:chExt cx="2232000" cy="2222640"/>
            </a:xfrm>
          </p:grpSpPr>
          <p:sp>
            <p:nvSpPr>
              <p:cNvPr id="172" name="Rectangle 17"/>
              <p:cNvSpPr/>
              <p:nvPr/>
            </p:nvSpPr>
            <p:spPr>
              <a:xfrm>
                <a:off x="611280" y="3928680"/>
                <a:ext cx="2232000" cy="222264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18"/>
              <p:cNvGrpSpPr/>
              <p:nvPr/>
            </p:nvGrpSpPr>
            <p:grpSpPr>
              <a:xfrm>
                <a:off x="611280" y="3928680"/>
                <a:ext cx="2230920" cy="2222640"/>
                <a:chOff x="611280" y="3928680"/>
                <a:chExt cx="2230920" cy="2222640"/>
              </a:xfrm>
            </p:grpSpPr>
            <p:sp>
              <p:nvSpPr>
                <p:cNvPr id="174" name="Line 19"/>
                <p:cNvSpPr/>
                <p:nvPr/>
              </p:nvSpPr>
              <p:spPr>
                <a:xfrm>
                  <a:off x="1726200" y="3928680"/>
                  <a:ext cx="0" cy="22226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0"/>
                <p:cNvSpPr/>
                <p:nvPr/>
              </p:nvSpPr>
              <p:spPr>
                <a:xfrm>
                  <a:off x="611280" y="5039280"/>
                  <a:ext cx="223092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Text Box 21"/>
            <p:cNvSpPr/>
            <p:nvPr/>
          </p:nvSpPr>
          <p:spPr>
            <a:xfrm>
              <a:off x="682560" y="3716280"/>
              <a:ext cx="19684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号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2"/>
          <p:cNvGrpSpPr/>
          <p:nvPr/>
        </p:nvGrpSpPr>
        <p:grpSpPr>
          <a:xfrm>
            <a:off x="6084720" y="3573360"/>
            <a:ext cx="2376360" cy="2435400"/>
            <a:chOff x="6084720" y="3573360"/>
            <a:chExt cx="2376360" cy="2435400"/>
          </a:xfrm>
        </p:grpSpPr>
        <p:grpSp>
          <p:nvGrpSpPr>
            <p:cNvPr id="178" name="Group 23"/>
            <p:cNvGrpSpPr/>
            <p:nvPr/>
          </p:nvGrpSpPr>
          <p:grpSpPr>
            <a:xfrm>
              <a:off x="6084720" y="3786120"/>
              <a:ext cx="2376360" cy="2222640"/>
              <a:chOff x="6084720" y="3786120"/>
              <a:chExt cx="2376360" cy="2222640"/>
            </a:xfrm>
          </p:grpSpPr>
          <p:sp>
            <p:nvSpPr>
              <p:cNvPr id="179" name="Rectangle 24"/>
              <p:cNvSpPr/>
              <p:nvPr/>
            </p:nvSpPr>
            <p:spPr>
              <a:xfrm>
                <a:off x="6084720" y="3786120"/>
                <a:ext cx="2376360" cy="222264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25"/>
              <p:cNvGrpSpPr/>
              <p:nvPr/>
            </p:nvGrpSpPr>
            <p:grpSpPr>
              <a:xfrm>
                <a:off x="6084720" y="3786120"/>
                <a:ext cx="2375280" cy="2222640"/>
                <a:chOff x="6084720" y="3786120"/>
                <a:chExt cx="2375280" cy="2222640"/>
              </a:xfrm>
            </p:grpSpPr>
            <p:sp>
              <p:nvSpPr>
                <p:cNvPr id="181" name="Line 26"/>
                <p:cNvSpPr/>
                <p:nvPr/>
              </p:nvSpPr>
              <p:spPr>
                <a:xfrm>
                  <a:off x="7272000" y="3786120"/>
                  <a:ext cx="0" cy="22226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7"/>
                <p:cNvSpPr/>
                <p:nvPr/>
              </p:nvSpPr>
              <p:spPr>
                <a:xfrm>
                  <a:off x="6084720" y="4896720"/>
                  <a:ext cx="237528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3" name="Text Box 28"/>
            <p:cNvSpPr/>
            <p:nvPr/>
          </p:nvSpPr>
          <p:spPr>
            <a:xfrm>
              <a:off x="6084720" y="3573360"/>
              <a:ext cx="20955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催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29" descr="图片1"/>
          <p:cNvPicPr/>
          <p:nvPr/>
        </p:nvPicPr>
        <p:blipFill>
          <a:blip r:embed="rId1"/>
          <a:stretch/>
        </p:blipFill>
        <p:spPr>
          <a:xfrm>
            <a:off x="3200400" y="2286000"/>
            <a:ext cx="23004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ef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8"/>
          <p:cNvSpPr/>
          <p:nvPr/>
        </p:nvSpPr>
        <p:spPr>
          <a:xfrm>
            <a:off x="2084400" y="49816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"/>
          <p:cNvSpPr txBox="1"/>
          <p:nvPr/>
        </p:nvSpPr>
        <p:spPr>
          <a:xfrm>
            <a:off x="1295280" y="4572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生 字 学 习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685240" y="1981080"/>
            <a:ext cx="39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催：右下与“难”比较，右下不是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01960" y="2971800"/>
            <a:ext cx="40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舷：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ia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要读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uá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0200" y="39625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号：共五画，第五笔是：“竖折折钩”一笔写成。号是一个多音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记号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号叫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ef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自学提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自由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思考这个故事发生的时间、地点、人物、事情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：从前          地点：江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物：带宝剑的人和同船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事情：有个人宝剑掉进了江里，他不去捞只在船舷做个记号，说等船靠岸再去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3:23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3:25Z</dcterms:modified>
  <cp:revision>7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