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4D8-814E-4BDE-9756-F0AF9FE4F9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429-6CD1-4238-B9D5-9F2B056DE9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159-395E-46BE-8910-7FA8FF2C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BDC-B739-4B38-9029-3D2662DE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F23-54DD-4EFF-9347-87E9771D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B4C-6838-4AF5-BDB8-52B08644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463C-BE31-4E9C-8E07-C98198B2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815C-C722-4C1A-AE8D-4E65D3E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1BD0-9E3F-4436-9C5B-277AC39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C12A-824D-4A00-BE12-94E037A5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EC1C-CA18-4898-A6EC-D873149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E95D-393E-43DD-89D7-8E5B6C72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B07-7924-4C25-82F9-BFAC0F3D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DA8-3EED-4FAA-9BEA-6397AD4C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E402-5099-44B1-8C44-7003900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C864-8256-4645-9031-A14E488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934-BC69-49FE-9BE2-A42D7537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748-8473-4CE8-8D01-9F89860E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D0A-06A9-4664-A769-CB8663D7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6CF-2E44-450E-BB59-42EDB690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766-66C3-46B2-91C0-0DD1AB0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833-FA50-42ED-AAE5-8B21C42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4E3-4F80-4171-BD20-1D1F02E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5E3-D0ED-4199-BD95-A2A7D51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DDE-1AAC-4E6A-B9D3-7D38175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380-FBAF-4D90-B664-126DDA1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C660-BC83-4773-BE88-8AFF2C375CD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7A1F-B78C-4D59-A599-D8F5BDD9B3F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3719520" y="1989000"/>
            <a:ext cx="3201840" cy="3978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206800" y="1125360"/>
            <a:ext cx="59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微软雅黑"/>
                <a:ea typeface="微软雅黑"/>
              </a:rPr>
              <a:t>9</a:t>
            </a:r>
            <a:r>
              <a:rPr b="1" lang="zh-CN" sz="80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老人和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398400" y="5862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47760" y="1484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老人</a:t>
            </a:r>
            <a:r>
              <a:rPr b="0" lang="zh-CN" sz="4800" spc="-1" strike="noStrike">
                <a:solidFill>
                  <a:srgbClr val="ff3300"/>
                </a:solidFill>
                <a:latin typeface="Calibri"/>
              </a:rPr>
              <a:t>轻轻地抚摩着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受伤的树干，</a:t>
            </a:r>
            <a:r>
              <a:rPr b="0" lang="zh-CN" sz="4800" spc="-1" strike="noStrike">
                <a:solidFill>
                  <a:srgbClr val="ff3300"/>
                </a:solidFill>
                <a:latin typeface="Calibri"/>
              </a:rPr>
              <a:t>抚摩着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流出树脂的伤痕，又拾起从树枝上震落的鸟窝，</a:t>
            </a:r>
            <a:r>
              <a:rPr b="0" lang="zh-CN" sz="4800" spc="-1" strike="noStrike">
                <a:solidFill>
                  <a:srgbClr val="ff3300"/>
                </a:solidFill>
                <a:latin typeface="Calibri"/>
              </a:rPr>
              <a:t>轻轻地安放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在树枝上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……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3">
            <a:hlinkClick r:id="rId1" action="ppaction://hlinksldjump"/>
          </p:cNvPr>
          <p:cNvSpPr/>
          <p:nvPr/>
        </p:nvSpPr>
        <p:spPr>
          <a:xfrm>
            <a:off x="8381880" y="5943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971640" y="1844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184464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看，老人走动在浓密的树阴里，他那满头白发，多像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一朵硕大的蒲公英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多像一盏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明亮的神灯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啊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4360" y="54936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鸟儿们开始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拜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老人的小屋，唧唧喳喳，唧唧喳喳，翻译出来就是：‘您好！您好！’老人呵呵笑着，用饭粒和爱招待他的客人。一只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大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黄色小鸟，衔着一颗草莓停落在老人的肩上。老人伸手接住了这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珍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馈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接着又是一颗，又是一颗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12720" y="134136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最初鸟儿们是以怎样的态度来看待老人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1116000" y="3860640"/>
            <a:ext cx="1224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惊诧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484360" y="4221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3419640" y="3860640"/>
            <a:ext cx="136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信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4000" y="1052640"/>
            <a:ext cx="8064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也没有邀请谁，鸟儿们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了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成百上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鸟儿，在林中的小屋上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盘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哀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整座山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在摇晃，树叶和树枝轻轻拂动。鸟儿们衔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花瓣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无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绿叶。伴着阳光，树林里下了一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花瓣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树叶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飘落的花瓣和绿叶呀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掩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林中的小屋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细读感悟"/>
          <p:cNvPicPr/>
          <p:nvPr/>
        </p:nvPicPr>
        <p:blipFill>
          <a:blip r:embed="rId1"/>
          <a:stretch/>
        </p:blipFill>
        <p:spPr>
          <a:xfrm>
            <a:off x="755640" y="189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826920" y="2781360"/>
            <a:ext cx="7490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老人去了，他再也听不到鸟儿清脆的欢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老人去了，鸟儿们再也见不到他慈爱的笑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失去了最亲的亲人，永别了最真的朋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鸟儿们的心情是多么沉重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如果你是林中的一只小鸟，此时此刻，你会对这位可亲可敬的老人说点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981000"/>
            <a:ext cx="56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读第十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细读感悟"/>
          <p:cNvPicPr/>
          <p:nvPr/>
        </p:nvPicPr>
        <p:blipFill>
          <a:blip r:embed="rId1"/>
          <a:stretch/>
        </p:blipFill>
        <p:spPr>
          <a:xfrm>
            <a:off x="900000" y="1197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042920" y="2708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谁来满怀着对老人的哀痛与思念之情，动情地朗读一下文章的最后一自然段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116000" y="198900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116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我们应该为美丽的大自然做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拓展学习"/>
          <p:cNvPicPr/>
          <p:nvPr/>
        </p:nvPicPr>
        <p:blipFill>
          <a:blip r:embed="rId1"/>
          <a:stretch/>
        </p:blipFill>
        <p:spPr>
          <a:xfrm>
            <a:off x="1403280" y="549360"/>
            <a:ext cx="2151000" cy="531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900000" y="3429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用心地去爱身边的每一个生灵，做保护动植物的小卫士，让我们的世界因为有爱而更加色彩斑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982800" y="6141960"/>
            <a:ext cx="65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71640" y="1413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A.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子一天天过去了，时间在树叶上写了许多故事，这些故事深深地嵌进树的年轮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森林里还会发生哪些故事？插上你想象的翅膀，把这些动人的故事变成文字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B.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还知道哪些人与自然界中动植物之间发生的故事？写一写，如果是你自己的亲身经历就更好啦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拓展学习"/>
          <p:cNvPicPr/>
          <p:nvPr/>
        </p:nvPicPr>
        <p:blipFill>
          <a:blip r:embed="rId1"/>
          <a:stretch/>
        </p:blipFill>
        <p:spPr>
          <a:xfrm>
            <a:off x="539640" y="549360"/>
            <a:ext cx="22226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096B-52AB-46F0-BCD3-3D78FB430D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9640" y="141300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读课文，读准字音，把生字、词多读几遍，画出不懂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想一想课文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写了关于老人和鸟的哪三个场景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7263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547640" y="404640"/>
            <a:ext cx="608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   学  提   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44760" y="260280"/>
            <a:ext cx="475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生字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360" y="1339920"/>
            <a:ext cx="907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幢  询 吠  硕  译  敏  邀  诧  尊 脂  震 盏  拜  赠 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幢  诧异  硕大 一尊  树脂  一盏  拜访  翻译  馈赠 敏感  掩盖 邀请询问  争论  争吵 吼叫  狂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哀鸣  叽叽喳喳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理解词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1484280"/>
            <a:ext cx="2016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诧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馈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敏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708360" y="1917720"/>
            <a:ext cx="508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觉得十分奇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51280" y="314172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赠       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08360" y="4653000"/>
            <a:ext cx="545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文指鸟儿对老人的行为反应很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392436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关于老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鸟的哪三个场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8000" y="2637000"/>
            <a:ext cx="6374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老人保护森林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鸟儿拜访老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鸟儿送别老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文主要讲的一件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91772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课文主要写了一位老人通过充满诚挚爱心的行动，使鸟儿由怀疑到信任，直至与老人亲密无间的故事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68360" y="1125360"/>
            <a:ext cx="4967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96720" y="40464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阅读课文并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鸟儿们要为他来举行葬礼呢？</a:t>
            </a: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68360" y="3213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保护了树木，保护了它们的家，所以鸟儿们要为老人举行葬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老人非常爱护鸟儿，保护鸟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鸟儿非常喜欢老人，他们之间的感情非常深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未标题-111"/>
          <p:cNvPicPr/>
          <p:nvPr/>
        </p:nvPicPr>
        <p:blipFill>
          <a:blip r:embed="rId1"/>
          <a:stretch/>
        </p:blipFill>
        <p:spPr>
          <a:xfrm>
            <a:off x="-684360" y="1341360"/>
            <a:ext cx="6085080" cy="512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未标题-111"/>
          <p:cNvPicPr/>
          <p:nvPr/>
        </p:nvPicPr>
        <p:blipFill>
          <a:blip r:embed="rId2"/>
          <a:stretch/>
        </p:blipFill>
        <p:spPr>
          <a:xfrm>
            <a:off x="3276720" y="1341360"/>
            <a:ext cx="6092640" cy="5126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870200" y="3165480"/>
            <a:ext cx="198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爱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580000" y="328464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爱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56000" y="692280"/>
            <a:ext cx="535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爱  心  记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老人带着黑狗，叫喊着去阻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利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斧的挥舞，鸟儿们听到老人和那些人在激烈地争吵，听到了黑狗在狂吠。最后，老人展开了一张布告。那伙人虽然还在吼叫但是他们终于发现，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老人是一尊真正的山神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。他们低下了头。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135080" y="5883120"/>
            <a:ext cx="531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55640" y="616572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阻拦、叫喊、激烈地争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8000" y="5432400"/>
            <a:ext cx="90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从哪些词语可以看出老人坚决的态度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3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4:5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3002000000000001024120</vt:lpwstr>
  </property>
</Properties>
</file>