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B7D6-F7E8-4582-93CE-F662139E2F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01D6-A7BE-4679-8816-C10D718709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8EB-51B9-4351-A785-E8A693E3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79B-586B-402D-B70C-E4AC6219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BEE-50BA-4C00-A4DD-D8B9F374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9C7-3CC3-4FDA-955C-F152A50A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85F-9DFC-4091-ABB6-AF921753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3E7-8E3E-4BAC-8A15-BA58E124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0FB-589A-493E-AF28-23096E49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881-AA61-4EE1-804D-8421A0C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592-41FC-49E5-A069-C9FC8BA6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F2E-7A86-4E76-87B5-4A478B2E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954-251A-428C-A611-0251B4D5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7E5-D076-4A7A-8336-C5333519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9003-D810-4717-A3FC-A5D090D4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914400" y="1089000"/>
            <a:ext cx="7238880" cy="11080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841400" y="5943600"/>
            <a:ext cx="5500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25600" y="45720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作文每两周讲评一次，所以，每到这时候，我的心里就像揣着一块石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怎么办呢？我想到的第一个办法是：挺随意地写，随大流，让作文平平淡淡。不久，老师找我了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作文退步了，是不是骄傲了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老师苦口婆心地开导我，我想不能这样下去了，我不应该拿学习来赌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于是我又开始认认真真地写作文。我知道同学们并不是讨厌我的作文，老师念作文时大伙儿听得津津有味，不时还发出会意的笑声。也许，大家只是不喜欢老师反反复复只提一个名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25600" y="2505240"/>
            <a:ext cx="809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个冬天的中午，我走进老师办公室。屋里炉火烧得很旺，炉台上水壶的热气飘飘袅袅。我小心翼翼地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我的作文有进步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噢，下午我还要读你的作文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一个小小的请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战战兢兢地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说好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的眼睛注视着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念我的作文的时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不是可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念我的名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鼓足勇气说完在心中蕴藏许久的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想了想，答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1219320" y="4343400"/>
            <a:ext cx="5638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685800" y="457200"/>
            <a:ext cx="2819520" cy="1828800"/>
          </a:xfrm>
          <a:prstGeom prst="cloudCallout">
            <a:avLst>
              <a:gd name="adj1" fmla="val -43916"/>
              <a:gd name="adj2" fmla="val 6996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作者为什么会“战战兢兢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25600" y="93348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天下午的情形，正如我预料的，同学们充满了好奇，发言比平日热烈得多。下课以后，我和大伙儿快活地跳橡皮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嗨！今天念的范文是你写的吧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问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只笑不回答。问急了，我就答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猜是你写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此以后，我的作文越写越好，和同学们也玩得越来越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15200" y="32004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09480" y="35812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712960" y="16002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念名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075280" y="1600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感到孤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12960" y="2438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省名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075280" y="2438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快活玩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398760" y="42102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谦虚谨慎，处好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124080" y="32004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 flipH="1">
            <a:off x="5181480" y="32004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890720" y="1828800"/>
            <a:ext cx="536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图钉　　橡皮筋　揣着　　骄傲　　赌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967040" y="3733920"/>
            <a:ext cx="520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飘飘袅袅　　战战兢兢　　蕴藏　　范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539720" y="265104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平平淡淡      认认真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7391520" y="31240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5486400" y="310824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39720" y="40384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战战兢兢      飘飘袅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7391520" y="45115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5486400" y="44956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dī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3500640" y="121932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钉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ī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55752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筋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chuā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揣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iā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骄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25600" y="2505240"/>
            <a:ext cx="80928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念小学的时候，老师往往给我的作文写上很好的评语，还常在课堂上读我的作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老师读作文的时候，我的心情像一颗怪味豆。最初当然是甜的了，哪个学生不愿意受到老师的夸奖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因常被老师夸奖，听到那些表扬的话，仿佛椅子上堆满了图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ī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叫人不敢坐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了。我总觉得同学们望着我，神情怪怪的。平日里，我个子高，橡皮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跳得好，大伙儿都抢着跟我一拨呢！可这会儿，同学们见了我好像故意扭身走开。看着他们说说笑笑玩在一起，我感到孤独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668680" y="838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读作文的时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d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赌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袅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ī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兢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yù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蕴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fà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范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c34b34a8e5a1c0bdcb130cd2"/>
          <p:cNvPicPr/>
          <p:nvPr/>
        </p:nvPicPr>
        <p:blipFill>
          <a:blip r:embed="rId1"/>
          <a:stretch/>
        </p:blipFill>
        <p:spPr>
          <a:xfrm>
            <a:off x="152280" y="1676520"/>
            <a:ext cx="3225960" cy="2420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573360" y="2057400"/>
            <a:ext cx="53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毕淑敏，祖籍山东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95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出生于新疆，国家一级作家，北京作家协会副主席，北师大文学硕士。著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毕淑敏文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八卷，长篇小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红处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血玲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拯救乳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3301920" y="5292720"/>
            <a:ext cx="50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98C5-0669-4805-B010-B1AF46C9F0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525600" y="457200"/>
            <a:ext cx="8092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作文每两周讲评一次，所以，每到这时候，我的心里就像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uā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一块石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怎么办呢？我想到的第一个办法是：挺随意地写，随大流，让作文平平淡淡。不久，老师找我了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作文退步了，是不是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ā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傲了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老师苦口婆心地开导我，我想不能这样下去了，我不应该拿学习来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于是我又开始认认真真地写作文。我知道同学们并不是讨厌我的作文，老师念作文时大伙儿听得津津有味，不时还发出会意的笑声。也许，大家只是不喜欢老师反反复复只提一个名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25600" y="2505240"/>
            <a:ext cx="80928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个冬天的中午，我走进老师办公室。屋里炉火烧得很旺，炉台上水壶的热气飘飘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ni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袅。我小心翼翼地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我的作文有进步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噢，下午我还要读你的作文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一个小小的请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战战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ī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兢地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说好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的眼睛注视着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念我的作文的时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不是可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念我的名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鼓足勇气说完在心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ù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藏许久的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想了想，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25600" y="933480"/>
            <a:ext cx="8092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天下午的情形，正如我预料的，同学们充满了好奇，发言比平日热烈得多。下课以后，我和大伙儿快活地跳橡皮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嗨！今天念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范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文是你写的吧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问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只笑不回答。问急了，我就答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猜是你写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此以后，我的作文越写越好，和同学们也玩得越来越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25600" y="3429000"/>
            <a:ext cx="80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念小学的时候，老师往往给我的作文写上很好的评语，还常在课堂上读我的作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398760" y="105084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读作文的时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04920" y="1371600"/>
            <a:ext cx="3352680" cy="1828800"/>
          </a:xfrm>
          <a:prstGeom prst="cloudCallout">
            <a:avLst>
              <a:gd name="adj1" fmla="val -44884"/>
              <a:gd name="adj2" fmla="val 6996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以“老师”，“我”和“同学”这三条线索来理解课文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8600" y="4572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三条线来理解课文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97000" y="1616040"/>
            <a:ext cx="87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从“老师”这条线看，老师前后发生了什么变化？从课文中找出相关段落读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97000" y="2819520"/>
            <a:ext cx="87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从“我”这条线看，“我”的心情发生了怎样的变化？“我”又是怎样做的？谁来读读这些句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97000" y="4038480"/>
            <a:ext cx="87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从“同学”的表现来看，他们前后又有什么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25600" y="250524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老师读作文的时候，我的心情像一颗怪味豆。最初当然是甜的了，哪个学生不愿意受到老师的夸奖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因常被老师夸奖，听到那些表扬的话，仿佛椅子上堆满了图钉，叫人不敢坐踏实了。我总觉得同学们望着我，神情怪怪的。平日里，我个子高，橡皮筋跳得好，大伙儿都抢着跟我一拨呢！可这会儿，同学们见了我好像故意扭身走开。看着他们说说笑笑玩在一起，我感到孤独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7315200" y="510552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712960" y="16002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念名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075280" y="1600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感到孤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14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18Z</dcterms:modified>
  <cp:revision>7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