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move the slide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FCEE-26D9-46E9-8973-5F56D862BF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BEE9-2F05-4ADA-BB2B-FCBB705CB8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50D-515C-4E2E-AC34-02D8BC25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F30-C113-426E-8CF6-E7E2A57E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81F-7FE8-4E49-8876-8BCF4E44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098-A3D2-462E-92D3-58715815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354E-E0B6-422E-AC7B-49C72ACE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C138-4BCE-466D-9AF5-5717212F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923E-8FA6-4017-8053-B68832B0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AE75-3CA0-47F2-814B-AF63CDC9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44E8-782B-4D5F-BFE5-4CAAC4A9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9CD1-2389-4C4E-BDE3-29C3A6F4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EDAD-26D5-4C47-BFD3-7AE10DBE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425-BE34-4BDE-AED1-D237CFBA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B8D6-270B-4655-8EC0-BCEDB8DD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F8C4-B40B-4443-8F90-A5AE5B7F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3BCC-022F-4B30-8E6F-08AA80E9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423E-D4D5-485C-A361-19B3F446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A7FC-E6C9-4558-886D-635B405B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EA5E-56D6-48AB-98DA-48B54598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58E0A-3305-4982-9C8E-BDB654AE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256D-D953-429A-8B1B-09E7D168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7183-988C-41D9-A59F-44978A32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697F-2D36-4B78-A9D5-19778215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28B-8FE8-41C9-BD46-D778305A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32323-CC39-4394-A714-D843036B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725C-63B8-447A-B921-A1087871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225D7-C0FE-4184-94FC-D358A39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53EF-BDC3-4BEE-9690-E282BF24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F77A7-6F24-4ED8-826B-CCC02F36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91457-F066-46BE-9190-2A6644A6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B0E3-E4DF-4BB9-80F2-35050E0A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12E-1D18-4FCB-914E-6077E6B7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3E5-EAB2-4B19-9BC1-B9811ADA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D9B-180B-46A5-9778-255DB695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99A-F47F-4513-A6AF-D04A7A91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078-6CBE-46E6-AD0E-FF28B23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C14-1568-4E75-A995-0A9C6E86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pic>
        <p:nvPicPr>
          <p:cNvPr id="1" name="矩形 9" descr=""/>
          <p:cNvPicPr/>
          <p:nvPr/>
        </p:nvPicPr>
        <p:blipFill>
          <a:blip r:embed="rId3"/>
          <a:stretch/>
        </p:blipFill>
        <p:spPr>
          <a:xfrm>
            <a:off x="0" y="-101520"/>
            <a:ext cx="9144000" cy="274680"/>
          </a:xfrm>
          <a:prstGeom prst="rect">
            <a:avLst/>
          </a:prstGeom>
          <a:ln w="0">
            <a:noFill/>
          </a:ln>
        </p:spPr>
      </p:pic>
      <p:pic>
        <p:nvPicPr>
          <p:cNvPr id="2" name="矩形 10" descr=""/>
          <p:cNvPicPr/>
          <p:nvPr/>
        </p:nvPicPr>
        <p:blipFill>
          <a:blip r:embed="rId4"/>
          <a:stretch/>
        </p:blipFill>
        <p:spPr>
          <a:xfrm>
            <a:off x="0" y="-60480"/>
            <a:ext cx="4572000" cy="273240"/>
          </a:xfrm>
          <a:prstGeom prst="rect">
            <a:avLst/>
          </a:prstGeom>
          <a:ln w="0">
            <a:noFill/>
          </a:ln>
        </p:spPr>
      </p:pic>
      <p:pic>
        <p:nvPicPr>
          <p:cNvPr id="3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F93A-32B3-40FD-9B9B-29B6F55C347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5538-B294-4FCA-AEBC-81B32BFB8F8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64AD-4B6B-4D39-B457-05B49D3B156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Text Box 11" descr=""/>
          <p:cNvPicPr/>
          <p:nvPr/>
        </p:nvPicPr>
        <p:blipFill>
          <a:blip r:embed="rId2"/>
          <a:stretch/>
        </p:blipFill>
        <p:spPr>
          <a:xfrm>
            <a:off x="1638360" y="1413000"/>
            <a:ext cx="5867280" cy="2216160"/>
          </a:xfrm>
          <a:prstGeom prst="rect">
            <a:avLst/>
          </a:prstGeom>
          <a:ln w="0">
            <a:noFill/>
          </a:ln>
        </p:spPr>
      </p:pic>
      <p:pic>
        <p:nvPicPr>
          <p:cNvPr id="136" name="矩形 3" descr=""/>
          <p:cNvPicPr/>
          <p:nvPr/>
        </p:nvPicPr>
        <p:blipFill>
          <a:blip r:embed="rId3"/>
          <a:stretch/>
        </p:blipFill>
        <p:spPr>
          <a:xfrm>
            <a:off x="1779480" y="570060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89000"/>
            <a:ext cx="8964720" cy="37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        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她在做什么？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钓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云朵，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钓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太阳，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钓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星星，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钓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月亮，钓（     ），钓 （      ），钓（     ）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         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从白天钓到黑夜，从春天钓到冬天。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       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从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白天钓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到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黑夜，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从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春天钓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到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冬天。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187280" y="3213000"/>
            <a:ext cx="511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从（     ）到（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258920" y="4437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灰心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mbria"/>
                <a:ea typeface="楷体_GB2312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Cambria"/>
                <a:ea typeface="楷体_GB2312"/>
              </a:rPr>
              <a:t>钓到了吗？没有。灰心了吗？也没有。日子一天天过去了，你看：绿色的钓线，越垂越多，越垂越长。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900000" y="620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         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柳树，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多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天真，多漂亮，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多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逗人喜爱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呀！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文本框 1"/>
          <p:cNvSpPr/>
          <p:nvPr/>
        </p:nvSpPr>
        <p:spPr>
          <a:xfrm>
            <a:off x="60480" y="550224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1" descr="liushu1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6480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p40日月人"/>
          <p:cNvPicPr/>
          <p:nvPr/>
        </p:nvPicPr>
        <p:blipFill>
          <a:blip r:embed="rId2"/>
          <a:stretch/>
        </p:blipFill>
        <p:spPr>
          <a:xfrm>
            <a:off x="755640" y="2133720"/>
            <a:ext cx="3063960" cy="37368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5"/>
          <p:cNvSpPr txBox="1"/>
          <p:nvPr/>
        </p:nvSpPr>
        <p:spPr>
          <a:xfrm>
            <a:off x="539640" y="260280"/>
            <a:ext cx="2808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我会认</a:t>
            </a:r>
            <a:endParaRPr b="1" lang="en-US" sz="6600" spc="1" strike="noStrike">
              <a:ln w="12600">
                <a:solidFill>
                  <a:srgbClr val="b2b2b2"/>
                </a:solidFill>
                <a:round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867280" y="213372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5867280" y="470700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5867280" y="342900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5"/>
          <p:cNvSpPr txBox="1"/>
          <p:nvPr/>
        </p:nvSpPr>
        <p:spPr>
          <a:xfrm>
            <a:off x="468360" y="189000"/>
            <a:ext cx="32637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会写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169" name="Group 9"/>
          <p:cNvGrpSpPr/>
          <p:nvPr/>
        </p:nvGrpSpPr>
        <p:grpSpPr>
          <a:xfrm>
            <a:off x="4789440" y="2305080"/>
            <a:ext cx="934920" cy="936720"/>
            <a:chOff x="4789440" y="2305080"/>
            <a:chExt cx="934920" cy="936720"/>
          </a:xfrm>
        </p:grpSpPr>
        <p:sp>
          <p:nvSpPr>
            <p:cNvPr id="170" name="Rectangle 6"/>
            <p:cNvSpPr/>
            <p:nvPr/>
          </p:nvSpPr>
          <p:spPr>
            <a:xfrm>
              <a:off x="4789440" y="2305080"/>
              <a:ext cx="934920" cy="93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>
              <a:off x="4789440" y="280836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>
              <a:off x="5249520" y="23050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0"/>
          <p:cNvGrpSpPr/>
          <p:nvPr/>
        </p:nvGrpSpPr>
        <p:grpSpPr>
          <a:xfrm>
            <a:off x="7496280" y="4322880"/>
            <a:ext cx="934920" cy="936360"/>
            <a:chOff x="7496280" y="4322880"/>
            <a:chExt cx="934920" cy="936360"/>
          </a:xfrm>
        </p:grpSpPr>
        <p:sp>
          <p:nvSpPr>
            <p:cNvPr id="174" name="Rectangle 11"/>
            <p:cNvSpPr/>
            <p:nvPr/>
          </p:nvSpPr>
          <p:spPr>
            <a:xfrm>
              <a:off x="7496280" y="4322880"/>
              <a:ext cx="934920" cy="93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7496280" y="482580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>
              <a:off x="7956360" y="43228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4"/>
          <p:cNvGrpSpPr/>
          <p:nvPr/>
        </p:nvGrpSpPr>
        <p:grpSpPr>
          <a:xfrm>
            <a:off x="7480440" y="2319480"/>
            <a:ext cx="934920" cy="936360"/>
            <a:chOff x="7480440" y="2319480"/>
            <a:chExt cx="934920" cy="936360"/>
          </a:xfrm>
        </p:grpSpPr>
        <p:sp>
          <p:nvSpPr>
            <p:cNvPr id="178" name="Rectangle 15"/>
            <p:cNvSpPr/>
            <p:nvPr/>
          </p:nvSpPr>
          <p:spPr>
            <a:xfrm>
              <a:off x="7480440" y="2319480"/>
              <a:ext cx="934920" cy="93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6"/>
            <p:cNvSpPr/>
            <p:nvPr/>
          </p:nvSpPr>
          <p:spPr>
            <a:xfrm>
              <a:off x="7480440" y="282240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7940520" y="23194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8"/>
          <p:cNvGrpSpPr/>
          <p:nvPr/>
        </p:nvGrpSpPr>
        <p:grpSpPr>
          <a:xfrm>
            <a:off x="4788000" y="4292640"/>
            <a:ext cx="934920" cy="936720"/>
            <a:chOff x="4788000" y="4292640"/>
            <a:chExt cx="934920" cy="936720"/>
          </a:xfrm>
        </p:grpSpPr>
        <p:sp>
          <p:nvSpPr>
            <p:cNvPr id="182" name="Rectangle 19"/>
            <p:cNvSpPr/>
            <p:nvPr/>
          </p:nvSpPr>
          <p:spPr>
            <a:xfrm>
              <a:off x="4788000" y="4292640"/>
              <a:ext cx="934920" cy="93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4788000" y="479592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5248080" y="429264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1"/>
          <p:cNvSpPr/>
          <p:nvPr/>
        </p:nvSpPr>
        <p:spPr>
          <a:xfrm>
            <a:off x="4859280" y="23493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7665120" y="2349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4999680" y="4292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7665120" y="4292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使用规范说明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mbria"/>
              </a:rPr>
              <a:t> </a:t>
            </a:r>
            <a:r>
              <a:rPr b="0" lang="zh-CN" sz="1400" spc="-1" strike="noStrike" u="sng">
                <a:solidFill>
                  <a:srgbClr val="0080ff"/>
                </a:solidFill>
                <a:uFillTx/>
                <a:latin typeface="Cambri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80ff"/>
                </a:solidFill>
                <a:uFillTx/>
                <a:latin typeface="Cambri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mbri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D86F-2FDF-4224-B06E-DF2FD7963BE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柳树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柳树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柳树03"/>
          <p:cNvPicPr/>
          <p:nvPr/>
        </p:nvPicPr>
        <p:blipFill>
          <a:blip r:embed="rId3"/>
          <a:stretch/>
        </p:blipFill>
        <p:spPr>
          <a:xfrm>
            <a:off x="684360" y="0"/>
            <a:ext cx="6867360" cy="6172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柳树04"/>
          <p:cNvPicPr/>
          <p:nvPr/>
        </p:nvPicPr>
        <p:blipFill>
          <a:blip r:embed="rId4"/>
          <a:stretch/>
        </p:blipFill>
        <p:spPr>
          <a:xfrm>
            <a:off x="1523880" y="0"/>
            <a:ext cx="7620120" cy="616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柳树06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dur="indefinite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dur="indefinite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dur="indefinite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572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Maiandra GD"/>
                <a:ea typeface="楷体_GB2312"/>
              </a:rPr>
              <a:t>我会读</a:t>
            </a:r>
            <a:r>
              <a:rPr b="0" lang="zh-CN" sz="4800" spc="-1" strike="noStrike">
                <a:solidFill>
                  <a:srgbClr val="ff0066"/>
                </a:solidFill>
                <a:latin typeface="Maiandra GD"/>
              </a:rPr>
              <a:t>：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68360" y="1989000"/>
            <a:ext cx="7561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柳</a:t>
            </a:r>
            <a:r>
              <a:rPr b="1" lang="zh-CN" sz="5400" spc="-1" strike="noStrike">
                <a:solidFill>
                  <a:srgbClr val="51848e"/>
                </a:solidFill>
                <a:latin typeface="Arial"/>
                <a:ea typeface="宋体"/>
              </a:rPr>
              <a:t>树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池塘边</a:t>
            </a:r>
            <a:r>
              <a:rPr b="1" lang="zh-CN" sz="5400" spc="-1" strike="noStrike">
                <a:solidFill>
                  <a:srgbClr val="51848e"/>
                </a:solidFill>
                <a:latin typeface="Arial"/>
                <a:ea typeface="宋体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逗</a:t>
            </a:r>
            <a:r>
              <a:rPr b="1" lang="zh-CN" sz="5400" spc="-1" strike="noStrike">
                <a:solidFill>
                  <a:srgbClr val="51848e"/>
                </a:solidFill>
                <a:latin typeface="Arial"/>
                <a:ea typeface="宋体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1848e"/>
                </a:solidFill>
                <a:latin typeface="Arial"/>
                <a:ea typeface="宋体"/>
              </a:rPr>
              <a:t>绿色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线  </a:t>
            </a:r>
            <a:r>
              <a:rPr b="1" lang="zh-CN" sz="5400" spc="-1" strike="noStrike">
                <a:solidFill>
                  <a:srgbClr val="51848e"/>
                </a:solidFill>
                <a:latin typeface="Arial"/>
                <a:ea typeface="宋体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太</a:t>
            </a:r>
            <a:r>
              <a:rPr b="1" lang="zh-CN" sz="5400" spc="-1" strike="noStrike">
                <a:solidFill>
                  <a:srgbClr val="51848e"/>
                </a:solidFill>
                <a:latin typeface="Arial"/>
                <a:ea typeface="宋体"/>
              </a:rPr>
              <a:t>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做</a:t>
            </a:r>
            <a:r>
              <a:rPr b="1" lang="zh-CN" sz="5400" spc="-1" strike="noStrike">
                <a:solidFill>
                  <a:srgbClr val="51848e"/>
                </a:solidFill>
                <a:latin typeface="Arial"/>
                <a:ea typeface="宋体"/>
              </a:rPr>
              <a:t>什么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漂</a:t>
            </a:r>
            <a:r>
              <a:rPr b="1" lang="zh-CN" sz="5400" spc="-1" strike="noStrike">
                <a:solidFill>
                  <a:srgbClr val="51848e"/>
                </a:solidFill>
                <a:latin typeface="Arial"/>
                <a:ea typeface="宋体"/>
              </a:rPr>
              <a:t>亮       是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435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Maiandra GD"/>
                <a:ea typeface="楷体_GB2312"/>
              </a:rPr>
              <a:t>我会读</a:t>
            </a:r>
            <a:r>
              <a:rPr b="0" lang="zh-CN" sz="4800" spc="-1" strike="noStrike">
                <a:solidFill>
                  <a:srgbClr val="ff0066"/>
                </a:solidFill>
                <a:latin typeface="Maiandra GD"/>
              </a:rPr>
              <a:t>：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360" y="1989000"/>
            <a:ext cx="7561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1848e"/>
                </a:solidFill>
                <a:latin typeface="Arial"/>
                <a:ea typeface="宋体"/>
              </a:rPr>
              <a:t>柳       池      漂      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1848e"/>
                </a:solidFill>
                <a:latin typeface="Arial"/>
                <a:ea typeface="宋体"/>
              </a:rPr>
              <a:t>塘       边      线      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1848e"/>
                </a:solidFill>
                <a:latin typeface="Arial"/>
                <a:ea typeface="宋体"/>
              </a:rPr>
              <a:t>做       太      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4"/>
          <p:cNvSpPr/>
          <p:nvPr/>
        </p:nvSpPr>
        <p:spPr>
          <a:xfrm>
            <a:off x="2556000" y="1125360"/>
            <a:ext cx="734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37083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Maiandra GD"/>
                <a:ea typeface="楷体_GB2312"/>
              </a:rPr>
              <a:t>我会读</a:t>
            </a:r>
            <a:r>
              <a:rPr b="0" lang="zh-CN" sz="4400" spc="-1" strike="noStrike">
                <a:solidFill>
                  <a:srgbClr val="ff0066"/>
                </a:solidFill>
                <a:latin typeface="Maiandra GD"/>
              </a:rPr>
              <a:t>：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mbria"/>
              </a:rPr>
              <a:t>          </a:t>
            </a:r>
            <a:r>
              <a:rPr b="0" lang="zh-CN" sz="3200" spc="-1" strike="noStrike">
                <a:solidFill>
                  <a:srgbClr val="ff0066"/>
                </a:solidFill>
                <a:latin typeface="Cambria"/>
              </a:rPr>
              <a:t>柳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树，站在</a:t>
            </a:r>
            <a:r>
              <a:rPr b="0" lang="zh-CN" sz="3200" spc="-1" strike="noStrike">
                <a:solidFill>
                  <a:srgbClr val="ff0066"/>
                </a:solidFill>
                <a:latin typeface="Cambria"/>
              </a:rPr>
              <a:t>池塘边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她弯着身子，垂下一根根绿色的线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她在</a:t>
            </a:r>
            <a:r>
              <a:rPr b="0" lang="zh-CN" sz="3200" spc="-1" strike="noStrike">
                <a:solidFill>
                  <a:srgbClr val="ff0066"/>
                </a:solidFill>
                <a:latin typeface="Cambria"/>
              </a:rPr>
              <a:t>做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什么？钓云朵，钓</a:t>
            </a:r>
            <a:r>
              <a:rPr b="0" lang="zh-CN" sz="3200" spc="-1" strike="noStrike">
                <a:solidFill>
                  <a:srgbClr val="ff0066"/>
                </a:solidFill>
                <a:latin typeface="Cambria"/>
              </a:rPr>
              <a:t>太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阳，钓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星， 钓月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mbria"/>
              </a:rPr>
              <a:t>          </a:t>
            </a:r>
            <a:r>
              <a:rPr b="0" lang="zh-CN" sz="3200" spc="-1" strike="noStrike">
                <a:solidFill>
                  <a:srgbClr val="ff0066"/>
                </a:solidFill>
                <a:latin typeface="Cambria"/>
              </a:rPr>
              <a:t>柳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树，多天真，多</a:t>
            </a:r>
            <a:r>
              <a:rPr b="0" lang="zh-CN" sz="3200" spc="-1" strike="noStrike">
                <a:solidFill>
                  <a:srgbClr val="ff0066"/>
                </a:solidFill>
                <a:latin typeface="Cambria"/>
              </a:rPr>
              <a:t>漂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亮，多</a:t>
            </a:r>
            <a:r>
              <a:rPr b="0" lang="zh-CN" sz="3200" spc="-1" strike="noStrike">
                <a:solidFill>
                  <a:srgbClr val="ff0066"/>
                </a:solidFill>
                <a:latin typeface="Cambria"/>
              </a:rPr>
              <a:t>逗人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喜爱</a:t>
            </a:r>
            <a:r>
              <a:rPr b="0" lang="zh-CN" sz="3200" spc="-1" strike="noStrike">
                <a:solidFill>
                  <a:srgbClr val="ff0066"/>
                </a:solidFill>
                <a:latin typeface="Cambria"/>
              </a:rPr>
              <a:t>呀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Maiandra GD"/>
                <a:ea typeface="楷体_GB2312"/>
              </a:rPr>
              <a:t>阅读提示：</a:t>
            </a:r>
            <a:endParaRPr b="0" lang="en-US" sz="5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2565000"/>
            <a:ext cx="82296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认真自读课文，思考下面的问题，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画出相关语句，反复朗读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）课文中的柳树什么样子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）她在做什么？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）柳树哪些地方值得你学习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11280" y="404280"/>
            <a:ext cx="8229600" cy="45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         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柳树，站在池塘边。她弯着身子，垂下一根根绿色的线。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14400" y="1890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         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柳树，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站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在池塘边。她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弯着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身子，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垂下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一根根绿色的线。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14400" y="1890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        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她在做什么？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钓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云朵，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钓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太阳，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钓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星星，</a:t>
            </a:r>
            <a:r>
              <a:rPr b="0" lang="zh-CN" sz="5400" spc="-1" strike="noStrike">
                <a:solidFill>
                  <a:srgbClr val="0000ff"/>
                </a:solidFill>
                <a:latin typeface="Cambria"/>
                <a:ea typeface="楷体_GB2312"/>
              </a:rPr>
              <a:t>钓</a:t>
            </a:r>
            <a:r>
              <a:rPr b="0" lang="zh-CN" sz="5400" spc="-1" strike="noStrike">
                <a:solidFill>
                  <a:srgbClr val="ff0066"/>
                </a:solidFill>
                <a:latin typeface="Cambria"/>
                <a:ea typeface="楷体_GB2312"/>
              </a:rPr>
              <a:t>月亮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6:27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9:54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