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77ED-8F2B-4FF4-A7F1-1BB6A38CAD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98E8-CBA2-45C5-AD68-AD19753025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0BA-6EC4-4405-8CBF-B6D4A4B1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721D-430D-4E00-8AD3-24A22BFE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E5A-5D63-4D35-8811-DDB76577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FF5-FCCB-4EE6-9B2C-AED75F8C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AAA-D097-4D63-BAD7-6AA0DB7C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D02B-FE63-49E2-8506-18FDCCC2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52D-055B-4084-A852-686B56D6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D911-B1A9-4F57-BD4B-150EC5BD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A901-3C5E-4510-9390-BEFAEC334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437-F3A9-480D-AC59-EDF656D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997A-7019-42B0-B1BA-07D68652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4B7-E1C4-4ACE-A575-0FF6CFE9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7984-8294-463E-B104-63213474A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009113165248951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7" descr=""/>
          <p:cNvPicPr/>
          <p:nvPr/>
        </p:nvPicPr>
        <p:blipFill>
          <a:blip r:embed="rId2"/>
          <a:stretch/>
        </p:blipFill>
        <p:spPr>
          <a:xfrm>
            <a:off x="1322280" y="1754280"/>
            <a:ext cx="6591240" cy="1676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0" name="矩形 5"/>
          <p:cNvSpPr/>
          <p:nvPr/>
        </p:nvSpPr>
        <p:spPr>
          <a:xfrm>
            <a:off x="1796040" y="563868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2009113165248951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WordArt 4"/>
          <p:cNvSpPr txBox="1"/>
          <p:nvPr/>
        </p:nvSpPr>
        <p:spPr>
          <a:xfrm>
            <a:off x="2438280" y="914400"/>
            <a:ext cx="420048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ff"/>
                </a:solidFill>
                <a:latin typeface="宋体"/>
              </a:rPr>
              <a:t>课文回顾，归纳中心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7200" y="304812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课文主要讲述了编写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本草纲目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经过，赞扬了李时珍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勇于实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为了人类的健康和幸福，不顾个人安危的高尚医德和无私奉献的精神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33520" y="18288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主要写了什么？赞扬了李时珍是个什么样的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9" descr="2009105183833907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914400" y="220968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、通过具体事例表现人物的精神品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）、详略得当，主次分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(3)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、通过细节描写烘托人物的精神品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1219320" y="114300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0066"/>
                </a:solidFill>
                <a:latin typeface="宋体"/>
              </a:rPr>
              <a:t>课文写法总结</a:t>
            </a:r>
            <a:endParaRPr b="1" lang="en-US" sz="1800" spc="1" strike="noStrike">
              <a:ln w="9360">
                <a:solidFill>
                  <a:srgbClr val="ff00ff"/>
                </a:solidFill>
                <a:round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1DFE-BC37-4288-8192-B0EFFC15D2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200936063810326"/>
          <p:cNvPicPr/>
          <p:nvPr/>
        </p:nvPicPr>
        <p:blipFill>
          <a:blip r:embed="rId1"/>
          <a:stretch/>
        </p:blipFill>
        <p:spPr>
          <a:xfrm>
            <a:off x="-144360" y="0"/>
            <a:ext cx="9288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657600" y="838080"/>
            <a:ext cx="4952880" cy="28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李时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518—1593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，我国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明代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伟大的医学家、药物学家。他历经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年艰苦卓绝的努力，编写出我国第一部医药全书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----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本草纲目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，该书被誉为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“中药宝库”“东方医学巨典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李时珍雕像2"/>
          <p:cNvPicPr/>
          <p:nvPr/>
        </p:nvPicPr>
        <p:blipFill>
          <a:blip r:embed="rId2"/>
          <a:stretch/>
        </p:blipFill>
        <p:spPr>
          <a:xfrm>
            <a:off x="152280" y="457200"/>
            <a:ext cx="3353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2009110024193748"/>
          <p:cNvPicPr/>
          <p:nvPr/>
        </p:nvPicPr>
        <p:blipFill>
          <a:blip r:embed="rId1"/>
          <a:stretch/>
        </p:blipFill>
        <p:spPr>
          <a:xfrm>
            <a:off x="0" y="-220680"/>
            <a:ext cx="9144000" cy="7078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380880" y="4572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捉白花蛇，确认蛇身上的斜方块花纹。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380880" y="121932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仔细研究皇家禁物榔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57200" y="2057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3399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）不辞劳苦地收集各种标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57200" y="28954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）冒着生命危险，亲身试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2009113165248951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533520" y="1219320"/>
            <a:ext cx="815328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576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自由朗读课文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8-14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自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76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）李时珍为什么决心重新编一部集古药、新药之大成的药物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576"/>
              </a:spcBef>
              <a:spcAft>
                <a:spcPts val="15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）李时珍编书的过程是十分不容易的，请你画出自己最受感动的地方，与同桌说说你的体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934320" y="2286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探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8600" y="1143000"/>
            <a:ext cx="86104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李时珍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一头扎进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这一天然宝库，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终日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活动在悬崖峭壁之间，晚上就寄居在药农沿山壁搭起的木板房中。大风吹来，木板房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摇摇欲坠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，四周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猿啸狼嚎</a:t>
            </a:r>
            <a:r>
              <a:rPr b="1" lang="zh-CN" sz="3600" spc="-1" strike="noStrike">
                <a:solidFill>
                  <a:srgbClr val="990000"/>
                </a:solidFill>
                <a:latin typeface="Arial"/>
                <a:ea typeface="楷体_GB2312"/>
              </a:rPr>
              <a:t>，不绝于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52280" y="-71280"/>
            <a:ext cx="221004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品读感悟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80880" y="3809880"/>
            <a:ext cx="8382240" cy="2806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天然宝库”指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“一头扎进”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你觉得当时的环境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从中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0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200812140184793771"/>
          <p:cNvPicPr/>
          <p:nvPr/>
        </p:nvPicPr>
        <p:blipFill>
          <a:blip r:embed="rId1"/>
          <a:stretch/>
        </p:blipFill>
        <p:spPr>
          <a:xfrm>
            <a:off x="0" y="-149400"/>
            <a:ext cx="9144000" cy="7007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990720" y="2286000"/>
            <a:ext cx="716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457200" y="10666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李时珍对徒弟说：“等会儿药力发作，你用针扎我身上的穴位，用刀子在我手上划，看痛不痛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5"/>
          <p:cNvSpPr txBox="1"/>
          <p:nvPr/>
        </p:nvSpPr>
        <p:spPr>
          <a:xfrm>
            <a:off x="304920" y="-149400"/>
            <a:ext cx="2209680" cy="10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品读感悟</a:t>
            </a:r>
            <a:endParaRPr b="1" lang="en-US" sz="40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33520" y="2971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从李时珍的这一番话你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57200" y="3733920"/>
            <a:ext cx="822960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不一会儿，李时珍觉得天旋地转，接着就昏过去了。徒弟用针扎、用尖刀划他的皮肤，他也不知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838080" y="4114800"/>
            <a:ext cx="69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048120" y="2362320"/>
            <a:ext cx="40384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990720" y="2286000"/>
            <a:ext cx="716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838080" y="4114800"/>
            <a:ext cx="698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124080" y="2133720"/>
            <a:ext cx="40388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1905120" y="601560"/>
            <a:ext cx="51051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神农尝百草</a:t>
            </a:r>
            <a:endParaRPr b="1" lang="en-US" sz="4400" spc="-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52280" y="106668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经过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27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的努力，凝结着他一生心血的巨著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——《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本草纲目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终于写成。全书共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52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卷，记载的药物近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2000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种，每种药物都详细记述了产地、形状、颜色、气味、功用和采集、制作方法。书中还收集了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万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多个药方，并附有大量插图。这部伟大的医学著作，把我国药学水平提升到了一个新的高度，后来，它被译成多种文字。直至今天，《本草纲目》仍被人们誉为“中药宝库”“东方医学巨典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457200" y="563868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用重点记号标出文中的数字，想一想这些数字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"/>
          <p:cNvSpPr/>
          <p:nvPr/>
        </p:nvSpPr>
        <p:spPr>
          <a:xfrm flipV="1">
            <a:off x="1523880" y="-75240"/>
            <a:ext cx="3581640" cy="912600"/>
          </a:xfrm>
          <a:prstGeom prst="wedgeEllipseCallout">
            <a:avLst>
              <a:gd name="adj1" fmla="val -17800"/>
              <a:gd name="adj2" fmla="val -72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971800" y="228600"/>
            <a:ext cx="1406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981080" y="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编写时间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 flipH="1" flipV="1">
            <a:off x="6476400" y="151560"/>
            <a:ext cx="2438280" cy="685800"/>
          </a:xfrm>
          <a:prstGeom prst="wedgeRoundRectCallout">
            <a:avLst>
              <a:gd name="adj1" fmla="val 10287"/>
              <a:gd name="adj2" fmla="val -14243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6781680" y="152280"/>
            <a:ext cx="1828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字数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 flipH="1">
            <a:off x="3276720" y="2438280"/>
            <a:ext cx="2743200" cy="1067040"/>
          </a:xfrm>
          <a:prstGeom prst="wedgeRoundRectCallout">
            <a:avLst>
              <a:gd name="adj1" fmla="val 73435"/>
              <a:gd name="adj2" fmla="val -40953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914400" y="4191120"/>
            <a:ext cx="1654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352680" y="2666880"/>
            <a:ext cx="2514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收集药物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3733920" y="3886200"/>
            <a:ext cx="2438280" cy="1143000"/>
          </a:xfrm>
          <a:prstGeom prst="wedgeRoundRectCallout">
            <a:avLst>
              <a:gd name="adj1" fmla="val -93171"/>
              <a:gd name="adj2" fmla="val -8566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3962520" y="4038480"/>
            <a:ext cx="2238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内容丰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2008121401847937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990720" y="2286000"/>
            <a:ext cx="716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0880" y="1676520"/>
            <a:ext cx="815364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联系课文内容和生活实际，谈谈自己对这句话的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只靠博览群书是远远不够的，还必须到实践中去观察、采集和印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1447920" y="762120"/>
            <a:ext cx="182880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拓展延伸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38080" y="3809880"/>
            <a:ext cx="70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纸上得来终觉浅，绝知此事要躬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——————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陆游《冬夜读书示子律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"/>
          <p:cNvSpPr/>
          <p:nvPr/>
        </p:nvSpPr>
        <p:spPr>
          <a:xfrm>
            <a:off x="1549440" y="5835600"/>
            <a:ext cx="52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07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8:26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