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A4DE-2F1F-4D51-ABCE-8CAC245636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1301-D8C5-4546-BBE4-838E834867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17B-E8AD-4798-985A-36C043A3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356-668B-4DC9-BBB2-0F469475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456-943C-4F37-9F59-59F06D83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AB1-4404-4BF4-9857-132CC2E9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E1E-C54D-4E1F-9517-E0E2D6A2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77E-7A67-4A08-9AE7-CA781886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27F-5D92-4F50-A58E-87D84ABE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909-1CE9-4796-B3AA-5B71E171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705-5386-4E45-8DDC-21A909AF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913-E83B-439E-A4CA-803F42C3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589-A3F8-4B98-87C5-082CF92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004-83E6-4885-A483-94F0AB3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E76A-F488-49D7-80BF-C7D1EA8682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0304-D531-4C01-964B-D1102A2993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李时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685800" y="549360"/>
            <a:ext cx="7918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3300"/>
                </a:solidFill>
                <a:latin typeface="楷体_GB2312"/>
              </a:rPr>
              <a:t>李时珍与《本草纲目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993300"/>
              </a:solidFill>
              <a:latin typeface="楷体_GB2312"/>
              <a:ea typeface="楷体_GB2312"/>
            </a:endParaRPr>
          </a:p>
        </p:txBody>
      </p:sp>
      <p:pic>
        <p:nvPicPr>
          <p:cNvPr id="52" name="矩形 6" descr=""/>
          <p:cNvPicPr/>
          <p:nvPr/>
        </p:nvPicPr>
        <p:blipFill>
          <a:blip r:embed="rId2"/>
          <a:stretch/>
        </p:blipFill>
        <p:spPr>
          <a:xfrm>
            <a:off x="0" y="5877000"/>
            <a:ext cx="50752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89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117360"/>
            <a:ext cx="67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资料交流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57200" y="31240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00552015152699929"/>
          <p:cNvPicPr/>
          <p:nvPr/>
        </p:nvPicPr>
        <p:blipFill>
          <a:blip r:embed="rId2"/>
          <a:stretch/>
        </p:blipFill>
        <p:spPr>
          <a:xfrm>
            <a:off x="3733920" y="1549440"/>
            <a:ext cx="5410080" cy="5308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80880" y="33526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李时珍"/>
          <p:cNvPicPr/>
          <p:nvPr/>
        </p:nvPicPr>
        <p:blipFill>
          <a:blip r:embed="rId3"/>
          <a:stretch/>
        </p:blipFill>
        <p:spPr>
          <a:xfrm>
            <a:off x="0" y="1549440"/>
            <a:ext cx="38433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880" y="276120"/>
            <a:ext cx="85755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900"/>
                </a:solidFill>
                <a:latin typeface="Arial"/>
              </a:rPr>
              <a:t>小组活动一</a:t>
            </a:r>
            <a:r>
              <a:rPr b="1" i="1" lang="zh-CN" sz="3600" spc="-1" strike="noStrike">
                <a:solidFill>
                  <a:srgbClr val="009900"/>
                </a:solidFill>
                <a:latin typeface="Arial"/>
              </a:rPr>
              <a:t>：</a:t>
            </a:r>
            <a:r>
              <a:rPr b="1" i="1" lang="zh-CN" sz="4400" spc="-1" strike="noStrike" u="sng">
                <a:solidFill>
                  <a:srgbClr val="009900"/>
                </a:solidFill>
                <a:uFillTx/>
                <a:latin typeface="Arial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4480" y="1558440"/>
            <a:ext cx="90360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差 效 博 览  库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坠 矿 徒  肤 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028880" y="2133720"/>
            <a:ext cx="7086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差      效      博     览        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坠     矿      徒      肤       详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90720" y="1447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ch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90920" y="1371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x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191120" y="13716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b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486400" y="1447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l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162920" y="1447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k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62120" y="43434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z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133720" y="4343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ku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886200" y="4419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5257800" y="4419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f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629400" y="4343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xi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4"/>
          <p:cNvSpPr txBox="1"/>
          <p:nvPr/>
        </p:nvSpPr>
        <p:spPr>
          <a:xfrm>
            <a:off x="685800" y="380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生字认读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514600" y="289548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效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功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962520" y="2819520"/>
            <a:ext cx="18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渊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博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257800" y="2819520"/>
            <a:ext cx="15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阅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展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4030560" y="704880"/>
            <a:ext cx="1989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6858000" y="28954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宝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仓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133720" y="5823000"/>
            <a:ext cx="146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矿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3583080" y="5823000"/>
            <a:ext cx="195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徒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徒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106960" y="5823000"/>
            <a:ext cx="211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皮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肌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6705720" y="582300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详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端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890640" y="5821200"/>
            <a:ext cx="131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坠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762120" y="2743200"/>
            <a:ext cx="173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相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差不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2168640" y="24922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2009610081411309"/>
          <p:cNvPicPr/>
          <p:nvPr/>
        </p:nvPicPr>
        <p:blipFill>
          <a:blip r:embed="rId1"/>
          <a:stretch/>
        </p:blipFill>
        <p:spPr>
          <a:xfrm>
            <a:off x="-135000" y="0"/>
            <a:ext cx="9279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-135000" y="1143000"/>
            <a:ext cx="9279000" cy="52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稀罕   哑然失笑   圣物    进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编撰    博览群书    印证    奔波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摇摇欲坠    猿啸狼嚎    不绝于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标本   人命关天    穴位   天旋地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凝结     巨著     详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380880" y="4572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66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我能说出下列词语的意思</a:t>
            </a:r>
            <a:endParaRPr b="0" lang="en-US" sz="1800" spc="1" strike="noStrike">
              <a:ln w="12600">
                <a:solidFill>
                  <a:srgbClr val="ff0066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0" y="-23760"/>
            <a:ext cx="9320400" cy="114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900"/>
                </a:solidFill>
                <a:latin typeface="Arial"/>
              </a:rPr>
              <a:t>小组活动二：</a:t>
            </a:r>
            <a:r>
              <a:rPr b="1" i="1" lang="zh-CN" sz="3600" spc="-1" strike="noStrike" u="sng">
                <a:solidFill>
                  <a:srgbClr val="009900"/>
                </a:solidFill>
                <a:uFillTx/>
                <a:latin typeface="Arial"/>
              </a:rPr>
              <a:t>补充段落提纲，理清文章的条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8800" y="1125000"/>
            <a:ext cx="92106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李时珍从小就对中草药产生了（    ）。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（第【  】 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李时珍（                        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积累了丰富的医学经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（第【     】至第【     】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李时珍编写《本草纲目》的经过。          （第【     】至【     】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介绍了《本草纲目》的（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（第【     】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948360" y="1125360"/>
            <a:ext cx="19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浓厚的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962440" y="164304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608200" y="251136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认真读书、勇于实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608920" y="3710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076720" y="3760920"/>
            <a:ext cx="12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 flipV="1">
            <a:off x="1766880" y="5029560"/>
            <a:ext cx="8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979800" y="50324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122880" y="5611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医学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 flipH="1">
            <a:off x="2962440" y="632304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ff"/>
                </a:solidFill>
                <a:latin typeface="Arial"/>
              </a:rPr>
              <a:t>小组活动三：</a:t>
            </a:r>
            <a:r>
              <a:rPr b="1" i="1" lang="zh-CN" sz="4000" spc="-1" strike="noStrike" u="sng">
                <a:solidFill>
                  <a:srgbClr val="cc00ff"/>
                </a:solidFill>
                <a:uFillTx/>
                <a:latin typeface="Arial"/>
              </a:rPr>
              <a:t>我要大声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81080" y="1420920"/>
            <a:ext cx="8932680" cy="4960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3a3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442280" y="-95400"/>
            <a:ext cx="1671480" cy="2156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117440" y="2060640"/>
            <a:ext cx="661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以小组为单位，选择一个层次，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Arial"/>
              </a:rPr>
              <a:t>用自己喜欢的方式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熟悉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Arial"/>
              </a:rPr>
              <a:t>课文，注意读准生字词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，看谁读得准确、流利，有感情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3009960" y="5807160"/>
            <a:ext cx="50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160020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304920" y="190440"/>
            <a:ext cx="4647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c00ff"/>
                  </a:solidFill>
                  <a:round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自主探究</a:t>
            </a:r>
            <a:endParaRPr b="0" lang="en-US" sz="1800" spc="1" strike="noStrike">
              <a:ln w="12600">
                <a:solidFill>
                  <a:srgbClr val="cc00ff"/>
                </a:solidFill>
                <a:round/>
              </a:ln>
              <a:solidFill>
                <a:srgbClr val="ffff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6360" y="1600200"/>
            <a:ext cx="900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、课文主要写了李时珍的哪些事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、李时珍身上具有哪些可贵的精神值得我们学习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BEDC-E3CA-4A1E-85A5-80CA5FF21F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8:21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