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8E8B-1A0E-4401-A6C0-4DE4E7FCDB2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078D-5BA6-4F51-9341-191018B3072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EF7A-5563-44C1-8090-36951A13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FED1-9C07-4E68-BD39-DB5F6BEC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2B1-4030-40D4-BF2E-632A2047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40AB-1BD8-483E-847E-29BA4AFE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D58F-5F05-4C1E-A28D-AF9FE07B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FCE7-214F-46E8-9400-D5FBDF2A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04D0-7BC5-4469-A103-28D23785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2450-98CD-473E-8140-42617195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CAFD-571E-480D-BB7E-07BFD285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FC1B-6722-449B-82B6-C7F41FFF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2199-03BC-4DFD-B701-3684E76B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779A-BBDC-46FF-9D77-E9F05F32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AB52-2E0E-47E0-B347-A228026A42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429000" y="1165320"/>
            <a:ext cx="502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0" lang="en-US" sz="6600" spc="-1" strike="noStrike">
                <a:solidFill>
                  <a:srgbClr val="000000"/>
                </a:solidFill>
                <a:latin typeface="楷体_GB2312"/>
              </a:rPr>
              <a:t>26</a:t>
            </a:r>
            <a:r>
              <a:rPr b="0" lang="zh-CN" sz="6600" spc="-1" strike="noStrike">
                <a:solidFill>
                  <a:srgbClr val="000000"/>
                </a:solidFill>
                <a:latin typeface="楷体_GB2312"/>
              </a:rPr>
              <a:t>课 礼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216680" y="53341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1"/>
          <p:cNvPicPr/>
          <p:nvPr/>
        </p:nvPicPr>
        <p:blipFill>
          <a:blip r:embed="rId1"/>
          <a:stretch/>
        </p:blipFill>
        <p:spPr>
          <a:xfrm>
            <a:off x="0" y="1143000"/>
            <a:ext cx="9105840" cy="3844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3933000" y="57913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南北半球划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514440" y="175248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亚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190960" y="175248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秋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254040" y="175248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枫叶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844160" y="175248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树叶书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7057800" y="175248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南半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8001000" y="1936800"/>
            <a:ext cx="304920" cy="3048120"/>
          </a:xfrm>
          <a:custGeom>
            <a:avLst/>
            <a:gdLst>
              <a:gd name="textAreaLeft" fmla="*/ 0 w 304920"/>
              <a:gd name="textAreaRight" fmla="*/ 110160 w 30492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8392680" y="2055960"/>
            <a:ext cx="6069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季 节 相 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20920" y="344484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盼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2197440" y="344484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春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102080" y="342576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北半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7"/>
          <p:cNvSpPr/>
          <p:nvPr/>
        </p:nvSpPr>
        <p:spPr>
          <a:xfrm>
            <a:off x="2978280" y="2774880"/>
            <a:ext cx="152280" cy="1828800"/>
          </a:xfrm>
          <a:custGeom>
            <a:avLst/>
            <a:gdLst>
              <a:gd name="textAreaLeft" fmla="*/ 97200 w 152280"/>
              <a:gd name="textAreaRight" fmla="*/ 152640 w 1522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8"/>
          <p:cNvSpPr/>
          <p:nvPr/>
        </p:nvSpPr>
        <p:spPr>
          <a:xfrm>
            <a:off x="1241280" y="2013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9"/>
          <p:cNvSpPr/>
          <p:nvPr/>
        </p:nvSpPr>
        <p:spPr>
          <a:xfrm>
            <a:off x="1241280" y="3689280"/>
            <a:ext cx="822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0"/>
          <p:cNvSpPr/>
          <p:nvPr/>
        </p:nvSpPr>
        <p:spPr>
          <a:xfrm>
            <a:off x="6178680" y="2851200"/>
            <a:ext cx="228600" cy="1752480"/>
          </a:xfrm>
          <a:custGeom>
            <a:avLst/>
            <a:gdLst>
              <a:gd name="textAreaLeft" fmla="*/ 0 w 228600"/>
              <a:gd name="textAreaRight" fmla="*/ 8244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1"/>
          <p:cNvSpPr/>
          <p:nvPr/>
        </p:nvSpPr>
        <p:spPr>
          <a:xfrm>
            <a:off x="6095880" y="2013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"/>
          <p:cNvSpPr/>
          <p:nvPr/>
        </p:nvSpPr>
        <p:spPr>
          <a:xfrm>
            <a:off x="6477120" y="3689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3406680" y="269892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看看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4182480" y="2698920"/>
            <a:ext cx="37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3406680" y="422280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听听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4777920" y="4249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竹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4791960" y="2698920"/>
            <a:ext cx="37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9"/>
          <p:cNvSpPr/>
          <p:nvPr/>
        </p:nvSpPr>
        <p:spPr>
          <a:xfrm>
            <a:off x="5477760" y="2698920"/>
            <a:ext cx="37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609480" y="2362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在春天能收到秋天的礼物，多么有趣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1371600" y="3429000"/>
            <a:ext cx="3962520" cy="2209680"/>
          </a:xfrm>
          <a:prstGeom prst="cloudCallout">
            <a:avLst>
              <a:gd name="adj1" fmla="val -51800"/>
              <a:gd name="adj2" fmla="val 52513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收到小袋鼠亚特寄的礼物后，熊猫盼盼会给他寄去什么礼物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808200" y="1136520"/>
            <a:ext cx="7610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</a:rPr>
              <a:t>脑  邮  签  封  递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80880" y="7430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nǎ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4111560" y="743040"/>
            <a:ext cx="9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qi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6120360" y="76212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ē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484280" y="3935520"/>
            <a:ext cx="6467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</a:rPr>
              <a:t>骨  冒  季  搞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121932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ɡ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3079080" y="350532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à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2286000" y="762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yó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5256360" y="35053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j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6969600" y="35053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ɡǎ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8174160" y="76212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ShockwaveFlash1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35" name="ShockwaveFlash2" descr=""/>
          <p:cNvPicPr/>
          <p:nvPr/>
        </p:nvPicPr>
        <p:blipFill>
          <a:blip r:embed="rId3"/>
          <a:stretch/>
        </p:blipFill>
        <p:spPr>
          <a:xfrm>
            <a:off x="243828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36" name="ShockwaveFlash3" descr=""/>
          <p:cNvPicPr/>
          <p:nvPr/>
        </p:nvPicPr>
        <p:blipFill>
          <a:blip r:embed="rId4"/>
          <a:stretch/>
        </p:blipFill>
        <p:spPr>
          <a:xfrm>
            <a:off x="434340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37" name="ShockwaveFlash4" descr=""/>
          <p:cNvPicPr/>
          <p:nvPr/>
        </p:nvPicPr>
        <p:blipFill>
          <a:blip r:embed="rId5"/>
          <a:stretch/>
        </p:blipFill>
        <p:spPr>
          <a:xfrm>
            <a:off x="6248520" y="2362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38" name="ShockwaveFlash5" descr=""/>
          <p:cNvPicPr/>
          <p:nvPr/>
        </p:nvPicPr>
        <p:blipFill>
          <a:blip r:embed="rId6"/>
          <a:stretch/>
        </p:blipFill>
        <p:spPr>
          <a:xfrm>
            <a:off x="815328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39" name="ShockwaveFlash6" descr=""/>
          <p:cNvPicPr/>
          <p:nvPr/>
        </p:nvPicPr>
        <p:blipFill>
          <a:blip r:embed="rId7"/>
          <a:stretch/>
        </p:blipFill>
        <p:spPr>
          <a:xfrm>
            <a:off x="137160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40" name="ShockwaveFlash7" descr=""/>
          <p:cNvPicPr/>
          <p:nvPr/>
        </p:nvPicPr>
        <p:blipFill>
          <a:blip r:embed="rId8"/>
          <a:stretch/>
        </p:blipFill>
        <p:spPr>
          <a:xfrm>
            <a:off x="320040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ShockwaveFlash8" descr=""/>
          <p:cNvPicPr/>
          <p:nvPr/>
        </p:nvPicPr>
        <p:blipFill>
          <a:blip r:embed="rId9"/>
          <a:stretch/>
        </p:blipFill>
        <p:spPr>
          <a:xfrm>
            <a:off x="518148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42" name="ShockwaveFlash9" descr=""/>
          <p:cNvPicPr/>
          <p:nvPr/>
        </p:nvPicPr>
        <p:blipFill>
          <a:blip r:embed="rId10"/>
          <a:stretch/>
        </p:blipFill>
        <p:spPr>
          <a:xfrm>
            <a:off x="7086600" y="510552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6"/>
          <p:cNvSpPr/>
          <p:nvPr/>
        </p:nvSpPr>
        <p:spPr>
          <a:xfrm>
            <a:off x="5257800" y="47242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枫树  落叶乔木，叶子是互生的，通常三裂，叶子边缘有锯齿，秋季叶子变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0101"/>
          <p:cNvPicPr/>
          <p:nvPr/>
        </p:nvPicPr>
        <p:blipFill>
          <a:blip r:embed="rId1"/>
          <a:stretch/>
        </p:blipFill>
        <p:spPr>
          <a:xfrm>
            <a:off x="609480" y="762120"/>
            <a:ext cx="4324320" cy="58291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8"/>
          <p:cNvSpPr/>
          <p:nvPr/>
        </p:nvSpPr>
        <p:spPr>
          <a:xfrm>
            <a:off x="7632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参考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02"/>
          <p:cNvPicPr/>
          <p:nvPr/>
        </p:nvPicPr>
        <p:blipFill>
          <a:blip r:embed="rId1"/>
          <a:stretch/>
        </p:blipFill>
        <p:spPr>
          <a:xfrm>
            <a:off x="533520" y="184320"/>
            <a:ext cx="6781680" cy="6489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7895880" y="5867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枫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4572000" y="281952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袋鼠  哺乳动物的一科，前肢短小，后肢粗大，善于跳跃，尾巴粗大，能支持身体。雌的腹部有皮质的育儿袋。吃青草、野菜等。产在大洋洲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untitled"/>
          <p:cNvPicPr/>
          <p:nvPr/>
        </p:nvPicPr>
        <p:blipFill>
          <a:blip r:embed="rId1"/>
          <a:stretch/>
        </p:blipFill>
        <p:spPr>
          <a:xfrm>
            <a:off x="1066680" y="838080"/>
            <a:ext cx="33433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511440" y="39196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"/>
          <p:cNvSpPr/>
          <p:nvPr/>
        </p:nvSpPr>
        <p:spPr>
          <a:xfrm>
            <a:off x="407880" y="2468520"/>
            <a:ext cx="788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4ED2-404C-402F-946C-C8169DB7906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01"/>
          <p:cNvPicPr/>
          <p:nvPr/>
        </p:nvPicPr>
        <p:blipFill>
          <a:blip r:embed="rId1"/>
          <a:stretch/>
        </p:blipFill>
        <p:spPr>
          <a:xfrm>
            <a:off x="2317680" y="304920"/>
            <a:ext cx="4508640" cy="5943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4298760" y="6248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礼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47640" y="2666880"/>
            <a:ext cx="7848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熊猫盼盼早上起来，打开电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nǎo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收到小袋鼠亚特发来的电子邮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yóu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件：“盼盼，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qiū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到了，枫叶红了。我做了好多树叶书签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qiān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用信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fēnɡ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装上，已经交给邮递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ì)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3" action="ppaction://hlinksldjump"/>
              </a:rPr>
              <a:t>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yuán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叔叔了。你很快就会收到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盼盼揉揉眼睛，朝窗外看看，草儿青了，树叶绿了。黄黄的迎春花，像点点小星星。桃树枝上，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fěn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红粉红的花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ɡū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朵也冒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mào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出来了。再听听，满山竹笋咔吧咔吧，急着往上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明明是春天嘛，亚特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真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zhēn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糊涂，把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jì)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6" action="ppaction://hlinksldjump"/>
              </a:rPr>
              <a:t>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jié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都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ɡǎo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错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5031000" y="7650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礼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609480" y="1571760"/>
            <a:ext cx="7848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可是熊猫妈妈说，亚特是对的。这是怎么回事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原来，亚特的家在南半球，而盼盼住在北半球，两边的季节刚好是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相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xiānɡ)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3" action="ppaction://hlinksldjump"/>
              </a:rPr>
              <a:t>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fǎn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在春天能收到秋天的礼物，多么有趣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10"/>
          <p:cNvSpPr/>
          <p:nvPr/>
        </p:nvSpPr>
        <p:spPr>
          <a:xfrm>
            <a:off x="5562720" y="50292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647640" y="30956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熊猫盼盼早上起来，打开电脑，收到小袋鼠亚特发来的电子邮件：“盼盼，秋天到了，枫叶红了。我做了好多树叶书签，用信封装上，已经交给邮递员叔叔了。你很快就会收到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031000" y="7650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礼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4952880" y="4572000"/>
            <a:ext cx="2971800" cy="1752480"/>
          </a:xfrm>
          <a:prstGeom prst="cloudCallout">
            <a:avLst>
              <a:gd name="adj1" fmla="val 49944"/>
              <a:gd name="adj2" fmla="val 6476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小袋鼠亚特发给盼盼的电子邮件的内容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5257800" y="388620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762120" y="4267080"/>
            <a:ext cx="12189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514440" y="175248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亚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190960" y="175248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秋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254040" y="175248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枫叶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4844160" y="175248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树叶书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1"/>
          <p:cNvSpPr/>
          <p:nvPr/>
        </p:nvSpPr>
        <p:spPr>
          <a:xfrm>
            <a:off x="1241280" y="2013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647640" y="33242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盼盼揉揉眼睛，朝窗外看看，草儿青了，树叶绿了。黄黄的迎春花，像点点小星星。桃树枝上，粉红粉红的花骨朵也冒出来了。再听听，满山竹笋咔吧咔吧，急着往上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明明是春天嘛，亚特真糊涂，把季节都搞错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4724280" y="533520"/>
            <a:ext cx="2971800" cy="1752480"/>
          </a:xfrm>
          <a:prstGeom prst="cloudCallout">
            <a:avLst>
              <a:gd name="adj1" fmla="val 49944"/>
              <a:gd name="adj2" fmla="val 64763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盼盼看完了了邮件，为什么要朝窗外看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5257800" y="3733920"/>
            <a:ext cx="2971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6553080" y="4114800"/>
            <a:ext cx="19051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762120" y="4114800"/>
            <a:ext cx="19047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>
            <a:off x="2895480" y="487692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>
            <a:off x="5105520" y="4495680"/>
            <a:ext cx="1828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5105520" y="4114800"/>
            <a:ext cx="5331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514440" y="175248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亚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190960" y="175248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秋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254040" y="175248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枫叶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4844160" y="175248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树叶书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20920" y="344484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盼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2197440" y="344484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春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3406680" y="269892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看看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3406680" y="422280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听听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4777920" y="4249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竹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7"/>
          <p:cNvSpPr/>
          <p:nvPr/>
        </p:nvSpPr>
        <p:spPr>
          <a:xfrm>
            <a:off x="2978280" y="2774880"/>
            <a:ext cx="152280" cy="1828800"/>
          </a:xfrm>
          <a:custGeom>
            <a:avLst/>
            <a:gdLst>
              <a:gd name="textAreaLeft" fmla="*/ 97200 w 152280"/>
              <a:gd name="textAreaRight" fmla="*/ 152640 w 1522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8"/>
          <p:cNvSpPr/>
          <p:nvPr/>
        </p:nvSpPr>
        <p:spPr>
          <a:xfrm>
            <a:off x="1241280" y="2013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9"/>
          <p:cNvSpPr/>
          <p:nvPr/>
        </p:nvSpPr>
        <p:spPr>
          <a:xfrm>
            <a:off x="1241280" y="3689280"/>
            <a:ext cx="822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5"/>
          <p:cNvSpPr/>
          <p:nvPr/>
        </p:nvSpPr>
        <p:spPr>
          <a:xfrm>
            <a:off x="4182480" y="2698920"/>
            <a:ext cx="37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4791960" y="2698920"/>
            <a:ext cx="37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5477760" y="2698920"/>
            <a:ext cx="37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609480" y="20131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可是熊猫妈妈说，亚特是对的。这是怎么回事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原来，亚特的家在南半球，而盼盼住在北半球，两边的季节刚好是相反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3733920" y="281952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6553080" y="281952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1905120" y="3886200"/>
            <a:ext cx="2971800" cy="1752480"/>
          </a:xfrm>
          <a:prstGeom prst="cloudCallout">
            <a:avLst>
              <a:gd name="adj1" fmla="val -49305"/>
              <a:gd name="adj2" fmla="val 68476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是亚特把季节搞错了吗？妈妈怎么说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1066680" y="3200400"/>
            <a:ext cx="23623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6:02:5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5:52Z</dcterms:modified>
  <cp:revision>14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