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9A50-CB2C-448C-8262-538F49309981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FA27-8459-4D0B-B931-4B18123EAA4F}" type="slidenum">
              <a:rPr b="0" lang="zh-CN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FD8-727D-4846-B1A8-87B0E483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8CD-71FE-4069-A0A2-CFDCF702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A48-2C78-4255-8634-ED29175C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C61-CFB8-4B44-A2D4-C280CC77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9094-9CA1-4611-AE4D-C0A5BA83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4802-FEE5-4437-B1EF-4E41B3F7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ACC0-B618-4E9F-AA20-FD5A5A23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1CF7-B478-4606-8148-1463E88C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1317-8265-44DB-A029-E622E58D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4209-BCCD-4547-BC4F-21BC0D27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396C-E456-4AD3-9CEE-23D571EE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B93-A017-4FAE-934B-5712E08E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42AB-4BB8-4E62-B1D0-D1C30A1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5610-D344-45F5-8806-3F24AD41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C96A-A643-4ED0-B599-3579777F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2EF-5E46-47D4-BD40-E73010C8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9652-BA94-4D73-BF76-E9523798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F7A-CF56-4DE1-B52F-8CA4449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3D0-49C0-486F-BA6A-BA49238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9FE-A19B-4B46-81F6-425662F7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A82-8E58-44F7-BB63-2B83859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D8F-77FA-48EB-90DC-7E44E84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A06-E179-4005-B06B-1DF91C0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9B0-6904-4BFB-B379-72EFEB05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A93-6FC7-47B3-82E4-D4822AF89E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1040" y="136260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7400" y="530928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33D1-8948-4AB3-B432-A414979890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0"/>
          <p:cNvSpPr/>
          <p:nvPr/>
        </p:nvSpPr>
        <p:spPr>
          <a:xfrm>
            <a:off x="1366920" y="2708280"/>
            <a:ext cx="63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狼牙山</a:t>
            </a: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五壮士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矩形 3"/>
          <p:cNvSpPr/>
          <p:nvPr/>
        </p:nvSpPr>
        <p:spPr>
          <a:xfrm>
            <a:off x="18108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0" y="83664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填适当的词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838080" y="190512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山路   （  ）地瞄准敌人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力气   （  ）地躺着尸体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怒火   （  ）地完成任务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（  ）的喜悦   （  ）地打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611280" y="155736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辨字组词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258920" y="2097000"/>
            <a:ext cx="7345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撤（ ）   晋（ ）   寇（ ）豪（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撒（ ）   普（ ）   冠（ ）毫（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棋（ ）   狠（ ）   截（ ）斩（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旗（ ）   恨（ ）   戴（ ）折（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ahoma"/>
                <a:ea typeface="楷体_GB2312"/>
              </a:rPr>
              <a:t>期（ ）   痕（ ）   裁（ ）崭（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76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课后一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0" y="83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补充成语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826920" y="1628640"/>
            <a:ext cx="7315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气（ ）山河     全神（ ）注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斩钉（ ）铁     横七（ ）八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居高（ ）下     昂首（ ）胸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粉身（ ）骨     满腔（ ）火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574560" y="223380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8000"/>
                </a:solidFill>
                <a:latin typeface="Tahoma"/>
                <a:ea typeface="楷体_GB2312"/>
              </a:rPr>
              <a:t>把使你受到感动的地方或者是你认为写得精彩的地方用笔划下来，然后反复朗读 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256040" y="725040"/>
            <a:ext cx="172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反复朗读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684360" y="1860480"/>
            <a:ext cx="82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了不让敌人发现群众和连队主力，班长马宝玉斩钉截铁地说了一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走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带头向棋盘陀走去。战士们热血沸腾，紧跟在班长后面。他们知道班长要把敌人引上绝路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84360" y="3915360"/>
            <a:ext cx="82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了不让敌人发现群众和连队主力，班长马宝玉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斩钉截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说了一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走！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带头向棋盘陀走去。战士们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热血沸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紧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班长后面。他们知道班长要把敌人引上绝路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684360" y="1881720"/>
            <a:ext cx="80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他刚要拧开盖子，马宝玉抢前一步，夺过手榴弹插在腰间，他猛地举起一块磨盘大的石头，大声喊道：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同志们！用石头砸！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顿时，石头像雹子一样，带着五位壮士的决心，带着中国人民的仇恨，向敌人头上砸去。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826920" y="4374720"/>
            <a:ext cx="80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他刚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拧开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盖子，马宝玉抢前一步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夺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过手榴弹插在腰间，他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猛地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举起一块磨盘大的石头，大声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喊道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同志们！用石头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砸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！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顿时，石头像雹子一样，带着五位壮士的决心，带着中国人民的仇恨，向敌人头上砸去。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611280" y="2259720"/>
            <a:ext cx="8057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五位壮士屹立在狼牙山顶峰，眺望着群众和部队主力远去的方向。他们回头望望还在向上爬的日寇，脸上露出胜利的喜悦。班长马宝玉激动地说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同志们，我们的任务胜利完成了！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说罢，他把那支从敌人手里夺来的枪砸碎了，然后走到悬崖边上，像每次发起冲锋一样，第一个纵身跳下深谷。战士们也昂首挺胸，相继从悬崖往下跳。狼牙山上响起了他们的壮烈豪迈的口号声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打倒日本帝国主义！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中国人民万岁！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中国共产党万岁！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0"/>
          <p:cNvSpPr/>
          <p:nvPr/>
        </p:nvSpPr>
        <p:spPr>
          <a:xfrm>
            <a:off x="0" y="836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按意思写成语：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62120" y="1981080"/>
            <a:ext cx="7986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比喻处理事情或说话坚决果断，毫不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犹豫。（           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处在高处，俯视低处。形容所处的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势有利。（           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形容气势十分雄壮。（           ）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755640" y="1989000"/>
            <a:ext cx="838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组学习要求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先读一读学习的内容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抓词句，谈谈五壮士的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壮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表现在哪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有感情地读一读这些句子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0" y="836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合作学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-11160" y="90792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阅读课文，划分段落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676520" y="1676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接受任务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76520" y="2590920"/>
            <a:ext cx="61722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诱敌上山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痛击敌人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676520" y="4114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把敌人引上绝路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676520" y="5105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四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英勇歼敌</a:t>
            </a:r>
            <a:r>
              <a:rPr b="1" lang="zh-CN" sz="28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676520" y="5943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第五部分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6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：壮烈跳崖 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755640" y="1943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释义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意气豪壮而勇敢的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勇士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健力大者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指武士装束的人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太平天国取试武士分为一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﹑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﹑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三甲，第三甲若干名称为壮士，相当于清制的进士，职同军帅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2771640" y="2492280"/>
            <a:ext cx="31482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67" name="文本框 1"/>
          <p:cNvSpPr/>
          <p:nvPr/>
        </p:nvSpPr>
        <p:spPr>
          <a:xfrm>
            <a:off x="528480" y="5516640"/>
            <a:ext cx="81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更多免费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PPT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板尽在：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http://www.eeppt.co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14EB-6D24-4FEA-BE5B-2A78DA6B60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22"/>
          <p:cNvPicPr/>
          <p:nvPr/>
        </p:nvPicPr>
        <p:blipFill>
          <a:blip r:embed="rId1"/>
          <a:stretch/>
        </p:blipFill>
        <p:spPr>
          <a:xfrm>
            <a:off x="0" y="836640"/>
            <a:ext cx="5040360" cy="6021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292720" y="1557360"/>
            <a:ext cx="33116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黑体"/>
              </a:rPr>
              <a:t>狼牙山简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狼牙山位于河北保定西北约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里的易县境内。因其群峰状似狼牙，直刺云天，故名狼牙山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0"/>
          <p:cNvSpPr/>
          <p:nvPr/>
        </p:nvSpPr>
        <p:spPr>
          <a:xfrm>
            <a:off x="2109960" y="444492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2119320" y="1844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688080" y="1846440"/>
            <a:ext cx="1441440" cy="5205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马宝玉</a:t>
            </a:r>
            <a:r>
              <a:rPr b="1" lang="zh-CN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759720" y="3214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宋学义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759720" y="4006800"/>
            <a:ext cx="1676160" cy="64260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胡德林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6759720" y="4943520"/>
            <a:ext cx="1676160" cy="64260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胡福才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688080" y="2494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葛振林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19" descr="狼牙山"/>
          <p:cNvPicPr/>
          <p:nvPr/>
        </p:nvPicPr>
        <p:blipFill>
          <a:blip r:embed="rId1"/>
          <a:stretch/>
        </p:blipFill>
        <p:spPr>
          <a:xfrm>
            <a:off x="539640" y="836640"/>
            <a:ext cx="46087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900000" y="206064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自读要求：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63640" y="3068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读准字音，读通句子，遇到难读句子，停下来，多读几遍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432160" y="907920"/>
            <a:ext cx="419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24.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狼牙山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五壮士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90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自学生字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838080" y="205740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寇 晋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榴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悬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崖  </a:t>
            </a: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50920" y="41148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斩钉截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罢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豪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547640" y="1700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ò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u    j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ì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n                  liú          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yá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24000" y="3657600"/>
            <a:ext cx="83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  <a:ea typeface="Times New Roman"/>
              </a:rPr>
              <a:t>zhăndīnɡjié        pān           bà              há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79280" y="1916280"/>
            <a:ext cx="8585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ahoma"/>
                <a:ea typeface="楷体_GB2312"/>
              </a:rPr>
              <a:t>晋察冀  抡  绷  瞄  陀  磨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ahoma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8000"/>
                </a:solidFill>
                <a:latin typeface="Tahoma"/>
                <a:ea typeface="楷体_GB2312"/>
              </a:rPr>
              <a:t>坠   涧   拧  叽 呱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50920" y="11970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ì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  lūn  bēng mi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  tu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ó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mò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258920" y="270828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zhu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ì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ji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à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    nǐnɡ   jī   gu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6"/>
          <p:cNvSpPr/>
          <p:nvPr/>
        </p:nvSpPr>
        <p:spPr>
          <a:xfrm>
            <a:off x="468360" y="1844640"/>
            <a:ext cx="7921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满腔怒火   全神贯注   横七竖八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悬崖绝壁   斩钉截铁   热血沸腾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居高临下   粉身碎骨   昂首挺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楷体_GB2312"/>
              </a:rPr>
              <a:t>坚强不屈   惊天动地   气壮山河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11280" y="169920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篇课文是按什么顺序写的？讲了一件什么事情？</a:t>
            </a: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84360" y="395064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这篇课文讲了在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1941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年，七连六班的五位战士接受了掩护连队主力和群众转移的任务，他们先把敌人引上狼牙山，又把敌人引上绝路，在顶峰歼灭了一部分的敌人后，英勇跳崖的故事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9:43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6:52Z</dcterms:modified>
  <cp:revision>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