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9A22-C5D7-4F66-BFC3-87D1E16670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8C13-BF47-487B-B9C5-27671A3FBBB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753-4B77-4908-9052-73AB60CD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37E5-782C-42EF-8CA3-D9E10D87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8342-BBAB-480F-B7B5-57F4C23A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EFF-CEF4-4A1C-9ADE-9CF1B403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734F-49DC-4DB3-AE3F-79B99E09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724-898C-439B-81AA-12015FC7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DB9-17D1-44D6-84B2-CB7EBCF9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9F3-E438-4081-AC8E-BA33B8D8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1C4-9E2C-4763-B45E-E500A8CB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4FB-2D3D-4F99-B7A4-2E607ABF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9D9-04D0-4576-9047-220E1E1E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455A-048F-42DD-A9CE-78D43498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020B-0E68-4596-8AFD-4549A6618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206440" y="838080"/>
            <a:ext cx="466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 木匠的房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792080" y="61722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636480" y="297180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很小的房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953080" y="113652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自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953080" y="203184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老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953080" y="30225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女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953080" y="39369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孩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085200" y="500364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接二连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518440" y="3092400"/>
            <a:ext cx="25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好人的心容得下全世界的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2286000" y="13716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4267080" y="1295280"/>
            <a:ext cx="304920" cy="4191120"/>
          </a:xfrm>
          <a:custGeom>
            <a:avLst/>
            <a:gdLst>
              <a:gd name="textAreaLeft" fmla="*/ 0 w 304920"/>
              <a:gd name="textAreaRight" fmla="*/ 110160 w 30492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601640" y="2286000"/>
            <a:ext cx="231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允许　可怜　拒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411880" y="2286000"/>
            <a:ext cx="231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差不多　　弄不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601640" y="3733920"/>
            <a:ext cx="231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问题　木匠　敲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411880" y="3733920"/>
            <a:ext cx="231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暖烘烘　　黑漆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52280" y="990720"/>
            <a:ext cx="885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木匠造了一间很小的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木匠造了一间很小很小的房子，只能住下他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52280" y="3809880"/>
            <a:ext cx="885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家说着、笑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大家快乐地说着、笑着，开心极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808200" y="1136520"/>
            <a:ext cx="7610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允  差  怜  拒  绝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80880" y="7430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ǔ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111560" y="743040"/>
            <a:ext cx="9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li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6312600" y="762120"/>
            <a:ext cx="4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484280" y="3935520"/>
            <a:ext cx="6467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挤  漆  烘  题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2193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265560" y="35053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2286000" y="762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h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960800" y="350532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hō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7146000" y="350532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8087400" y="7621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u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ShockwaveFlash1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09" name="ShockwaveFlash2" descr=""/>
          <p:cNvPicPr/>
          <p:nvPr/>
        </p:nvPicPr>
        <p:blipFill>
          <a:blip r:embed="rId3"/>
          <a:stretch/>
        </p:blipFill>
        <p:spPr>
          <a:xfrm>
            <a:off x="24382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0" name="ShockwaveFlash3" descr=""/>
          <p:cNvPicPr/>
          <p:nvPr/>
        </p:nvPicPr>
        <p:blipFill>
          <a:blip r:embed="rId4"/>
          <a:stretch/>
        </p:blipFill>
        <p:spPr>
          <a:xfrm>
            <a:off x="434340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1" name="ShockwaveFlash4" descr=""/>
          <p:cNvPicPr/>
          <p:nvPr/>
        </p:nvPicPr>
        <p:blipFill>
          <a:blip r:embed="rId5"/>
          <a:stretch/>
        </p:blipFill>
        <p:spPr>
          <a:xfrm>
            <a:off x="62485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2" name="ShockwaveFlash5" descr=""/>
          <p:cNvPicPr/>
          <p:nvPr/>
        </p:nvPicPr>
        <p:blipFill>
          <a:blip r:embed="rId6"/>
          <a:stretch/>
        </p:blipFill>
        <p:spPr>
          <a:xfrm>
            <a:off x="81532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3" name="ShockwaveFlash6" descr=""/>
          <p:cNvPicPr/>
          <p:nvPr/>
        </p:nvPicPr>
        <p:blipFill>
          <a:blip r:embed="rId7"/>
          <a:stretch/>
        </p:blipFill>
        <p:spPr>
          <a:xfrm>
            <a:off x="137160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ShockwaveFlash7" descr=""/>
          <p:cNvPicPr/>
          <p:nvPr/>
        </p:nvPicPr>
        <p:blipFill>
          <a:blip r:embed="rId8"/>
          <a:stretch/>
        </p:blipFill>
        <p:spPr>
          <a:xfrm>
            <a:off x="320040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5" name="ShockwaveFlash8" descr=""/>
          <p:cNvPicPr/>
          <p:nvPr/>
        </p:nvPicPr>
        <p:blipFill>
          <a:blip r:embed="rId9"/>
          <a:stretch/>
        </p:blipFill>
        <p:spPr>
          <a:xfrm>
            <a:off x="518148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ShockwaveFlash9" descr=""/>
          <p:cNvPicPr/>
          <p:nvPr/>
        </p:nvPicPr>
        <p:blipFill>
          <a:blip r:embed="rId10"/>
          <a:stretch/>
        </p:blipFill>
        <p:spPr>
          <a:xfrm>
            <a:off x="7086600" y="51055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3855240" y="19810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F265-6EBD-40B0-BC95-B6D62229E28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01"/>
          <p:cNvPicPr/>
          <p:nvPr/>
        </p:nvPicPr>
        <p:blipFill>
          <a:blip r:embed="rId1"/>
          <a:stretch/>
        </p:blipFill>
        <p:spPr>
          <a:xfrm>
            <a:off x="2443320" y="343080"/>
            <a:ext cx="4257360" cy="617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33520" y="11620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有一个木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jiànɡ)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造了一间很小很小的房子，只能住下他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天，下起了大雨。有人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敲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qiāo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门，木匠问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呀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是个老人，请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yǔn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许我进屋避避雨吧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木匠看看小小的房子，有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些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xiē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难。他想 ，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待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dāi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下一个人，待两个人也差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chà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多。于是，他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进吧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人进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909960" y="2286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木匠的房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"/>
          <p:cNvSpPr/>
          <p:nvPr/>
        </p:nvSpPr>
        <p:spPr>
          <a:xfrm>
            <a:off x="3289320" y="4699080"/>
            <a:ext cx="61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63400" y="584280"/>
            <a:ext cx="801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又有人敲门，是一个可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lián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女人，带着三个孩子。木匠不忍心拒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jù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jué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来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jǐ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挤吧！待得下两个人，就待得下六个人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雨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yuè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越大，接二连三有人进来。最后，屋子里一共待了十一个人。天黑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qī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漆的，屋子里暖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hōnɡ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烘的。大家快乐地说着、笑着，开心极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木匠有些弄不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dǒnɡ)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屋子这么小，怎么能待下这么多人呢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人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tí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是房子，而是心！一个好人的心，容得下全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世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shì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界的人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9"/>
          <p:cNvSpPr/>
          <p:nvPr/>
        </p:nvSpPr>
        <p:spPr>
          <a:xfrm>
            <a:off x="5284800" y="50292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533520" y="11620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有一个木匠，造了一间很小很小的房子，只能住下他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天，下起了大雨。有人敲门，木匠问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呀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是个老人，请允许我进屋避避雨吧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木匠看看小小的房子，有些为难。他想 ，待得下一个人，待两个人也差不多。于是，他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进吧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人进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909960" y="2286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木匠的房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4267080" y="3886200"/>
            <a:ext cx="3505320" cy="1828800"/>
          </a:xfrm>
          <a:prstGeom prst="cloudCallout">
            <a:avLst>
              <a:gd name="adj1" fmla="val -46694"/>
              <a:gd name="adj2" fmla="val 69009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么大的雨，来了许多请求避雨的人，他们都是谁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914400" y="266688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36480" y="297180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很小的房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953080" y="113652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自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953080" y="203184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老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/>
          <p:cNvSpPr/>
          <p:nvPr/>
        </p:nvSpPr>
        <p:spPr>
          <a:xfrm>
            <a:off x="2286000" y="13716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63400" y="1069920"/>
            <a:ext cx="80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又有人敲门，是一个可怜的女人，带着三个孩子。木匠不忍心拒绝，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来挤一挤吧！待得下两个人，就待得下六个人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雨越来越大，接二连三有人进来。最后，屋子里一共待了十一个人。天黑漆漆的，屋子里暖烘烘的。大家快乐地说着、笑着，开心极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"/>
          <p:cNvSpPr/>
          <p:nvPr/>
        </p:nvSpPr>
        <p:spPr>
          <a:xfrm>
            <a:off x="5029200" y="147636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7162920" y="147636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3429000" y="25430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36480" y="297180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很小的房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953080" y="113652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自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953080" y="203184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老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953080" y="30225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女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953080" y="39369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孩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085200" y="500364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接二连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9"/>
          <p:cNvSpPr/>
          <p:nvPr/>
        </p:nvSpPr>
        <p:spPr>
          <a:xfrm>
            <a:off x="2286000" y="13716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563400" y="1905120"/>
            <a:ext cx="801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木匠有些弄不懂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屋子这么小，怎么能待下这么多人呢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人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不是房子，而是心！一个好人的心，容得下全世界的人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685800" y="3048120"/>
            <a:ext cx="2286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6019920" y="266688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4:00:4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8:10Z</dcterms:modified>
  <cp:revision>7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