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7CE-4B41-4F50-A6A6-E35304EDDA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32FC-EB90-45BC-AF90-3AC7E5145B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42C-82A2-4D6C-A226-89E48603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9DC-A946-4945-82A8-1121CD99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847-F225-42FB-8142-C10DB5EF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664-FEF7-4A5B-8D80-CAFF79D2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601-5CEF-47D5-BF75-B7C14CC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661-CA3E-4D5A-A97F-B8C34873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C30-8855-492F-9F83-399E0FFD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7F5-3324-4CEE-8CF9-C5CE89F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7BD-29B3-4519-BBFD-A8D0961A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9C3-52E6-4F0D-B2AF-29C87AE1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0DA-46D5-4AAB-B0EF-EE7A637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BD3-1C49-4E71-8702-55ABBE5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A608-34B8-4635-9BF9-2F4FDB2C4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822320" y="1773360"/>
            <a:ext cx="576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微软雅黑"/>
              </a:rPr>
              <a:t>妈妈睡了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56960" y="5013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68360" y="33336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睡梦中的妈妈好慈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妈妈在微微地笑着，她的嘴巴、眼角都挂着笑意，好像在睡梦中妈妈又想好了一个故事，等一会儿要讲给我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84080" y="43038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慈祥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313160" y="43340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很亲切、不乱发脾气、很温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88920" y="4905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还可以说谁很慈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290840" y="4941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</a:rPr>
              <a:t>爷爷、奶奶、姥姥、老师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5589720"/>
            <a:ext cx="41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慈祥的妈妈是什么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>
            <a:hlinkClick r:id="rId2" action="ppaction://hlinksldjump"/>
          </p:cNvPr>
          <p:cNvSpPr/>
          <p:nvPr/>
        </p:nvSpPr>
        <p:spPr>
          <a:xfrm>
            <a:off x="8602560" y="5805360"/>
            <a:ext cx="5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睡梦中的妈妈好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妈妈的呼吸那么深沉，又那么均匀。她细软的头发粘在微微渗出汗珠儿的额头上。窗外，小鸟儿在唱着歌，风在树叶间散步，发出沙沙的响声，可是妈妈全听不到。她干了好多活，累了，乏了，她真该好好睡一觉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050920" y="57340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你是从哪知道妈妈好累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50920" y="404640"/>
            <a:ext cx="87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睡梦中的妈妈好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妈妈的</a:t>
            </a:r>
            <a:r>
              <a:rPr b="1" lang="zh-CN" sz="44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呼吸那么深沉，又那么均匀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她细软的头发粘在微微</a:t>
            </a:r>
            <a:r>
              <a:rPr b="1" lang="zh-CN" sz="44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渗出汗珠儿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额头上。窗外，小鸟儿在唱着歌，风在树叶间散步，发出沙沙的响声，可是妈妈</a:t>
            </a:r>
            <a:r>
              <a:rPr b="1" lang="zh-CN" sz="44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全听不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。</a:t>
            </a:r>
            <a:r>
              <a:rPr b="1" lang="zh-CN" sz="44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她干了好多活，累了，乏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她真该好好睡一觉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826920" y="333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妈妈睡了，这时你在做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4000" y="112536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妈妈睡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妈妈在哄我午睡的时候，她自己先睡着了，睡得好熟、好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像我睡着时妈妈常爱在身边看着我一样，我也看着妈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55640" y="5229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妈妈这样爱我们，我们应该为妈妈做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3661ae34cfcffaa4d0a2d3e2"/>
          <p:cNvPicPr/>
          <p:nvPr/>
        </p:nvPicPr>
        <p:blipFill>
          <a:blip r:embed="rId1"/>
          <a:stretch/>
        </p:blipFill>
        <p:spPr>
          <a:xfrm>
            <a:off x="684360" y="2114640"/>
            <a:ext cx="7696080" cy="474336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1547640" y="338040"/>
            <a:ext cx="6286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夸夸我的妈妈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684360" y="104760"/>
            <a:ext cx="57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826920" y="907920"/>
            <a:ext cx="785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慈祥的妈妈     明亮的眼睛    弯弯的眉毛     红润的脸        深沉的呼吸     细软的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窗外，小鸟儿在唱着歌，风在树叶间散步，发出沙沙的响声。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24000" y="189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我的采蜜集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2BEC-40EA-4C64-9EBE-F0511C8D34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%C2%E8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在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哄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午睡的时候，她自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着了，睡得好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熟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﹑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170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明亮的眼睛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闭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了，弯弯的眉毛也睡在妈妈红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脸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0" y="31417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慈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妈妈经常给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4076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的呼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深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那么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均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上还有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汗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珠儿，妈妈真的累了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乏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4205160" y="256536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1332000" y="404640"/>
            <a:ext cx="66261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哄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催眠    粘在  细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卫生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慈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珠儿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  均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额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呼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吸    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  应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8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2"/>
          <p:cNvSpPr/>
          <p:nvPr/>
        </p:nvSpPr>
        <p:spPr>
          <a:xfrm>
            <a:off x="1116000" y="333360"/>
            <a:ext cx="1366920" cy="12826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2771640" y="333360"/>
            <a:ext cx="1435320" cy="1278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500720" y="333360"/>
            <a:ext cx="1512720" cy="1373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372360" y="333360"/>
            <a:ext cx="1584360" cy="1373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042920" y="1700280"/>
            <a:ext cx="1398600" cy="13809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2771640" y="1773360"/>
            <a:ext cx="1427400" cy="1304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4500720" y="1773360"/>
            <a:ext cx="1452240" cy="1304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300720" y="1700280"/>
            <a:ext cx="1535040" cy="14475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900000" y="3141720"/>
            <a:ext cx="1551240" cy="1465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2627280" y="3141720"/>
            <a:ext cx="1643040" cy="1541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00720" y="3068640"/>
            <a:ext cx="1587240" cy="168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372360" y="3141720"/>
            <a:ext cx="1584360" cy="146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900000" y="4653000"/>
            <a:ext cx="1551240" cy="1557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2627280" y="4724280"/>
            <a:ext cx="1563840" cy="1405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427640" y="4724280"/>
            <a:ext cx="1582560" cy="1476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7"/>
          <p:cNvSpPr/>
          <p:nvPr/>
        </p:nvSpPr>
        <p:spPr>
          <a:xfrm>
            <a:off x="6300720" y="4724280"/>
            <a:ext cx="1600200" cy="15447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684360" y="765000"/>
            <a:ext cx="79200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先前  先生  先进  熟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熟练  成熟  关闭  眉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湿润  慈爱  安详  讲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吸收  沉重  平均  匀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前额  疲乏  哄骗  汗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>
            <a:hlinkClick r:id="rId2" action="ppaction://hlinksldjump"/>
          </p:cNvPr>
          <p:cNvSpPr/>
          <p:nvPr/>
        </p:nvSpPr>
        <p:spPr>
          <a:xfrm>
            <a:off x="2050920" y="242100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睡梦中的妈妈真美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9640" y="69228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默读课文，思考：睡梦中的妈妈是怎样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>
            <a:hlinkClick r:id="rId3" action="ppaction://hlinksldjump"/>
          </p:cNvPr>
          <p:cNvSpPr/>
          <p:nvPr/>
        </p:nvSpPr>
        <p:spPr>
          <a:xfrm>
            <a:off x="2014560" y="3357720"/>
            <a:ext cx="57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睡梦中的妈妈好慈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>
            <a:hlinkClick r:id="rId4" action="ppaction://hlinksldjump"/>
          </p:cNvPr>
          <p:cNvSpPr/>
          <p:nvPr/>
        </p:nvSpPr>
        <p:spPr>
          <a:xfrm>
            <a:off x="2050920" y="443700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睡梦中的妈妈好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95280" y="476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睡梦中的妈妈真美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妈妈明亮的眼睛闭上了，弯弯的眉毛也睡在妈妈红润的脸上。妈妈的嘴巴微微张开着，好像在给我唱催眠的歌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00000" y="4653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你是从哪知道妈妈很美丽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1201141127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692280"/>
            <a:ext cx="84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睡梦中的妈妈真美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妈妈</a:t>
            </a:r>
            <a:r>
              <a:rPr b="1" lang="zh-CN" sz="48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明亮的眼睛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闭上了，</a:t>
            </a:r>
            <a:r>
              <a:rPr b="1" lang="zh-CN" sz="48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弯弯的眉毛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睡在妈妈</a:t>
            </a:r>
            <a:r>
              <a:rPr b="1" lang="zh-CN" sz="4800" spc="-1" strike="noStrike" u="sng">
                <a:solidFill>
                  <a:srgbClr val="990033"/>
                </a:solidFill>
                <a:uFillTx/>
                <a:latin typeface="黑体"/>
                <a:ea typeface="黑体"/>
              </a:rPr>
              <a:t>红润的脸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上。妈妈的嘴巴微微张开着，好像在给我唱催眠的歌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>
            <a:hlinkClick r:id="rId2" action="ppaction://hlinksldjump"/>
          </p:cNvPr>
          <p:cNvSpPr/>
          <p:nvPr/>
        </p:nvSpPr>
        <p:spPr>
          <a:xfrm>
            <a:off x="8604360" y="5877000"/>
            <a:ext cx="3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6:24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50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