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chimes.wav" ContentType="audio/x-wav"/>
  <Override PartName="/ppt/media/image2.jpeg" ContentType="image/jpeg"/>
  <Override PartName="/ppt/media/image3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DCB-C746-44CD-A60B-72849215FE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D99C-FC44-492C-B2EB-8822D0EB1BF5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F9F-B501-403F-9419-1F864E8F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9E6-ACCC-47DD-8783-80B927E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B54-3F6C-4A28-BC3B-CD248053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ED5-F670-486B-B7AF-A979C4C6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F700-81B3-447C-924D-E1869FE9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172D-5DFB-4486-9E75-0C984EA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872-4E81-4D02-8645-116CEA3C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3E7F-BB7E-47BC-A80C-EE0804C1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D7CC-1A1E-4828-990C-880A56B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EED1-CED6-4777-8C0D-C542F804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0E3-2718-4E92-8927-FF68856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290-3765-425B-825A-45B2DD3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3E8E-A7C8-4B9E-AAAD-79FF7B6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2FF-60A5-4766-869A-960FC49E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482E-94B3-44BD-A43B-27D4C0A7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38C-B346-4309-865E-5E754B37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40B-C5DB-4C40-B969-AD5DAA1E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65D-DF82-499D-9040-6AE07D0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52A-1A37-467D-988E-6416EE8E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041-7B45-42B2-B000-B220C4A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870-DEE6-409E-94A6-B2C7910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6E1-2EF6-434A-8F1A-930900A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467-1853-48BB-9043-E3A4E45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34D-74F0-415A-873F-0B7A88F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37B-A013-4C89-AA70-698A4DD78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850E-E58A-48E4-90CA-5A293BEE0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1476360" y="2349360"/>
            <a:ext cx="6264360" cy="158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微软雅黑"/>
              </a:rPr>
              <a:t>毛遂自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826920" y="1413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43160" y="1890720"/>
            <a:ext cx="358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08000" y="51577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体会到了， 人要懂得把握机会，要相信自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才能，勇敢的据理力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37180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979640" y="3429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借“锥子” “锥尖”比喻自己的潜能与才华，通过“若</a:t>
            </a: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那</a:t>
            </a: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光</a:t>
            </a:r>
            <a:r>
              <a:rPr b="1" lang="en-US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……”</a:t>
            </a: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假设与递进的句式，层层推进，说服对方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484360" y="404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毛遂是怎样据理力争的？你体会到了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835280" y="1773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毛遂说“我今天就是请求把我放到布袋中呀。您若早把我放到布袋中，我早就脱颖而出了，不光是露出那么点儿锥子尖呢！请您今天就把我放到随行的人员中吧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9">
            <a:hlinkClick r:id="" action="ppaction://hlinkshowjump?jump=previousslide"/>
          </p:cNvPr>
          <p:cNvSpPr/>
          <p:nvPr/>
        </p:nvSpPr>
        <p:spPr>
          <a:xfrm>
            <a:off x="2771640" y="1125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请读课文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5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自然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85800" y="479520"/>
            <a:ext cx="64069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毛遂在楚王面前的表现如何？你觉得他是个怎样的人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55640" y="170028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302640" y="256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表现的非常勇敢而有智慧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547640" y="350208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他是一个有口才、有魄力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20880" y="46864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044720" y="4508640"/>
            <a:ext cx="74865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门客”指古代寄食在王公贵族家里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主人出谋划策、奔走办事的人。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8">
            <a:hlinkClick r:id="" action="ppaction://hlinkshowjump?jump=nextslide"/>
          </p:cNvPr>
          <p:cNvSpPr/>
          <p:nvPr/>
        </p:nvSpPr>
        <p:spPr>
          <a:xfrm>
            <a:off x="3492360" y="155736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请看课文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8-13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自然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9">
            <a:hlinkClick r:id="rId2" action="ppaction://hlinksldjump"/>
          </p:cNvPr>
          <p:cNvSpPr/>
          <p:nvPr/>
        </p:nvSpPr>
        <p:spPr>
          <a:xfrm>
            <a:off x="7929000" y="6237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↓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340000" y="644040"/>
            <a:ext cx="64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0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楚王见来人按着佩剑走上来，吃了一惊，忙问：“他是谁？”            平原君回答说：“这位是我的门客。”楚王马上大声呵斥道：“还不快下去！我正与你的主人谈话，你来干什么？”毛遂手握剑柄，走近楚王说：“你耍什么威风！眼下你我只有几步距离，大王的性命就操在我的手中。我的主人在此，你呵斥谁？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楚王被毛遂的气势镇住了，一时不知所措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494080"/>
            <a:ext cx="82803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时，毛遂放缓了语气，说：“当初商汤只有方圆七十里土地，统一了天下；周文王也不过方圆百里土地，最终做了帝王。现今楚国方圆五千里，军队上百万，这是称霸的优势啊！凭借楚国的强大，天下没有人能阻挡。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楚王连连点头。毛遂话锋一转，说：“可是，秦国的大将白起不过率领几万军队，与你们楚国交战，一战就占领了楚国的国都，再战就铲平了楚王的祖坟，连楚怀王都死在了秦国。这真是奇耻大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辱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rǔ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、百代仇恨啊！我们赵国都替你们害羞，难道大王你不感到羞耻吗？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楚王满脸通红，不知如何回答。毛遂一见，抓住时机说：“联合抗秦，实际上是为你们楚国报仇，并不仅仅是为了我们赵国啊！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楚王被毛遂的话打动了，忙说：“先生说得对！我愿意尽全国之力与赵国共同抗秦。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4">
            <a:hlinkClick r:id="rId3" action="ppaction://hlinksldjump"/>
          </p:cNvPr>
          <p:cNvSpPr/>
          <p:nvPr/>
        </p:nvSpPr>
        <p:spPr>
          <a:xfrm>
            <a:off x="8207640" y="623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↑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564000" y="476280"/>
            <a:ext cx="36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精读课文，全面提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84360" y="1413000"/>
            <a:ext cx="7199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读课文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、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、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8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、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、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、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8000"/>
                </a:solidFill>
                <a:latin typeface="黑体"/>
                <a:ea typeface="黑体"/>
              </a:rPr>
              <a:t>自然段，读后小组讨论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毛遂成功的诀窍是什么？你从中受到了什么启发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03160" y="2394000"/>
            <a:ext cx="68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一是有自信，善于抓住机遇，表现自我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28720" y="328608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二是机智勇敢，能言善辩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28720" y="4149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三是善于审时度势，把握时机火候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47800" y="5078520"/>
            <a:ext cx="68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从中受到的启发是成功需要把握时机，而机遇垂青于有准备的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477720" y="6168960"/>
            <a:ext cx="63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924360" y="18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课外拓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29080" y="9079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把毛遂自荐的故事讲给你的爸爸妈妈听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806560" y="1628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日积月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4720" y="22766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形容口才好的成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68360" y="29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能言善辩  能说会道  口齿伶俐   对答如流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出口成章  口若悬河  妙语连珠   伶牙俐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052720" y="4005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出示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史记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成语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340000" y="47260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网开一面  焚书坑儒  指鹿为马  先发制人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破釜沉舟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卧薪尝胆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四面楚歌  一败涂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约法三章  明修栈道  暗度陈仓  运筹帷幄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708B-DEC4-46DB-82C3-232DBEA184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56000" y="404640"/>
            <a:ext cx="5616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并会写“荐、遂、锥、颖、晌、辱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慨”七个生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流利地朗读课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毛遂自荐的精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133800" y="460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26920" y="31399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91492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重点难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319840" y="4365720"/>
            <a:ext cx="43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重点：认读七个生字，理解课文内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难点：学习课文表现人物特点的方法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毛遂善于表现自我、展示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的品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050920" y="2708280"/>
            <a:ext cx="799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荐   遂   锥   颖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晌   辱   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419640" y="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预习检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24000" y="22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635280" y="227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ì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076720" y="220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u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661080" y="220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ǐn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24000" y="414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ǎng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95640" y="429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50872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ǎi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916360" y="981000"/>
            <a:ext cx="32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一、生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635280" y="9079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二、新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773360"/>
            <a:ext cx="2265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2720" y="170172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脱颖而出</a:t>
            </a:r>
            <a:r>
              <a:rPr b="0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奇耻大辱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有目共睹</a:t>
            </a:r>
            <a:r>
              <a:rPr b="0" lang="zh-CN" sz="36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3933720"/>
            <a:ext cx="316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不知所措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七嘴八舌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三寸之舌</a:t>
            </a:r>
            <a:r>
              <a:rPr b="0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419640" y="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预习检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564000" y="1844640"/>
            <a:ext cx="49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  <a:ea typeface="黑体"/>
              </a:rPr>
              <a:t>颖：尖子。锥尖透过布囊显露出来。比喻本领全部显露出来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564000" y="2637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  <a:ea typeface="黑体"/>
              </a:rPr>
              <a:t>奇：异常。极大的耻辱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564000" y="3357720"/>
            <a:ext cx="49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  <a:ea typeface="黑体"/>
              </a:rPr>
              <a:t>睹：看见。指非常明显，谁都看得见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564000" y="4005360"/>
            <a:ext cx="49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  <a:ea typeface="黑体"/>
              </a:rPr>
              <a:t>措：安置，处理。不知道怎么办才好。形容处境为难或心神慌乱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37080" y="494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  <a:ea typeface="黑体"/>
              </a:rPr>
              <a:t>形容你一句，我一句，人多嘴杂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635280" y="566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99"/>
                </a:solidFill>
                <a:latin typeface="Arial"/>
                <a:ea typeface="黑体"/>
              </a:rPr>
              <a:t>形容善于说话和辩论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9"/>
          <p:cNvSpPr/>
          <p:nvPr/>
        </p:nvSpPr>
        <p:spPr>
          <a:xfrm>
            <a:off x="3429000" y="515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700360" y="162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主要讲了一件什么事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Picture 3" descr="毛遂自荐1"/>
          <p:cNvPicPr/>
          <p:nvPr/>
        </p:nvPicPr>
        <p:blipFill>
          <a:blip r:embed="rId2"/>
          <a:stretch/>
        </p:blipFill>
        <p:spPr>
          <a:xfrm>
            <a:off x="826920" y="2565360"/>
            <a:ext cx="511344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6083280" y="2781360"/>
            <a:ext cx="27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遂自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成语故事讲述了战国时期，赵国平原君门下一位默默无闻的门客毛遂，自己推荐自己，并以自己过人的胆识出色地完成了任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第11课  毛遂自荐.mp3" descr="第11课  毛遂自荐"/>
          <p:cNvPicPr/>
          <p:nvPr/>
        </p:nvPicPr>
        <p:blipFill>
          <a:blip r:embed="rId3"/>
          <a:stretch/>
        </p:blipFill>
        <p:spPr>
          <a:xfrm>
            <a:off x="395280" y="63104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132000" y="62064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初读课文，了解大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0509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60360" y="28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文章是按事情发展顺序叙述的 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44720" y="393372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写毛遂自荐，后写毛遂出色地完成了任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60720" y="260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细读课文，整体感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987640" y="1125360"/>
            <a:ext cx="75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平原君为什么阻止毛遂随他去楚国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98060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平原君按平常眼光看待毛遂，认为他没有才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50960" y="2141640"/>
            <a:ext cx="2994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6">
            <a:hlinkClick r:id="" action="ppaction://hlinkshowjump?jump=nextslide"/>
          </p:cNvPr>
          <p:cNvSpPr/>
          <p:nvPr/>
        </p:nvSpPr>
        <p:spPr>
          <a:xfrm>
            <a:off x="3564000" y="213372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请读课文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2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、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、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c0c0c0"/>
                </a:solidFill>
                <a:latin typeface="黑体"/>
                <a:ea typeface="黑体"/>
              </a:rPr>
              <a:t>自然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7">
            <a:hlinkClick r:id="rId2" action="ppaction://hlinksldjump"/>
          </p:cNvPr>
          <p:cNvSpPr/>
          <p:nvPr/>
        </p:nvSpPr>
        <p:spPr>
          <a:xfrm>
            <a:off x="7639920" y="587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↓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198600"/>
            <a:ext cx="82836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）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平原君准备从自己的几千名门客中，挑选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20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名文武兼备的人一同前往。挑了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19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名，便再也挑不出来了。平原君正在为难的时候，忽然有一个门客走上前来自我推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荐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7a77"/>
                </a:solidFill>
                <a:latin typeface="宋体"/>
              </a:rPr>
              <a:t>jiàn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），说：“我听说到楚国去谈判还缺一人，请君侯把我也算上吧！”</a:t>
            </a:r>
            <a:endParaRPr b="0" lang="en-US" sz="25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）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平原君一看，说话的是毛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遂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7a77"/>
                </a:solidFill>
                <a:latin typeface="宋体"/>
              </a:rPr>
              <a:t>suì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），便问：“先生来我这里几年了？”“三年了。”毛遂回答道。</a:t>
            </a:r>
            <a:endParaRPr b="0" lang="en-US" sz="25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    </a:t>
            </a:r>
            <a:r>
              <a:rPr b="0" lang="zh-CN" sz="16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（</a:t>
            </a:r>
            <a:r>
              <a:rPr b="0" lang="zh-CN" sz="16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4</a:t>
            </a:r>
            <a:r>
              <a:rPr b="0" lang="zh-CN" sz="16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“人的才能是有目共睹的，就好像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锥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zhuī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子放在布袋里，那锥子尖马上就会显露出来。先生来了三年了，我从来没听说您有什么才能。先生还是留下吧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710960" y="60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毛遂自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">
            <a:hlinkClick r:id="rId5" action="ppaction://hlinksldjump"/>
          </p:cNvPr>
          <p:cNvSpPr/>
          <p:nvPr/>
        </p:nvSpPr>
        <p:spPr>
          <a:xfrm>
            <a:off x="8278920" y="623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↑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00000" y="3495960"/>
            <a:ext cx="712944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）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毛遂马上说：“我今天就是请求把我放到布袋中呀。您若早把我放到布袋中，我早就脱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颖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7a77"/>
                </a:solidFill>
                <a:latin typeface="宋体"/>
              </a:rPr>
              <a:t>yǐnɡ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）而出了，不光是露出那么点儿锥子尖呢！请您今天就把我放到随行的人员中吧。”</a:t>
            </a:r>
            <a:endParaRPr b="0" lang="en-US" sz="25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　　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ff6699"/>
                </a:solidFill>
                <a:latin typeface="Arial"/>
              </a:rPr>
              <a:t>）</a:t>
            </a:r>
            <a:r>
              <a:rPr b="0" lang="zh-CN" sz="2500" spc="-1" strike="noStrike">
                <a:solidFill>
                  <a:srgbClr val="007a77"/>
                </a:solidFill>
                <a:latin typeface="Arial"/>
                <a:ea typeface="楷体_GB2312"/>
              </a:rPr>
              <a:t>平原君考虑再三，最终答应了毛遂的请求。</a:t>
            </a:r>
            <a:endParaRPr b="0" lang="en-US" sz="2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39920" y="587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↓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0:50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4:24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