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2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32.jpeg" ContentType="image/jpeg"/>
  <Override PartName="/ppt/media/image40.png" ContentType="image/png"/>
  <Override PartName="/ppt/media/image11.jpeg" ContentType="image/jpeg"/>
  <Override PartName="/ppt/media/image41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37.png" ContentType="image/png"/>
  <Override PartName="/ppt/media/image33.png" ContentType="image/png"/>
  <Override PartName="/ppt/media/image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2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5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8BDB-0000-457B-9840-90A59EE44F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8EDA-8834-41DB-8436-D5AC3DB738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8B5-52B9-4410-80E1-90D7DF74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095-9210-43A8-B31A-45C812A0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3D223-F6DD-4140-911D-C986BC73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7A107-1A92-433D-BB07-AC263664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1463B-2E99-43B0-813D-E1A7F8A0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EFCAB-0785-45CB-98B0-7CFEEA91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71350-69F1-4299-99AA-05AA55F7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A9F58-698B-4713-964B-87293DB4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B09AA-F3D8-40C5-BC43-7771C175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0D3AE-17EB-44C3-83F3-71DEB442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C3585-5AC9-48AC-83D0-645532A7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5C955-52FF-4719-B00D-5BFE1BA6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595-C637-4759-AD43-3570A255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4C692-AAC6-4DA8-BC88-0B73450D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7A6BA-93A4-4FC0-B2BE-8991961D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E91A0-C9F1-4593-A89B-07E8D82D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B7F0B-8ED7-4EE0-8FB7-5146871F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ECC2C-8FDF-4492-93A6-BEA5A130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FBD52-32D1-487B-B443-5F9D4689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E8C00-D024-4ED7-93E3-596E65A5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1508A-18C6-469B-B11B-DA4320FA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35999-4216-41E8-A2CF-AD06F71A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93C58-6113-4FB8-8DC9-24A782F2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0FE-EC7C-48FA-8BA0-16FF0A8F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B5B32-2712-4766-87E2-2D409E44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4E861-1510-4B13-ABF4-F92F2C6F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ACC0D-4888-4465-BCD3-793E5D22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48A13-5BF9-4D28-8851-D9939366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1C71C-E5A0-4DFB-A083-34D9D1B8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2DD2F-DC76-46C1-8FA2-14D8AB22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B3929-7889-4A5B-8A88-ACAE5DAE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9DE53-0EFA-45C3-904A-15D2A4CF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8B5AB-E7BA-4D28-9947-5098A294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B60DA-C809-4E2F-8644-703C13D2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101F-C5DF-4A72-99AA-944172D7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7D8BB-0D6B-4230-97D3-6F8F6573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DD56F-F04F-4D26-94D4-8F3559D5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D00BA-674B-40C0-9BEE-4C12892B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F245E-DE3C-40B3-99A5-70660F07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795F8-7A69-4C1C-B251-35D849D9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31E2D-2D80-4989-9AD6-CB5488D1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01671-7A9E-4805-A088-BC0CB0FF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A3410-05C2-4FE7-8674-101D6DE5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008A5-B78E-4F91-91DC-BF68B957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6BEAC-D9A6-4B63-9D27-CAC92F0E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8FF2-D13D-414C-A62A-6BE8BD99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F8948-225A-4F34-B738-88AF214F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8FC1C-95F6-438C-B345-C50F998E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18D3F-794C-4C75-8A4F-B15C99B0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54FB8-6605-4967-9DB6-A2177501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D1C82-3E60-4112-9382-EE686EF1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0F1F9-76EA-4B82-9897-0FC1CC78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7B4D3-6CAD-4B7E-B9D1-7B7BD057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F1646-6BFF-4978-A407-B0C38106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E126A-CB85-4901-8567-17F86965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1004E-8CD3-4943-A2D1-FDE90FF8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E145-7F29-48A1-9E65-F330C5AA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52A01-7612-4D0B-9DA0-50B62BBC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ED800-701A-4A8C-A011-AD9EE22B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13DC9-A4DD-40BB-B9EC-1CBD0C3C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B8CDC-6804-4CDA-8E10-F320EE02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22C6E-4B5B-4F60-8434-4A59F202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528C9-617F-4539-918D-C73DC4DD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DDC76-EFD6-4BE1-ADED-B7AD2F03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60C7-7951-4187-BA52-B86F1537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53BF-9E2F-48E9-A67A-0B31F926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0EA3-7F2F-4303-BA6A-90F2F2FC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FFB5-4F2B-4711-BDF8-61BD74BD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2A8-1F86-4EAF-9D7F-A62DFDE4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7A78-878A-4C90-8B41-F8D9F8B8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7058-294F-4138-AE82-A578155E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CDB1-B4C5-498F-B621-9A6191E7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D7DD-6619-4112-AF2A-01B34AD7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DAE9-9348-418F-B885-F1497220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3FF5E-80D9-4841-BE33-F8A54141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EE88C-AF38-46DE-AB17-C578E586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AE133-C8A9-4A06-87A0-94F3B45E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9A04F-EC33-4899-9966-543599DC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B933-951A-446A-A32C-F77A2CFC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C65-9F13-4AF4-88F1-74457DA0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CC50C-638C-4C24-96F4-D9BDF636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E0063-41B8-41E7-8F8E-240AECC4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891B9-D543-4F73-91E2-40D50A8D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09C5-9827-4A23-9B8B-A2C6A00D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D5540-6E5D-4945-96A1-6966436B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2AE86-0700-4A26-ADB8-C3A0050C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4C07C-C4C3-414A-9EEB-2AA15CD6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DD62B-35B2-4C44-9C55-C118D155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F2489-BC7B-4877-AC98-38C28714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61B61-AF0E-46F2-8D36-F3707A79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0C8B-EFC2-49AD-A127-EFA9115E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DDCCB-FC9D-4297-8B4C-50C3CBA3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26804-5F04-4728-8382-7E002AB1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D574D-DF43-4F63-96F3-046F8F24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B626-2606-4AAC-8C7A-3222ED04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CE15D-6A50-478C-A99F-CEF8CC40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04FF8-9344-4D0D-BDBE-B0AFA787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EFF6-36C5-4C3B-88DA-15A330D9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D4220-A7D2-44FC-97C1-4F741694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25163-697A-4C0E-95BD-F55DD8E1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3BE28-97BD-4B34-B104-30524430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547-8578-4DB7-BE0C-6E66BB36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5E6C8-DFC8-464E-A490-7432E705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0363D-53E9-4AD0-94D8-D738D468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86255-AD23-4A22-B1F9-82455A77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68BE2-508C-4A59-9E73-9CC274C8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779C0-9C1B-4178-B852-095AB9B6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50BB9-AA8F-4158-AE49-B29A342E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7837E-F9E0-4D07-B817-7CC1CB9E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64717-9DDB-4F55-BC41-854FBDCD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7244E-E31A-4572-A1A3-166C31F2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58145-20F9-4206-9678-5F203FCA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FD5-5FA0-4A28-BA64-A971877F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CC714-FA76-4328-8666-50B6CEA0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CFEC3-2925-4E0C-8A5A-8FD82E0A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B43EF-638A-41A8-A5CC-34426E38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76443-5F40-4711-8132-9DE33C06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18998-D55B-4F50-986A-92F10CCA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24F98-DC22-4595-B70E-B990CC55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00E83-7AAA-4971-BDB0-DD522DE1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EA7F0-2E5E-405D-B420-DCFDA5EB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101FB-6BD7-4237-A306-7E351291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814FB-7816-4A6C-A973-F5A4C139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F4D-157B-4688-B154-793A951C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7DD60-7B70-44A3-9C9F-E23C31A9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003D0-AB2F-407D-AE19-2434B495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D94BE-ABA3-44AA-9123-C8249F44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F747A-B147-43D9-9FCB-E15FA2E6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8A790-F212-468E-BA20-1BD0892E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FF417-9045-45D9-B2DF-20A06350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1F51E-C4A3-43EE-A141-C31EB141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87F87-21F5-4EA2-82D9-90C19B77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68E5B-3295-49E4-9592-3B4A4BFF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EC194-7481-48C1-9482-9ACF5AA0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4BC-7B03-40F9-9359-A892E167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FF5B2-8DBF-4FA5-B40D-995384F7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1DB17-EF8B-4A98-82A6-7EFFDE9B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4BA3F-F505-45F9-80A1-A0934600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C567E-5D5D-4C77-BB9D-E0D25CE5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0D328-683F-4F33-B165-04096EDD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43267-739C-40D0-9E40-FD53025E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626A2-0DE6-4515-916F-460E758D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FC9F6-ADCE-4E2D-89A4-4FF5FC94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1959B-6CE6-4B0B-B268-5E172F5D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3061B-A5D5-4592-A671-87ECDD9C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AB3-6EA0-4C77-B884-226D6159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0F51E-6D12-4AC6-BC09-E3DBACE0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35C00-3B12-4670-AF20-27DFED57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22743-2A28-4D39-91F5-B3CBDF49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93E3B-CE15-4173-980E-105F6875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FAEA2-A97D-4BFF-9109-372172F6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15E86-4CF9-4613-AAFE-E415E1FF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E71CC-C728-451D-A429-9A20C0A1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330BF-C9B5-44A4-9799-F645E803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A3549-6489-45F6-AB5D-9B6D4BBF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E84ED-8D41-4420-BEBA-82A4814C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5e2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4BD3-C3E6-4BE3-8CF7-0463FE6E3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03E6-A7E2-4C69-B6A2-25D19BC993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CF1A-2DFA-4CD3-8D92-97057C8258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AF1A-6DD7-409D-B182-377C9EFF78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013C-A53B-48F8-8AA6-88A9C47023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3094-09D1-44D8-BE72-9F9C83378F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D627-61F5-4116-A759-C6EA7FB4A1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D657-4166-4E3F-8FBB-9953A6D7AD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86B3-C1E6-42C3-8801-1DFB043BB2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62C0-EAFA-47B4-8757-65D94ED17E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7D93-B968-4F71-9BA8-78A6713433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78DE-883B-4D2A-A77A-73397DDDD6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3966-9D42-46F6-AB0F-4AB4469F27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7.xml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7.xml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7.xml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7.xml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46.png"/><Relationship Id="rId22" Type="http://schemas.openxmlformats.org/officeDocument/2006/relationships/image" Target="../media/image47.png"/><Relationship Id="rId23" Type="http://schemas.openxmlformats.org/officeDocument/2006/relationships/image" Target="../media/image48.png"/><Relationship Id="rId2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21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9.xml"/><Relationship Id="rId6" Type="http://schemas.openxmlformats.org/officeDocument/2006/relationships/slide" Target="slide18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3.xml"/><Relationship Id="rId10" Type="http://schemas.openxmlformats.org/officeDocument/2006/relationships/slide" Target="slide15.xml"/><Relationship Id="rId11" Type="http://schemas.openxmlformats.org/officeDocument/2006/relationships/slide" Target="slide20.xml"/><Relationship Id="rId12" Type="http://schemas.openxmlformats.org/officeDocument/2006/relationships/slide" Target="slide17.xml"/><Relationship Id="rId13" Type="http://schemas.openxmlformats.org/officeDocument/2006/relationships/slide" Target="slide12.xml"/><Relationship Id="rId14" Type="http://schemas.openxmlformats.org/officeDocument/2006/relationships/slide" Target="slide11.xm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20080817162811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5"/>
          <p:cNvSpPr/>
          <p:nvPr/>
        </p:nvSpPr>
        <p:spPr>
          <a:xfrm>
            <a:off x="1389240" y="527040"/>
            <a:ext cx="9885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牧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童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7"/>
          <p:cNvSpPr/>
          <p:nvPr/>
        </p:nvSpPr>
        <p:spPr>
          <a:xfrm>
            <a:off x="511200" y="6043680"/>
            <a:ext cx="441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一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模板网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4EF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43640" y="26028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6"/>
          <p:cNvSpPr/>
          <p:nvPr/>
        </p:nvSpPr>
        <p:spPr>
          <a:xfrm>
            <a:off x="4859280" y="189000"/>
            <a:ext cx="122544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Arial"/>
              </a:rPr>
              <a:t>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  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4735440" y="3572280"/>
            <a:ext cx="227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也。从人从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大物，故可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义为分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开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错理微    件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引申为物件 多作为量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、一件衣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806400" y="3500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庖丁解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10" descr="20353159415"/>
          <p:cNvPicPr/>
          <p:nvPr/>
        </p:nvPicPr>
        <p:blipFill>
          <a:blip r:embed="rId3"/>
          <a:stretch/>
        </p:blipFill>
        <p:spPr>
          <a:xfrm>
            <a:off x="0" y="0"/>
            <a:ext cx="450072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4"/>
          <p:cNvSpPr/>
          <p:nvPr/>
        </p:nvSpPr>
        <p:spPr>
          <a:xfrm>
            <a:off x="4932360" y="0"/>
            <a:ext cx="94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楷体"/>
              </a:rPr>
              <a:t>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5" descr="7261"/>
          <p:cNvPicPr/>
          <p:nvPr/>
        </p:nvPicPr>
        <p:blipFill>
          <a:blip r:embed="rId1"/>
          <a:stretch/>
        </p:blipFill>
        <p:spPr>
          <a:xfrm>
            <a:off x="781200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6" descr="45"/>
          <p:cNvPicPr/>
          <p:nvPr/>
        </p:nvPicPr>
        <p:blipFill>
          <a:blip r:embed="rId2"/>
          <a:stretch/>
        </p:blipFill>
        <p:spPr>
          <a:xfrm>
            <a:off x="7812000" y="1197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7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12000" y="2349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8"/>
          <p:cNvSpPr/>
          <p:nvPr/>
        </p:nvSpPr>
        <p:spPr>
          <a:xfrm>
            <a:off x="6084720" y="404640"/>
            <a:ext cx="1873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 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6175800" y="323352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畜父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性的鸟兽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1078200" y="580500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雉鸣求其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1"/>
          <p:cNvSpPr/>
          <p:nvPr/>
        </p:nvSpPr>
        <p:spPr>
          <a:xfrm>
            <a:off x="5508000" y="4365720"/>
            <a:ext cx="319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牡丹之称出现在唐以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花中富贵者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李时珍说：“牡丹以色丹者为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虽结子而根上生苗，故谓之牡丹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雄性，可营养繁殖之意 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3" descr="2008731191020853_2"/>
          <p:cNvPicPr/>
          <p:nvPr/>
        </p:nvPicPr>
        <p:blipFill>
          <a:blip r:embed="rId5"/>
          <a:stretch/>
        </p:blipFill>
        <p:spPr>
          <a:xfrm>
            <a:off x="0" y="0"/>
            <a:ext cx="45864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4"/>
          <p:cNvSpPr/>
          <p:nvPr/>
        </p:nvSpPr>
        <p:spPr>
          <a:xfrm>
            <a:off x="4958640" y="981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6012000" y="1053000"/>
            <a:ext cx="1368360" cy="17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25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甲骨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  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9" descr="725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19890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0" descr="725D"/>
          <p:cNvPicPr/>
          <p:nvPr/>
        </p:nvPicPr>
        <p:blipFill>
          <a:blip r:embed="rId3"/>
          <a:stretch/>
        </p:blipFill>
        <p:spPr>
          <a:xfrm>
            <a:off x="7451640" y="33336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11"/>
          <p:cNvSpPr/>
          <p:nvPr/>
        </p:nvSpPr>
        <p:spPr>
          <a:xfrm>
            <a:off x="5815440" y="3213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畜母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性鸟兽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13" descr="571442_162242029_2"/>
          <p:cNvPicPr/>
          <p:nvPr/>
        </p:nvPicPr>
        <p:blipFill>
          <a:blip r:embed="rId4"/>
          <a:stretch/>
        </p:blipFill>
        <p:spPr>
          <a:xfrm>
            <a:off x="179280" y="189000"/>
            <a:ext cx="4311720" cy="53006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25"/>
          <p:cNvSpPr/>
          <p:nvPr/>
        </p:nvSpPr>
        <p:spPr>
          <a:xfrm>
            <a:off x="5270400" y="486900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牝鸡司晨    牝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6"/>
          <p:cNvSpPr/>
          <p:nvPr/>
        </p:nvSpPr>
        <p:spPr>
          <a:xfrm>
            <a:off x="4934880" y="1231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ì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4"/>
          <p:cNvSpPr/>
          <p:nvPr/>
        </p:nvSpPr>
        <p:spPr>
          <a:xfrm>
            <a:off x="5591160" y="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"/>
              </a:rPr>
              <a:t>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6516720" y="-244080"/>
            <a:ext cx="144000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25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  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  篆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11" descr="7267"/>
          <p:cNvPicPr/>
          <p:nvPr/>
        </p:nvPicPr>
        <p:blipFill>
          <a:blip r:embed="rId1"/>
          <a:stretch/>
        </p:blipFill>
        <p:spPr>
          <a:xfrm>
            <a:off x="7956720" y="134136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2" descr="7267"/>
          <p:cNvPicPr/>
          <p:nvPr/>
        </p:nvPicPr>
        <p:blipFill>
          <a:blip r:embed="rId2"/>
          <a:stretch/>
        </p:blipFill>
        <p:spPr>
          <a:xfrm>
            <a:off x="7956720" y="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3" descr="726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56720" y="278136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5" descr="xinsrc_23201062210161252574217"/>
          <p:cNvPicPr/>
          <p:nvPr/>
        </p:nvPicPr>
        <p:blipFill>
          <a:blip r:embed="rId5"/>
          <a:stretch/>
        </p:blipFill>
        <p:spPr>
          <a:xfrm>
            <a:off x="0" y="0"/>
            <a:ext cx="5148360" cy="402264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16"/>
          <p:cNvSpPr/>
          <p:nvPr/>
        </p:nvSpPr>
        <p:spPr>
          <a:xfrm>
            <a:off x="-1332000" y="4570920"/>
            <a:ext cx="950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pū)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手拿棍棒牧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牧牲畜。后引申为管理、治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牧童     畜牧       州牧（古代治民之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牧民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放牧为生的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政府治理人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7"/>
          <p:cNvSpPr/>
          <p:nvPr/>
        </p:nvSpPr>
        <p:spPr>
          <a:xfrm>
            <a:off x="2710440" y="393300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養牛人也。从攴从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5" descr="xin_16202072215236401267088"/>
          <p:cNvPicPr/>
          <p:nvPr/>
        </p:nvPicPr>
        <p:blipFill>
          <a:blip r:embed="rId1"/>
          <a:stretch/>
        </p:blipFill>
        <p:spPr>
          <a:xfrm>
            <a:off x="0" y="0"/>
            <a:ext cx="5184720" cy="39146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8"/>
          <p:cNvSpPr/>
          <p:nvPr/>
        </p:nvSpPr>
        <p:spPr>
          <a:xfrm>
            <a:off x="5461920" y="260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7" descr="728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16720" y="1890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18"/>
          <p:cNvSpPr/>
          <p:nvPr/>
        </p:nvSpPr>
        <p:spPr>
          <a:xfrm>
            <a:off x="5705280" y="14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0"/>
          <p:cNvSpPr/>
          <p:nvPr/>
        </p:nvSpPr>
        <p:spPr>
          <a:xfrm>
            <a:off x="5943960" y="2938320"/>
            <a:ext cx="22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牛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指耕地的工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1"/>
          <p:cNvSpPr/>
          <p:nvPr/>
        </p:nvSpPr>
        <p:spPr>
          <a:xfrm>
            <a:off x="1398960" y="4828320"/>
            <a:ext cx="320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90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犁田   犁地   犁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4"/>
          <p:cNvSpPr/>
          <p:nvPr/>
        </p:nvSpPr>
        <p:spPr>
          <a:xfrm>
            <a:off x="5965200" y="549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6" descr="726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3080" y="0"/>
            <a:ext cx="1692000" cy="169236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7"/>
          <p:cNvSpPr/>
          <p:nvPr/>
        </p:nvSpPr>
        <p:spPr>
          <a:xfrm>
            <a:off x="5989680" y="-36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9"/>
          <p:cNvSpPr/>
          <p:nvPr/>
        </p:nvSpPr>
        <p:spPr>
          <a:xfrm>
            <a:off x="6266520" y="263628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集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1" descr="u=1090197910,3923126065&amp;fm=52&amp;gp=0"/>
          <p:cNvPicPr/>
          <p:nvPr/>
        </p:nvPicPr>
        <p:blipFill>
          <a:blip r:embed="rId3"/>
          <a:stretch/>
        </p:blipFill>
        <p:spPr>
          <a:xfrm>
            <a:off x="539640" y="54936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5" descr="726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47628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6"/>
          <p:cNvSpPr/>
          <p:nvPr/>
        </p:nvSpPr>
        <p:spPr>
          <a:xfrm>
            <a:off x="5149800" y="403560"/>
            <a:ext cx="14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á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5292720" y="1197000"/>
            <a:ext cx="131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9" descr="2009061009090965"/>
          <p:cNvPicPr/>
          <p:nvPr/>
        </p:nvPicPr>
        <p:blipFill>
          <a:blip r:embed="rId3"/>
          <a:stretch/>
        </p:blipFill>
        <p:spPr>
          <a:xfrm>
            <a:off x="250920" y="189000"/>
            <a:ext cx="4995720" cy="36892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10"/>
          <p:cNvSpPr/>
          <p:nvPr/>
        </p:nvSpPr>
        <p:spPr>
          <a:xfrm>
            <a:off x="2431440" y="4365000"/>
            <a:ext cx="353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种牛，全身有长毛，腿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青藏高原地区出产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地人民用来拉犁和驮运货物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4"/>
          <p:cNvSpPr/>
          <p:nvPr/>
        </p:nvSpPr>
        <p:spPr>
          <a:xfrm>
            <a:off x="6325560" y="333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6" descr="727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9"/>
          <p:cNvSpPr/>
          <p:nvPr/>
        </p:nvSpPr>
        <p:spPr>
          <a:xfrm>
            <a:off x="197640" y="4004280"/>
            <a:ext cx="6316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牺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祭祀用的纯色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牺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祭祀用的纯色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牺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供宴飨或祭祀用的牛、羊、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牺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祭祀时掌管牺牲的官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11" descr="W020081127634788869623"/>
          <p:cNvPicPr/>
          <p:nvPr/>
        </p:nvPicPr>
        <p:blipFill>
          <a:blip r:embed="rId3"/>
          <a:stretch/>
        </p:blipFill>
        <p:spPr>
          <a:xfrm>
            <a:off x="324000" y="260280"/>
            <a:ext cx="4751280" cy="35514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14"/>
          <p:cNvSpPr/>
          <p:nvPr/>
        </p:nvSpPr>
        <p:spPr>
          <a:xfrm>
            <a:off x="6457680" y="220428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宗廟之牲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5"/>
          <p:cNvSpPr/>
          <p:nvPr/>
        </p:nvSpPr>
        <p:spPr>
          <a:xfrm>
            <a:off x="6598440" y="2923200"/>
            <a:ext cx="123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祭品用的毛色纯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牲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4460760" y="5950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引申为放弃或损失个人利益或生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4"/>
          <p:cNvSpPr/>
          <p:nvPr/>
        </p:nvSpPr>
        <p:spPr>
          <a:xfrm>
            <a:off x="6227640" y="194760"/>
            <a:ext cx="182268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25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金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7" descr="7272"/>
          <p:cNvPicPr/>
          <p:nvPr/>
        </p:nvPicPr>
        <p:blipFill>
          <a:blip r:embed="rId1"/>
          <a:stretch/>
        </p:blipFill>
        <p:spPr>
          <a:xfrm>
            <a:off x="7667640" y="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727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96360" y="130500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13"/>
          <p:cNvSpPr/>
          <p:nvPr/>
        </p:nvSpPr>
        <p:spPr>
          <a:xfrm>
            <a:off x="6108120" y="364392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供祭祀用的全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6629400" y="29232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完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16" descr="1311507436244"/>
          <p:cNvPicPr/>
          <p:nvPr/>
        </p:nvPicPr>
        <p:blipFill>
          <a:blip r:embed="rId4"/>
          <a:stretch/>
        </p:blipFill>
        <p:spPr>
          <a:xfrm>
            <a:off x="0" y="0"/>
            <a:ext cx="5472000" cy="364500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8"/>
          <p:cNvSpPr/>
          <p:nvPr/>
        </p:nvSpPr>
        <p:spPr>
          <a:xfrm>
            <a:off x="324000" y="3789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烤全牛祭祀圣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9"/>
          <p:cNvSpPr/>
          <p:nvPr/>
        </p:nvSpPr>
        <p:spPr>
          <a:xfrm>
            <a:off x="5864760" y="404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0"/>
          <p:cNvSpPr/>
          <p:nvPr/>
        </p:nvSpPr>
        <p:spPr>
          <a:xfrm>
            <a:off x="250920" y="4149000"/>
            <a:ext cx="68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泛指供祭祀、盟誓及食用的家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1"/>
          <p:cNvSpPr/>
          <p:nvPr/>
        </p:nvSpPr>
        <p:spPr>
          <a:xfrm>
            <a:off x="324000" y="5157000"/>
            <a:ext cx="79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90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牲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时祭祀用的牺牲的躯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牲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祭祀时的用牲之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牲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祭祀中有关准备牺牲的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牲畜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ēngch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4"/>
          <p:cNvSpPr/>
          <p:nvPr/>
        </p:nvSpPr>
        <p:spPr>
          <a:xfrm>
            <a:off x="6253920" y="189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6" descr="727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83280" y="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12"/>
          <p:cNvSpPr/>
          <p:nvPr/>
        </p:nvSpPr>
        <p:spPr>
          <a:xfrm>
            <a:off x="2548800" y="134100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朴特，牛父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3"/>
          <p:cNvSpPr/>
          <p:nvPr/>
        </p:nvSpPr>
        <p:spPr>
          <a:xfrm>
            <a:off x="2153520" y="3428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性的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2126880" y="2420280"/>
            <a:ext cx="30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牡牛也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玉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8"/>
          <p:cNvSpPr/>
          <p:nvPr/>
        </p:nvSpPr>
        <p:spPr>
          <a:xfrm>
            <a:off x="2354400" y="4291560"/>
            <a:ext cx="41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郊特牲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郊者，祭天之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一牛，故曰特牲。所以特也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一之义，也就是特别、独特的含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4"/>
          <p:cNvSpPr/>
          <p:nvPr/>
        </p:nvSpPr>
        <p:spPr>
          <a:xfrm>
            <a:off x="3793680" y="343440"/>
            <a:ext cx="184572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牧  童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吕 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铺横野六七里，笛弄晚风三四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来饱饭黄昏后，不脱蓑衣卧月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13" descr="729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43280" y="333360"/>
            <a:ext cx="2266920" cy="22669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14"/>
          <p:cNvSpPr/>
          <p:nvPr/>
        </p:nvSpPr>
        <p:spPr>
          <a:xfrm>
            <a:off x="2002680" y="944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5"/>
          <p:cNvSpPr/>
          <p:nvPr/>
        </p:nvSpPr>
        <p:spPr>
          <a:xfrm>
            <a:off x="1833480" y="332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à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7"/>
          <p:cNvSpPr/>
          <p:nvPr/>
        </p:nvSpPr>
        <p:spPr>
          <a:xfrm>
            <a:off x="2433960" y="4004640"/>
            <a:ext cx="379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犟牛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喻指倔强之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犟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顶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8"/>
          <p:cNvSpPr/>
          <p:nvPr/>
        </p:nvSpPr>
        <p:spPr>
          <a:xfrm>
            <a:off x="3398760" y="278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脾气固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5" descr="gucn_20100818150828231159pic1"/>
          <p:cNvPicPr/>
          <p:nvPr/>
        </p:nvPicPr>
        <p:blipFill>
          <a:blip r:embed="rId1"/>
          <a:stretch/>
        </p:blipFill>
        <p:spPr>
          <a:xfrm>
            <a:off x="324000" y="333360"/>
            <a:ext cx="4267080" cy="568800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6"/>
          <p:cNvSpPr/>
          <p:nvPr/>
        </p:nvSpPr>
        <p:spPr>
          <a:xfrm>
            <a:off x="4788000" y="1125360"/>
            <a:ext cx="262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蓑衣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5"/>
          <p:cNvSpPr/>
          <p:nvPr/>
        </p:nvSpPr>
        <p:spPr>
          <a:xfrm>
            <a:off x="1279080" y="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哀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区别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2454480" y="2637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4974120" y="2421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5045400" y="4076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5045400" y="981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1"/>
          <p:cNvSpPr/>
          <p:nvPr/>
        </p:nvSpPr>
        <p:spPr>
          <a:xfrm>
            <a:off x="3924360" y="1484280"/>
            <a:ext cx="216000" cy="3382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88200 h 3382920"/>
              <a:gd name="textAreaBottom" fmla="*/ 3294720 h 33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2"/>
          <p:cNvSpPr/>
          <p:nvPr/>
        </p:nvSpPr>
        <p:spPr>
          <a:xfrm>
            <a:off x="6156360" y="26852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3"/>
          <p:cNvSpPr/>
          <p:nvPr/>
        </p:nvSpPr>
        <p:spPr>
          <a:xfrm>
            <a:off x="6215760" y="1124640"/>
            <a:ext cx="13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uā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4"/>
          <p:cNvSpPr/>
          <p:nvPr/>
        </p:nvSpPr>
        <p:spPr>
          <a:xfrm>
            <a:off x="6358680" y="4436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5"/>
          <p:cNvSpPr/>
          <p:nvPr/>
        </p:nvSpPr>
        <p:spPr>
          <a:xfrm>
            <a:off x="2473200" y="407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古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6"/>
          <p:cNvSpPr/>
          <p:nvPr/>
        </p:nvSpPr>
        <p:spPr>
          <a:xfrm>
            <a:off x="7801200" y="256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7"/>
          <p:cNvSpPr/>
          <p:nvPr/>
        </p:nvSpPr>
        <p:spPr>
          <a:xfrm>
            <a:off x="7801200" y="4294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4"/>
          <p:cNvSpPr/>
          <p:nvPr/>
        </p:nvSpPr>
        <p:spPr>
          <a:xfrm>
            <a:off x="5550120" y="260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8" descr="54C0"/>
          <p:cNvPicPr/>
          <p:nvPr/>
        </p:nvPicPr>
        <p:blipFill>
          <a:blip r:embed="rId1"/>
          <a:stretch/>
        </p:blipFill>
        <p:spPr>
          <a:xfrm>
            <a:off x="7451640" y="0"/>
            <a:ext cx="1525680" cy="15256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9" descr="54C0"/>
          <p:cNvPicPr/>
          <p:nvPr/>
        </p:nvPicPr>
        <p:blipFill>
          <a:blip r:embed="rId2"/>
          <a:stretch/>
        </p:blipFill>
        <p:spPr>
          <a:xfrm>
            <a:off x="7618320" y="1413000"/>
            <a:ext cx="1525680" cy="152532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10"/>
          <p:cNvSpPr/>
          <p:nvPr/>
        </p:nvSpPr>
        <p:spPr>
          <a:xfrm>
            <a:off x="6857640" y="76500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金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2"/>
          <p:cNvSpPr/>
          <p:nvPr/>
        </p:nvSpPr>
        <p:spPr>
          <a:xfrm>
            <a:off x="5005080" y="4004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6" descr="s32_26000229-673x447"/>
          <p:cNvPicPr/>
          <p:nvPr/>
        </p:nvPicPr>
        <p:blipFill>
          <a:blip r:embed="rId3"/>
          <a:stretch/>
        </p:blipFill>
        <p:spPr>
          <a:xfrm>
            <a:off x="-612720" y="0"/>
            <a:ext cx="5616360" cy="508464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7"/>
          <p:cNvSpPr/>
          <p:nvPr/>
        </p:nvSpPr>
        <p:spPr>
          <a:xfrm>
            <a:off x="5870880" y="314100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悯也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口衣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8"/>
          <p:cNvSpPr/>
          <p:nvPr/>
        </p:nvSpPr>
        <p:spPr>
          <a:xfrm>
            <a:off x="6236280" y="3789000"/>
            <a:ext cx="180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义为怜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申为悲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悲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9"/>
          <p:cNvSpPr/>
          <p:nvPr/>
        </p:nvSpPr>
        <p:spPr>
          <a:xfrm>
            <a:off x="1843560" y="5229360"/>
            <a:ext cx="39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哀兵必胜  哀而不伤  哀鸿遍野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哀莫大于心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4"/>
          <p:cNvSpPr/>
          <p:nvPr/>
        </p:nvSpPr>
        <p:spPr>
          <a:xfrm>
            <a:off x="5621760" y="476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6764400" y="981000"/>
            <a:ext cx="48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金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9" descr="8870"/>
          <p:cNvPicPr/>
          <p:nvPr/>
        </p:nvPicPr>
        <p:blipFill>
          <a:blip r:embed="rId1"/>
          <a:stretch/>
        </p:blipFill>
        <p:spPr>
          <a:xfrm>
            <a:off x="7451640" y="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10" descr="8870"/>
          <p:cNvPicPr/>
          <p:nvPr/>
        </p:nvPicPr>
        <p:blipFill>
          <a:blip r:embed="rId2"/>
          <a:stretch/>
        </p:blipFill>
        <p:spPr>
          <a:xfrm>
            <a:off x="7524720" y="1557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22"/>
          <p:cNvSpPr/>
          <p:nvPr/>
        </p:nvSpPr>
        <p:spPr>
          <a:xfrm>
            <a:off x="-264240" y="3933720"/>
            <a:ext cx="745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rǎ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“冄”象草毛茸茸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“蓑衣”的“蓑”的本字。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本义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蓑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引申为力量减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衰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落。所以“衰”为“蓑”的本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衰”现在用于衰落讲，为区分把衰加草字头 为“蓑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1"/>
          <p:cNvSpPr/>
          <p:nvPr/>
        </p:nvSpPr>
        <p:spPr>
          <a:xfrm>
            <a:off x="6365880" y="1879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uā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35" descr="12814197364c60e9d80c24f"/>
          <p:cNvPicPr/>
          <p:nvPr/>
        </p:nvPicPr>
        <p:blipFill>
          <a:blip r:embed="rId3"/>
          <a:stretch/>
        </p:blipFill>
        <p:spPr>
          <a:xfrm>
            <a:off x="324000" y="0"/>
            <a:ext cx="4332240" cy="374976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18"/>
          <p:cNvSpPr/>
          <p:nvPr/>
        </p:nvSpPr>
        <p:spPr>
          <a:xfrm>
            <a:off x="4673880" y="321228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艸（草）雨衣。从衣，象形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6"/>
          <p:cNvSpPr/>
          <p:nvPr/>
        </p:nvSpPr>
        <p:spPr>
          <a:xfrm>
            <a:off x="5003640" y="1879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37" descr="8870"/>
          <p:cNvPicPr/>
          <p:nvPr/>
        </p:nvPicPr>
        <p:blipFill>
          <a:blip r:embed="rId4"/>
          <a:stretch/>
        </p:blipFill>
        <p:spPr>
          <a:xfrm>
            <a:off x="7451640" y="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38" descr="8870"/>
          <p:cNvPicPr/>
          <p:nvPr/>
        </p:nvPicPr>
        <p:blipFill>
          <a:blip r:embed="rId5"/>
          <a:stretch/>
        </p:blipFill>
        <p:spPr>
          <a:xfrm>
            <a:off x="7524720" y="1557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8"/>
          <p:cNvSpPr/>
          <p:nvPr/>
        </p:nvSpPr>
        <p:spPr>
          <a:xfrm>
            <a:off x="6577920" y="692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Arial"/>
                <a:ea typeface="楷体"/>
              </a:rPr>
              <a:t>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9"/>
          <p:cNvSpPr/>
          <p:nvPr/>
        </p:nvSpPr>
        <p:spPr>
          <a:xfrm>
            <a:off x="6501600" y="188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1" descr="7E17"/>
          <p:cNvPicPr/>
          <p:nvPr/>
        </p:nvPicPr>
        <p:blipFill>
          <a:blip r:embed="rId1"/>
          <a:stretch/>
        </p:blipFill>
        <p:spPr>
          <a:xfrm>
            <a:off x="7308720" y="189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13"/>
          <p:cNvSpPr/>
          <p:nvPr/>
        </p:nvSpPr>
        <p:spPr>
          <a:xfrm>
            <a:off x="-1019160" y="3427920"/>
            <a:ext cx="7824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丧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哭丧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丧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大到小依照一定的标准递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古代数学名词。谓从大渐差而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一定比数递减的次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视土地之差等以征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5"/>
          <p:cNvSpPr/>
          <p:nvPr/>
        </p:nvSpPr>
        <p:spPr>
          <a:xfrm>
            <a:off x="3359160" y="278028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衣。長六寸，博四寸，直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6"/>
          <p:cNvSpPr/>
          <p:nvPr/>
        </p:nvSpPr>
        <p:spPr>
          <a:xfrm>
            <a:off x="3764520" y="7970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7"/>
          <p:cNvSpPr/>
          <p:nvPr/>
        </p:nvSpPr>
        <p:spPr>
          <a:xfrm>
            <a:off x="5230800" y="98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8"/>
          <p:cNvSpPr/>
          <p:nvPr/>
        </p:nvSpPr>
        <p:spPr>
          <a:xfrm>
            <a:off x="1707480" y="6021360"/>
            <a:ext cx="62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衰”现在用于衰落讲，为区分把衰加绞丝旁 为“縗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19" descr="8870"/>
          <p:cNvPicPr/>
          <p:nvPr/>
        </p:nvPicPr>
        <p:blipFill>
          <a:blip r:embed="rId2"/>
          <a:stretch/>
        </p:blipFill>
        <p:spPr>
          <a:xfrm>
            <a:off x="457200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20" descr="8870"/>
          <p:cNvPicPr/>
          <p:nvPr/>
        </p:nvPicPr>
        <p:blipFill>
          <a:blip r:embed="rId3"/>
          <a:stretch/>
        </p:blipFill>
        <p:spPr>
          <a:xfrm>
            <a:off x="4572000" y="134136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"/>
          <p:cNvSpPr/>
          <p:nvPr/>
        </p:nvSpPr>
        <p:spPr>
          <a:xfrm>
            <a:off x="1347120" y="475200"/>
            <a:ext cx="654156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牧  童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吕 岩（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铺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横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七里，笛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晚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四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饱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昏后，不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蓑衣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卧月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4"/>
          <p:cNvSpPr/>
          <p:nvPr/>
        </p:nvSpPr>
        <p:spPr>
          <a:xfrm>
            <a:off x="179280" y="1400400"/>
            <a:ext cx="8748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铺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横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辽阔的原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逗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饱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吃饱了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蓑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棕或草编织的外衣，用来遮风避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卧月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躺着观看明亮的月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707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B614-0A0E-4F4C-82DA-CBF0E8A4C2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468360" y="28090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吕岩，字洞宾，唐代京兆人。他考过科举，做过县令。后来唐代暴发了黄巢领导的农民起义，时局动荡，吕洞宾就带家人躲入山中修道。最后不知去向，传说他已经得道成了神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1906200" y="343440"/>
            <a:ext cx="562716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牧  童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吕 岩（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铺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横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七里，笛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晚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四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饱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昏后，不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蓑衣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卧月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2033332N6-1"/>
          <p:cNvPicPr/>
          <p:nvPr/>
        </p:nvPicPr>
        <p:blipFill>
          <a:blip r:embed="rId1"/>
          <a:stretch/>
        </p:blipFill>
        <p:spPr>
          <a:xfrm>
            <a:off x="1403280" y="0"/>
            <a:ext cx="61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0023aeaa687b0c92f68627"/>
          <p:cNvPicPr/>
          <p:nvPr/>
        </p:nvPicPr>
        <p:blipFill>
          <a:blip r:embed="rId1"/>
          <a:stretch/>
        </p:blipFill>
        <p:spPr>
          <a:xfrm>
            <a:off x="250920" y="333360"/>
            <a:ext cx="6372000" cy="52610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5"/>
          <p:cNvSpPr/>
          <p:nvPr/>
        </p:nvSpPr>
        <p:spPr>
          <a:xfrm>
            <a:off x="7113600" y="1190520"/>
            <a:ext cx="1095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牧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童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4">
            <a:hlinkClick r:id="rId1" action="ppaction://hlinksldjump"/>
          </p:cNvPr>
          <p:cNvSpPr/>
          <p:nvPr/>
        </p:nvSpPr>
        <p:spPr>
          <a:xfrm>
            <a:off x="348480" y="1125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6">
            <a:hlinkClick r:id="rId2" action="ppaction://hlinksldjump"/>
          </p:cNvPr>
          <p:cNvSpPr/>
          <p:nvPr/>
        </p:nvSpPr>
        <p:spPr>
          <a:xfrm>
            <a:off x="1187280" y="141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>
            <a:hlinkClick r:id="rId3" action="ppaction://hlinksldjump"/>
          </p:cNvPr>
          <p:cNvSpPr/>
          <p:nvPr/>
        </p:nvSpPr>
        <p:spPr>
          <a:xfrm>
            <a:off x="2509200" y="1413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>
            <a:hlinkClick r:id="rId4" action="ppaction://hlinksldjump"/>
          </p:cNvPr>
          <p:cNvSpPr/>
          <p:nvPr/>
        </p:nvSpPr>
        <p:spPr>
          <a:xfrm>
            <a:off x="4596840" y="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3">
            <a:hlinkClick r:id="rId5" action="ppaction://hlinksldjump"/>
          </p:cNvPr>
          <p:cNvSpPr/>
          <p:nvPr/>
        </p:nvSpPr>
        <p:spPr>
          <a:xfrm>
            <a:off x="7405200" y="43498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5">
            <a:hlinkClick r:id="rId6" action="ppaction://hlinksldjump"/>
          </p:cNvPr>
          <p:cNvSpPr/>
          <p:nvPr/>
        </p:nvSpPr>
        <p:spPr>
          <a:xfrm>
            <a:off x="7333560" y="26938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6">
            <a:hlinkClick r:id="rId7" action="ppaction://hlinksldjump"/>
          </p:cNvPr>
          <p:cNvSpPr/>
          <p:nvPr/>
        </p:nvSpPr>
        <p:spPr>
          <a:xfrm>
            <a:off x="2437560" y="278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5437080" y="3429000"/>
            <a:ext cx="503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3">
            <a:hlinkClick r:id="rId8" action="ppaction://hlinksldjump"/>
          </p:cNvPr>
          <p:cNvSpPr/>
          <p:nvPr/>
        </p:nvSpPr>
        <p:spPr>
          <a:xfrm>
            <a:off x="4596840" y="4508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5">
            <a:hlinkClick r:id="rId9" action="ppaction://hlinksldjump"/>
          </p:cNvPr>
          <p:cNvSpPr/>
          <p:nvPr/>
        </p:nvSpPr>
        <p:spPr>
          <a:xfrm>
            <a:off x="2509200" y="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6">
            <a:hlinkClick r:id="rId10" action="ppaction://hlinksldjump"/>
          </p:cNvPr>
          <p:cNvSpPr/>
          <p:nvPr/>
        </p:nvSpPr>
        <p:spPr>
          <a:xfrm>
            <a:off x="2437560" y="4437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7">
            <a:hlinkClick r:id="rId11" action="ppaction://hlinksldjump"/>
          </p:cNvPr>
          <p:cNvSpPr/>
          <p:nvPr/>
        </p:nvSpPr>
        <p:spPr>
          <a:xfrm>
            <a:off x="7262280" y="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9">
            <a:hlinkClick r:id="rId12" action="ppaction://hlinksldjump"/>
          </p:cNvPr>
          <p:cNvSpPr/>
          <p:nvPr/>
        </p:nvSpPr>
        <p:spPr>
          <a:xfrm>
            <a:off x="4525200" y="2708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0">
            <a:hlinkClick r:id="rId13" action="ppaction://hlinksldjump"/>
          </p:cNvPr>
          <p:cNvSpPr/>
          <p:nvPr/>
        </p:nvSpPr>
        <p:spPr>
          <a:xfrm>
            <a:off x="7262280" y="134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1">
            <a:hlinkClick r:id="rId14" action="ppaction://hlinksldjump"/>
          </p:cNvPr>
          <p:cNvSpPr/>
          <p:nvPr/>
        </p:nvSpPr>
        <p:spPr>
          <a:xfrm>
            <a:off x="4596840" y="134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725B"/>
          <p:cNvPicPr/>
          <p:nvPr/>
        </p:nvPicPr>
        <p:blipFill>
          <a:blip r:embed="rId1"/>
          <a:stretch/>
        </p:blipFill>
        <p:spPr>
          <a:xfrm>
            <a:off x="6732720" y="198900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34"/>
          <p:cNvPicPr/>
          <p:nvPr/>
        </p:nvPicPr>
        <p:blipFill>
          <a:blip r:embed="rId2"/>
          <a:stretch/>
        </p:blipFill>
        <p:spPr>
          <a:xfrm>
            <a:off x="6516720" y="18900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8"/>
          <p:cNvSpPr/>
          <p:nvPr/>
        </p:nvSpPr>
        <p:spPr>
          <a:xfrm>
            <a:off x="923040" y="3859920"/>
            <a:ext cx="38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骨文字形作“牜”。中间一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牛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面两竖加弯表牛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两小撇表示牛耳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9" descr="725B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32720" y="335772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2008412223917234_2"/>
          <p:cNvPicPr/>
          <p:nvPr/>
        </p:nvPicPr>
        <p:blipFill>
          <a:blip r:embed="rId5"/>
          <a:stretch/>
        </p:blipFill>
        <p:spPr>
          <a:xfrm>
            <a:off x="0" y="404640"/>
            <a:ext cx="5256360" cy="331164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14"/>
          <p:cNvSpPr/>
          <p:nvPr/>
        </p:nvSpPr>
        <p:spPr>
          <a:xfrm>
            <a:off x="1468440" y="5546880"/>
            <a:ext cx="627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汗牛充栋   </a:t>
            </a:r>
            <a:r>
              <a:rPr b="0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九牛一毛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对牛弹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目无全牛   九牛二虎之力  牛刀小试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4"/>
          <p:cNvSpPr/>
          <p:nvPr/>
        </p:nvSpPr>
        <p:spPr>
          <a:xfrm>
            <a:off x="404280" y="37893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0" descr="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48360" y="378936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1" descr="7262"/>
          <p:cNvPicPr/>
          <p:nvPr/>
        </p:nvPicPr>
        <p:blipFill>
          <a:blip r:embed="rId3"/>
          <a:stretch/>
        </p:blipFill>
        <p:spPr>
          <a:xfrm>
            <a:off x="6877080" y="33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2" descr="4"/>
          <p:cNvPicPr/>
          <p:nvPr/>
        </p:nvPicPr>
        <p:blipFill>
          <a:blip r:embed="rId4"/>
          <a:stretch/>
        </p:blipFill>
        <p:spPr>
          <a:xfrm>
            <a:off x="6804000" y="206064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15"/>
          <p:cNvSpPr/>
          <p:nvPr/>
        </p:nvSpPr>
        <p:spPr>
          <a:xfrm>
            <a:off x="4859280" y="333360"/>
            <a:ext cx="1873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 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7" descr="01300001005810130156148050565"/>
          <p:cNvPicPr/>
          <p:nvPr/>
        </p:nvPicPr>
        <p:blipFill>
          <a:blip r:embed="rId5"/>
          <a:stretch/>
        </p:blipFill>
        <p:spPr>
          <a:xfrm>
            <a:off x="0" y="0"/>
            <a:ext cx="5292720" cy="397044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18"/>
          <p:cNvSpPr/>
          <p:nvPr/>
        </p:nvSpPr>
        <p:spPr>
          <a:xfrm>
            <a:off x="2116080" y="3789360"/>
            <a:ext cx="2527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牲口的圈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后引申为牢房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坚固含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9"/>
          <p:cNvSpPr/>
          <p:nvPr/>
        </p:nvSpPr>
        <p:spPr>
          <a:xfrm>
            <a:off x="1880640" y="5876280"/>
            <a:ext cx="503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地为牢    牢不可破    牢甲利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55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4:43Z</dcterms:modified>
  <cp:revision>125</cp:revision>
  <dc:subject>第一PPT模板网-WWW.1PPT.COM</dc:subject>
  <dc:title>第一PPT模板网-WWW.1PPT.COM</dc:title>
</cp:coreProperties>
</file>