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2DC-13C8-4A64-B683-D2B5050A65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8B12-8B70-4913-8026-A9337E81AF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BDA-367C-47BE-B065-746D721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8EC-7749-4877-8B6C-CC044B4C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5438E-0904-4F99-8A10-58AFDC04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FEFB-81AE-46D7-94EF-8F2484D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05F2D-5EA7-4F2F-8635-0D825F5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49DB6-D408-44BB-B223-1D922DA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45EB-E844-43F7-A22C-C0D0C9E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954C3-BCBA-453A-B097-4488A1A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8111D-3D93-4EF0-AB72-1B86868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75DF8-382F-4F24-90F4-5A35880E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1BC1B-47CA-4AE4-9219-A17FC543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31980-FAD5-4E30-9708-635FD763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491-9326-41D2-B859-0C2C38DC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01A1-9CBE-4DA5-A8BE-1B9AFB5A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FF57D-B083-40B6-B96C-FFC3F3F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AE6DB-434E-4B15-8B53-0A1DF21C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1CE77-8629-4FC6-A58F-900EA08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5E02-29AD-4708-B952-36C5F64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C3D0-221E-4644-8894-58686CC4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F6E2D-1987-4B27-953F-D8C3D885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E4D86-6DC5-4B7E-B665-58300C2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79024-D54C-4E70-A816-951B00D5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C9F20-8B1A-4FC5-B8F1-37FE0708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72E-EEBB-4120-A2BE-5B3D18C9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F4BE-192D-4CAA-A2C3-E3D24FE5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D6FBC-0578-4EE8-B3E5-1E5AC76B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19AC6-248A-45D6-B62E-AE255A6B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1D502-D9B6-4F99-BDCB-60D2D0D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AADC3-21F6-480B-A8EB-1B029A4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1FA2D-A7FB-44E2-B394-C1871FD9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E79E-D5FB-4918-8722-6BAEB97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33DE3-1D0B-4711-A5C5-C0BD5B4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28AF3-C530-469A-86E5-BF95827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85FF3-E47E-4D4E-8386-96EEC1B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3A52-E48E-409F-A3E8-919B8CC5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DE43D-FE2C-402D-A94A-0603BC7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B007E-C42B-484F-B5E5-F79BE28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0E96D-B073-4C48-9344-E9A7692C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2FA95-D056-4A86-8F6A-C58C1201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64B8E-BCFF-4293-8082-ADF9794F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8697E-EF0D-407A-A666-A94BA65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D1E69-6B3D-498D-84E5-C6CCC2D9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A676D-37F5-496C-9706-B08DF435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0EE95-97A9-4366-B6CA-9B199D1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4767-8BFF-47A5-ADC6-1AC98CAC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A45-96BA-4653-B63D-37FC573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3F7AF-5E44-49DF-B71D-68124AE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EA86-768A-4CEF-8E28-C4D0BA3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B8611-B160-4A63-B2AD-04DC416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6BFF6-9CD2-4D02-AE84-46B1552F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5AE6F-BA27-4660-AE0B-A759D1A7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57568-F3B7-4D48-925C-C08135B8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40D48-1173-42EA-8485-B8C999B1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15B6C-F24A-48F2-A43B-2682AF4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A1323-DE78-480D-A472-6911C61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1E5DA-EC77-4EC1-B63D-A3FA4812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5734-6C08-46F2-B3CA-31B2F73C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6AB16-A6F2-42DF-9002-69B3148F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B2278-906F-4A93-9BF2-D36A81F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AE59E-C585-4DD2-B43E-1F73B4B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AB8CA-B069-44C5-B110-CF74AB2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6C8B9-50AD-495C-982B-217E769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E7FD4-FC64-43D5-8695-5AEFDDA1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0B9E4-DDB4-4FB1-9AC6-A4275CCD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7EE-F422-4F94-B145-0FF8F990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48B-6DC6-4EA7-8E02-67BF3075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B5D-7937-4C43-949A-16EE1187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8A57-0D6C-4C8C-A692-A52AEA1A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EAE-8419-43B1-809D-607EB04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344-B66E-4AE9-BBCD-3A10593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A377-8AF0-4190-A80F-2A56148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098B-83F0-4C84-812E-F38DAB0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2A3F-C7C6-4CC9-9578-855F2E33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1F2-78F5-4B40-AEDF-0792AFD9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33E3-5F33-4C41-A588-9618847A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D8F7-66A8-4AF3-AACA-3AF318AE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65CC-EF8F-4DEB-81E7-BDA5B5E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3FC1-13D4-4A22-8271-36F59EDF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6333-79DB-44A6-B891-34FDAD0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ABC-DA57-4368-A2A7-09CE292D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A3D5-7AE4-4695-BFBD-A80E4EEE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8F49-0264-4691-9268-33E5213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9379-2D20-40C2-830A-DF7D007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25B2-A703-4903-950F-F3A2DD6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716A-EC40-404A-8071-BACA5D8E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AF90-1F05-45C9-BED3-962BD557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04E5-AB97-4999-A798-7BDE3C0E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8CCD-3BEE-4931-A902-6350B1F1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A796-C50D-47E0-B51D-5DD91409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C198-7861-4581-8347-4CDA73EE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BF9-29B2-4929-B659-486B9F1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92E7-0C1D-49FC-8AF3-A513F7F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26B0-05A0-4A62-BFAC-5BA7F604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76AA-B572-4076-AAE2-CFFC72A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C113-2A9A-4C5B-B1CF-04F340D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76A5-23EE-40B4-9D35-53023BA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6D3E-3E87-4D53-9515-470A6EF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10C0-BF2C-4BE5-A5C2-BA22CB8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EAE6-0742-4683-A017-64A8C9CD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CD6D-3BE9-44DA-8E06-C5833E7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75D3-2C22-46DC-8B49-0C9DE26E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4AC-08D5-4A9E-99CC-C18B1C4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5008-B236-4970-BD23-8151F024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A671-4B41-4A21-AC9F-D246C08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D50D-97E0-4AF5-9A95-CC4F6A76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4730-9962-4B62-B44F-4AC9F74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87D3-AB93-4259-9AF1-6C2585E7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0BAE-56FB-477A-BAF4-CF26127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079E-620F-49AA-A5AA-532F90E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B67B-AD10-4E76-BB07-2629508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5C7A-936A-4324-A6E3-A49E2D58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BEBC-FA0D-48D4-B96D-5D3215A5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032-EA3C-478D-8A7E-0E6E35B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FA90-96A3-4F0A-BCBF-E24AA84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CAB2-FA2B-42A3-9269-2A4448B5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C9A9-FCE3-45BE-82B0-5E218A8B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A0BF-0CFF-4B87-8E11-2BF0071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2945-AE32-4CF4-ABE6-333634F6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D1E4-DF48-4F4D-B321-7B97AFE2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326A-71A0-404A-96DA-BB745E02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E7C9-81B9-4127-BCBE-13E9AD3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D8F78-C2D6-4C1F-93E9-BFC9D75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2497-5F49-4AAF-A264-2EB21F7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9A6-1E57-4F5E-94CE-18AE5DC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EA25-58F9-494A-8958-4443EC8C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112C-8700-484A-89E5-A04A002F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A1A8-ED9E-45A9-BBF3-CEC4EF3C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30D9-E182-4C30-8385-55152FFA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7C3D-D27A-476E-9D4F-46BD59C1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4C12-E094-49F5-9963-F3AB748B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4604-F5E3-4C3D-BB0C-44FABBAC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C440-5A23-4AE3-8E0F-8377C51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E46B-739C-4FEC-BA5A-4335E055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CA79-1F4A-4A97-90DE-745CF91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45D-C33A-4E34-AB34-72BB961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FEB5B-B0BF-4541-A540-3C2B13B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FE634-F834-45A1-A838-ACEDF5A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42B1-EB11-4E76-A61F-6FF7898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B5C23-2C0B-4AE2-90DF-D7460F30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CBF6D-96C0-4FE5-8ADF-4B88C197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5B84-D088-453F-BC80-F2714680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E178-87C8-4407-BFEA-7DE1F62B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779D-6467-44E7-A181-C3E06447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C88A-2756-40DB-AA84-0F2E7538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4935-590C-4C70-9EF0-AC41D4D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43A-E536-4034-B2DA-E575EE3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F9D1-CA4E-4D21-BEC1-5387B9C2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6765-B2F5-4B54-94C8-5A80525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8A88-19A2-4CFE-AEEF-EDF0A74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31070-E567-4810-A620-1956A17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DA14-B79E-421E-964A-5B93671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924F-6339-4983-86B6-1B06632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1FCB-B066-4A4A-9BA2-DA0AB6DB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4EF23-B90A-4847-AA10-143FC6C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F8664-80A9-4B3B-AE44-8F5F81B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3FC4-FBDB-4E48-A909-2F2AF2E3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C40-8B1F-4122-89C1-CA1D5EB6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DAC0-0E40-4B60-ABB2-30768D5002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903-1ADB-4428-8A2D-DC3BA123DB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80C-7CEC-4F57-9CB3-F4EC60F47F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7A3-A740-4EE7-AD24-CB869FF1D0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B96-F3C1-4EE8-ABFA-CDF37A7728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1FF-E3FB-4121-842E-32E0BF3C6C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74F-9A24-4CB8-85E3-C3D7407DAD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4B68-5D0E-465C-9BF2-B7DF38BF7C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4A8-D2C3-48B1-BB80-FE1395E4A0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0ED-03B6-458E-AA48-1B0F112B32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739-BBCE-4971-8B30-096DD03814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C93C-A046-47F3-90C6-E715817F3F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牧 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吕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1943280" y="537372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6"/>
          <p:cNvSpPr/>
          <p:nvPr/>
        </p:nvSpPr>
        <p:spPr>
          <a:xfrm>
            <a:off x="395280" y="1125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草场、笛声、月夜、牧童，像一幅恬淡的水墨画，使我们的心灵感到宁静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牧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诗，不仅让我们感到了“日出而作，日落而息”的生活的安然与恬静，也让我们感受到了牧童心灵的无羁无绊，自然放松。白天有牛和牧笛为友，晚上有清风明月相伴，真如世外桃源的生活。当然，透过诗，我们也看到作者心灵世界的一种追求，对远离喧嚣、安然自乐的生活状态的一种向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u=3123067845,957710879&amp;fm=0&amp;gp=0[1]"/>
          <p:cNvPicPr/>
          <p:nvPr/>
        </p:nvPicPr>
        <p:blipFill>
          <a:blip r:embed="rId2"/>
          <a:stretch/>
        </p:blipFill>
        <p:spPr>
          <a:xfrm>
            <a:off x="5435640" y="1484280"/>
            <a:ext cx="259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065A-A1E6-49A7-8EF2-9AF02BE683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366120" y="2349360"/>
            <a:ext cx="13993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牧童       吕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08360" y="2349360"/>
            <a:ext cx="3457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6a1"/>
                </a:solidFill>
                <a:latin typeface="Arial"/>
              </a:rPr>
              <a:t>古诗朗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6a1"/>
                </a:solidFill>
                <a:latin typeface="Arial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6a1"/>
                </a:solidFill>
                <a:latin typeface="Arial"/>
              </a:rPr>
              <a:t>诗词注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6a1"/>
                </a:solidFill>
                <a:latin typeface="Arial"/>
              </a:rPr>
              <a:t>古诗翻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26a1"/>
                </a:solidFill>
                <a:latin typeface="Arial"/>
              </a:rPr>
              <a:t>古诗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2843280" y="2565360"/>
            <a:ext cx="576360" cy="216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2843280" y="3141720"/>
            <a:ext cx="576360" cy="216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5"/>
          <p:cNvSpPr/>
          <p:nvPr/>
        </p:nvSpPr>
        <p:spPr>
          <a:xfrm>
            <a:off x="2843280" y="3860640"/>
            <a:ext cx="576360" cy="216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6"/>
          <p:cNvSpPr/>
          <p:nvPr/>
        </p:nvSpPr>
        <p:spPr>
          <a:xfrm>
            <a:off x="2843280" y="4508640"/>
            <a:ext cx="576360" cy="215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2843280" y="5157720"/>
            <a:ext cx="576360" cy="216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童    吕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6252840" cy="54896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铺横野六七里                          笛弄晚风三四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来饱饭黄昏后                       不脱蓑衣卧月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7" descr="u=2961165408,1662513652&amp;fm=0&amp;gp=0[1]"/>
          <p:cNvPicPr/>
          <p:nvPr/>
        </p:nvPicPr>
        <p:blipFill>
          <a:blip r:embed="rId2"/>
          <a:stretch/>
        </p:blipFill>
        <p:spPr>
          <a:xfrm>
            <a:off x="900000" y="1341360"/>
            <a:ext cx="2838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529272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黑体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吕岩（约公元八七四年前后在世）一名岩客，字洞宾，河中永乐人。咸通初中第，两调县令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吕岩为五代宋初著名道士。世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八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之一。较早的宋代记载，称他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关中逸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关右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248436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诗词注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2133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笛弄：吹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弄：相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蓑衣：用草或棕制成的，披在身上的防雨工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卧月明：睡在月光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横野：辽阔的原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楷体_GB2312"/>
              </a:rPr>
              <a:t>古诗翻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草像被谁铺开在地上一样，方圆六七里都是草地。晚风中隐约传来三四声牧童悠扬的笛声。牧童放归来，在吃饱晚饭后的黄昏时分。他连蓑衣都没脱，就愉快的躺在草地上看天空中的明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2920" y="1916280"/>
            <a:ext cx="41943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u=3147249489,1689531058&amp;fm=0&amp;gp=0[1]"/>
          <p:cNvPicPr/>
          <p:nvPr/>
        </p:nvPicPr>
        <p:blipFill>
          <a:blip r:embed="rId2"/>
          <a:stretch/>
        </p:blipFill>
        <p:spPr>
          <a:xfrm>
            <a:off x="4788000" y="1916280"/>
            <a:ext cx="4032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古诗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-360" y="2349360"/>
            <a:ext cx="6156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牧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诗，向我们展示了一幅鲜活的牧童晚归休憩图：广阔的原野，绿草如茵；晚风吹拂着野草，还没见归来的牧童，却先听见随风传来的牧童悠扬的愈来愈近的笛声，笛声时续时断，随风飘扬。牧童回来吃饱了饭，已是黄昏之后了，他连蓑衣也不脱，就躺在月夜的露天地里休息了。诗中有景、有情，有人物、有声音，这生动的一幕，是由远及近出现在我们的视野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u=880613279,4029085338&amp;fm=0&amp;gp=0[1]"/>
          <p:cNvPicPr/>
          <p:nvPr/>
        </p:nvPicPr>
        <p:blipFill>
          <a:blip r:embed="rId2"/>
          <a:stretch/>
        </p:blipFill>
        <p:spPr>
          <a:xfrm>
            <a:off x="6588000" y="2133720"/>
            <a:ext cx="2051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4"/>
          <p:cNvSpPr/>
          <p:nvPr/>
        </p:nvSpPr>
        <p:spPr>
          <a:xfrm>
            <a:off x="179280" y="836640"/>
            <a:ext cx="60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草铺横野六七里，笛弄晚风三四声。”诗句给我们以视觉和听觉上的感受，放眼望去，原野上草色葱茏；侧耳倾听，晚风中牧笛声声。一个“铺”字，把草的茂盛和草原给人的那种平缓舒服的感觉，表现出来了；一个“弄”字，更显出了一种情趣，把风中笛声的时断时续、悠扬飘逸和牧童吹笛嬉戏的意味，传达出来了。草场的宽阔无垠为牧童的出场铺垫了一个场景，笛声的悠扬悦耳，使我们想象到晚归牧童劳作一天后的轻松闲适的心境。未见牧童，先闻其声，给人无限美好的想象空间。当然，这里的“六七里”和“三四声”不是确指的数字，只是为了突出原野的宽阔和乡村傍晚的静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u=3628176559,3328418090&amp;fm=0&amp;gp=0[1]"/>
          <p:cNvPicPr/>
          <p:nvPr/>
        </p:nvPicPr>
        <p:blipFill>
          <a:blip r:embed="rId2"/>
          <a:stretch/>
        </p:blipFill>
        <p:spPr>
          <a:xfrm>
            <a:off x="6516720" y="1413000"/>
            <a:ext cx="2217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4"/>
          <p:cNvSpPr/>
          <p:nvPr/>
        </p:nvSpPr>
        <p:spPr>
          <a:xfrm>
            <a:off x="250920" y="981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来饱饭黄昏后，不脱蓑衣卧月明。”诗人笔锋一转，开始写吃饱饭的牧童休息的情景。把以地为床，以天为帐，饥来即食，困来即眠，无牵无挂，自由自在的牧童形象刻画得活灵活现。没有家人聚集的场景，没有伙伴嬉戏的情景，吃饱了饭的牧童，连蓑衣都不脱，就躺在月夜里的草地上。是累了，想躺下来好好地舒展一下身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喜欢月夜的景色，想好好地欣赏一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仰望明亮的月儿，牧童心里会想些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者什么都没想，就睡着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人似乎只把他之所见如实地写了下来，却让我们不禁浮想联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u=2692056471,2966353214&amp;fm=0&amp;gp=0[1]"/>
          <p:cNvPicPr/>
          <p:nvPr/>
        </p:nvPicPr>
        <p:blipFill>
          <a:blip r:embed="rId2"/>
          <a:stretch/>
        </p:blipFill>
        <p:spPr>
          <a:xfrm>
            <a:off x="6234120" y="1773360"/>
            <a:ext cx="2577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4:22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4:36Z</dcterms:modified>
  <cp:revision>7</cp:revision>
  <dc:subject>第一PPT模板网-WWW.1PPT.COM</dc:subject>
  <dc:title>第一PPT模板网-WWW.1PPT.COM</dc:title>
</cp:coreProperties>
</file>