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67DB-9058-4959-ACFC-4BECBFFF972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B86F-558D-4523-A34F-9EC82D0C48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1EF3-AEB1-4972-84D2-A625B5A1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7178-39E3-4E59-A62A-DEF9D593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3B76-3377-4C3C-9D78-4AA37B59B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6130-593C-4AE7-85B6-2B918BA0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ACFE-9269-4014-9A4C-936496EA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F5A3-DCA0-4BE8-B557-2B8C3266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14EF-BF22-40B1-BFE9-42EAAB5A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A7ED-E5A1-493A-95ED-C449EC4C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998C-5D6C-4873-B5DD-3FAF1B4A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614A-D081-47B6-809A-ACE81E20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C89BA-0134-49D1-A005-95A41A04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FBFA-DAD0-4416-B33E-E4ED05AB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10A7-788B-4E19-A5E5-E8EDCC3B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1B1E-5F0E-43F9-B257-BFFDBB95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8FB2-A2E7-490A-B8F9-1DADF139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8116-C169-4906-ACA2-D3C03E2AB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0739-9228-45B9-8733-21D65717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4478A-EF98-42D6-86E9-B962955A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B9938-C57D-478D-93A6-08C7C66B7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980E0-0E68-46AF-A81A-71F24F6A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F6C19-2ABC-4983-A2D6-EA71A3DB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572DB-DB2B-4EBD-ACE2-908D8091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F13D-B7FF-4FE4-AE7A-D4ACFB15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25227-9F48-4A73-8E57-D7E47E53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A3D0D-B709-45F3-8545-F9F9DF4D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39CBC-3AA1-4AF3-9411-C4C332DD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1E05D-908E-483C-AD1E-E2DDEEC2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BCB1E-2BDB-40FF-97D5-0A512C321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44805-19ED-474A-8B94-8096B0474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0AA1E-9369-43E4-986F-1703C07F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D00A-9F47-4064-B4C3-184751234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2C42-1E86-4BEC-BA13-F72A2A33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2538-4E6F-4F25-B07C-49D95AC5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6D5A-24EE-4476-A188-7779F4E1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8181-FDE8-4360-843D-9C8E66B5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1F12-2E11-46CA-8890-B18CC1AB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50A6-FBF8-4F3E-818B-2E4E5A91D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481B-44F8-4DD8-B086-6AAC4CC5F1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362B-B2F2-4A65-A4F3-1D4F9DC3BB6E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21课山水做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1"/>
          <p:cNvSpPr/>
          <p:nvPr/>
        </p:nvSpPr>
        <p:spPr>
          <a:xfrm>
            <a:off x="684360" y="1055520"/>
            <a:ext cx="48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哪儿去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竹篮女"/>
          <p:cNvPicPr/>
          <p:nvPr/>
        </p:nvPicPr>
        <p:blipFill>
          <a:blip r:embed="rId2"/>
          <a:stretch/>
        </p:blipFill>
        <p:spPr>
          <a:xfrm>
            <a:off x="5292720" y="0"/>
            <a:ext cx="3851280" cy="46530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7"/>
          <p:cNvSpPr/>
          <p:nvPr/>
        </p:nvSpPr>
        <p:spPr>
          <a:xfrm>
            <a:off x="7164360" y="458136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189360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Arial"/>
              </a:rPr>
              <a:t>夏哥哥的绿叶哪儿去了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夏天的草地01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Arial"/>
              </a:rPr>
              <a:t>秋姐姐借去做地毯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秋天的落叶01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</a:rPr>
              <a:t>秋姐姐的地毯哪儿去了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5" descr="秋天的落叶01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冬爷爷的白被子盖住了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。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冬天的雪地01"/>
          <p:cNvPicPr/>
          <p:nvPr/>
        </p:nvPicPr>
        <p:blipFill>
          <a:blip r:embed="rId1"/>
          <a:stretch/>
        </p:blipFill>
        <p:spPr>
          <a:xfrm>
            <a:off x="0" y="1506600"/>
            <a:ext cx="9144000" cy="5351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Arial"/>
              </a:rPr>
              <a:t>冬爷爷的白被子哪儿去了？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冬天的雪地01"/>
          <p:cNvPicPr/>
          <p:nvPr/>
        </p:nvPicPr>
        <p:blipFill>
          <a:blip r:embed="rId1"/>
          <a:stretch/>
        </p:blipFill>
        <p:spPr>
          <a:xfrm>
            <a:off x="0" y="1506600"/>
            <a:ext cx="9144000" cy="53514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盛到春娃娃的花篮里了。 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春天的鲜花0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195" name="文本框 1"/>
          <p:cNvSpPr/>
          <p:nvPr/>
        </p:nvSpPr>
        <p:spPr>
          <a:xfrm>
            <a:off x="3301920" y="3108240"/>
            <a:ext cx="56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树"/>
          <p:cNvPicPr/>
          <p:nvPr/>
        </p:nvPicPr>
        <p:blipFill>
          <a:blip r:embed="rId1"/>
          <a:stretch/>
        </p:blipFill>
        <p:spPr>
          <a:xfrm>
            <a:off x="179280" y="36360"/>
            <a:ext cx="853308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8" descr="未命名"/>
          <p:cNvPicPr/>
          <p:nvPr/>
        </p:nvPicPr>
        <p:blipFill>
          <a:blip r:embed="rId2"/>
          <a:stretch/>
        </p:blipFill>
        <p:spPr>
          <a:xfrm>
            <a:off x="2627280" y="2276640"/>
            <a:ext cx="1324080" cy="1228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9" descr="未命名"/>
          <p:cNvPicPr/>
          <p:nvPr/>
        </p:nvPicPr>
        <p:blipFill>
          <a:blip r:embed="rId3"/>
          <a:stretch/>
        </p:blipFill>
        <p:spPr>
          <a:xfrm>
            <a:off x="1908000" y="3213000"/>
            <a:ext cx="1324080" cy="12286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0" descr="未命名"/>
          <p:cNvPicPr/>
          <p:nvPr/>
        </p:nvPicPr>
        <p:blipFill>
          <a:blip r:embed="rId4"/>
          <a:stretch/>
        </p:blipFill>
        <p:spPr>
          <a:xfrm>
            <a:off x="4211640" y="1773360"/>
            <a:ext cx="1324080" cy="1228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1" descr="未命名"/>
          <p:cNvPicPr/>
          <p:nvPr/>
        </p:nvPicPr>
        <p:blipFill>
          <a:blip r:embed="rId5"/>
          <a:stretch/>
        </p:blipFill>
        <p:spPr>
          <a:xfrm>
            <a:off x="2411280" y="765000"/>
            <a:ext cx="1324080" cy="12290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2" descr="未命名"/>
          <p:cNvPicPr/>
          <p:nvPr/>
        </p:nvPicPr>
        <p:blipFill>
          <a:blip r:embed="rId6"/>
          <a:stretch/>
        </p:blipFill>
        <p:spPr>
          <a:xfrm>
            <a:off x="3851280" y="333360"/>
            <a:ext cx="1324080" cy="1228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3" descr="未命名"/>
          <p:cNvPicPr/>
          <p:nvPr/>
        </p:nvPicPr>
        <p:blipFill>
          <a:blip r:embed="rId7"/>
          <a:stretch/>
        </p:blipFill>
        <p:spPr>
          <a:xfrm>
            <a:off x="5796000" y="1700280"/>
            <a:ext cx="1324080" cy="12286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4" descr="未命名"/>
          <p:cNvPicPr/>
          <p:nvPr/>
        </p:nvPicPr>
        <p:blipFill>
          <a:blip r:embed="rId8"/>
          <a:stretch/>
        </p:blipFill>
        <p:spPr>
          <a:xfrm>
            <a:off x="4859280" y="2924280"/>
            <a:ext cx="1324080" cy="12286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5" descr="未命名"/>
          <p:cNvPicPr/>
          <p:nvPr/>
        </p:nvPicPr>
        <p:blipFill>
          <a:blip r:embed="rId9"/>
          <a:stretch/>
        </p:blipFill>
        <p:spPr>
          <a:xfrm>
            <a:off x="6877080" y="2781360"/>
            <a:ext cx="1324080" cy="1228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6" descr="未命名"/>
          <p:cNvPicPr/>
          <p:nvPr/>
        </p:nvPicPr>
        <p:blipFill>
          <a:blip r:embed="rId10"/>
          <a:stretch/>
        </p:blipFill>
        <p:spPr>
          <a:xfrm>
            <a:off x="6948360" y="1125360"/>
            <a:ext cx="1324080" cy="1229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7" descr="未命名"/>
          <p:cNvPicPr/>
          <p:nvPr/>
        </p:nvPicPr>
        <p:blipFill>
          <a:blip r:embed="rId11"/>
          <a:stretch/>
        </p:blipFill>
        <p:spPr>
          <a:xfrm>
            <a:off x="684360" y="2205000"/>
            <a:ext cx="1323720" cy="122868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3"/>
          <p:cNvSpPr/>
          <p:nvPr/>
        </p:nvSpPr>
        <p:spPr>
          <a:xfrm>
            <a:off x="0" y="4437000"/>
            <a:ext cx="1981080" cy="1295640"/>
          </a:xfrm>
          <a:prstGeom prst="cloudCallout">
            <a:avLst>
              <a:gd name="adj1" fmla="val 63541"/>
              <a:gd name="adj2" fmla="val 78921"/>
            </a:avLst>
          </a:prstGeom>
          <a:solidFill>
            <a:srgbClr val="ff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会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7164360" y="1052640"/>
            <a:ext cx="792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6948360" y="2637000"/>
            <a:ext cx="1143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6019920" y="191628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5219640" y="3213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9"/>
          <p:cNvSpPr/>
          <p:nvPr/>
        </p:nvSpPr>
        <p:spPr>
          <a:xfrm>
            <a:off x="4572000" y="20606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1"/>
          <p:cNvSpPr/>
          <p:nvPr/>
        </p:nvSpPr>
        <p:spPr>
          <a:xfrm>
            <a:off x="2700360" y="1052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2"/>
          <p:cNvSpPr/>
          <p:nvPr/>
        </p:nvSpPr>
        <p:spPr>
          <a:xfrm>
            <a:off x="4140360" y="189000"/>
            <a:ext cx="5760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3"/>
          <p:cNvSpPr/>
          <p:nvPr/>
        </p:nvSpPr>
        <p:spPr>
          <a:xfrm>
            <a:off x="755640" y="2492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2627280" y="2492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2124000" y="34290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179280" y="1484280"/>
            <a:ext cx="896472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宋体"/>
              </a:rPr>
              <a:t>作业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宋体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画一画“春娃娃的花篮”   “夏哥哥的绿叶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”   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秋姐姐的地毯”   “冬爷爷的白被子”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0066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D0050-6BED-4420-98DF-284C96105B6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21课山水做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388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学习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360" y="1915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圈出本课生字新词，借助拼音多读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遍，读到自己满意为止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自己认为难认的生词读给同桌听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听，并说说自己是怎样记住它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课文读正确，读通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7667640" y="5300640"/>
            <a:ext cx="1152360" cy="792360"/>
          </a:xfrm>
          <a:custGeom>
            <a:avLst/>
            <a:gdLst>
              <a:gd name="textAreaLeft" fmla="*/ 51120 w 1152360"/>
              <a:gd name="textAreaRight" fmla="*/ 1101240 w 115236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31409" h="21600">
                <a:moveTo>
                  <a:pt x="0" y="0"/>
                </a:moveTo>
                <a:lnTo>
                  <a:pt x="31409" y="0"/>
                </a:lnTo>
                <a:lnTo>
                  <a:pt x="31409" y="21600"/>
                </a:lnTo>
                <a:lnTo>
                  <a:pt x="0" y="21600"/>
                </a:lnTo>
                <a:close/>
              </a:path>
              <a:path fill="lightenLess" w="31409" h="21600">
                <a:moveTo>
                  <a:pt x="0" y="0"/>
                </a:moveTo>
                <a:lnTo>
                  <a:pt x="31409" y="0"/>
                </a:lnTo>
                <a:lnTo>
                  <a:pt x="30009" y="1400"/>
                </a:lnTo>
                <a:lnTo>
                  <a:pt x="1400" y="1400"/>
                </a:lnTo>
                <a:close/>
              </a:path>
              <a:path fill="darken" w="31409" h="21600">
                <a:moveTo>
                  <a:pt x="31409" y="0"/>
                </a:moveTo>
                <a:lnTo>
                  <a:pt x="31409" y="21600"/>
                </a:lnTo>
                <a:lnTo>
                  <a:pt x="30009" y="20200"/>
                </a:lnTo>
                <a:lnTo>
                  <a:pt x="30009" y="1400"/>
                </a:lnTo>
                <a:close/>
              </a:path>
              <a:path fill="darkenLess" w="31409" h="21600">
                <a:moveTo>
                  <a:pt x="314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9" y="20200"/>
                </a:lnTo>
                <a:close/>
              </a:path>
              <a:path fill="lighten" w="314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409" h="21600">
                <a:moveTo>
                  <a:pt x="8698" y="3794"/>
                </a:moveTo>
                <a:lnTo>
                  <a:pt x="22711" y="10800"/>
                </a:lnTo>
                <a:lnTo>
                  <a:pt x="869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weihua14ke"/>
          <p:cNvPicPr/>
          <p:nvPr/>
        </p:nvPicPr>
        <p:blipFill>
          <a:blip r:embed="rId1"/>
          <a:srcRect l="0" t="0" r="11706" b="7383"/>
          <a:stretch/>
        </p:blipFill>
        <p:spPr>
          <a:xfrm>
            <a:off x="3708360" y="3573360"/>
            <a:ext cx="5435640" cy="3284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213840" y="115920"/>
            <a:ext cx="8472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GB Pinyinok-C"/>
                <a:ea typeface="GB Pinyinok-C"/>
              </a:rPr>
              <a:t>lán n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春娃娃的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篮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儿去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B Pinyinok-C"/>
                <a:ea typeface="GB Pinyinok-C"/>
              </a:rPr>
              <a:t>xià gē 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夏哥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绿叶遮住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B Pinyinok-C"/>
                <a:ea typeface="GB Pinyinok-C"/>
              </a:rPr>
              <a:t>xià gēge         n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夏哥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绿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儿去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ff"/>
                </a:solidFill>
                <a:latin typeface="GB Pinyinok-C"/>
                <a:ea typeface="GB Pinyinok-C"/>
              </a:rPr>
              <a:t>jiějiejiè       tǎ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姐姐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去做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ff"/>
                </a:solidFill>
                <a:latin typeface="GB Pinyinok-C"/>
                <a:ea typeface="GB Pinyinok-C"/>
              </a:rPr>
              <a:t>jiějie     tǎ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姐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儿去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B Pinyinok-C"/>
                <a:ea typeface="GB Pinyinok-C"/>
              </a:rPr>
              <a:t>dōngyéye      bè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冬爷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子盖住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B Pinyinok-C"/>
                <a:ea typeface="GB Pinyinok-C"/>
              </a:rPr>
              <a:t>dōngyé ye     bè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冬爷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子哪儿去了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GB Pinyinok-C"/>
                <a:ea typeface="GB Pinyinok-C"/>
              </a:rPr>
              <a:t>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GB Pinyinok-C"/>
                <a:ea typeface="GB Pinyinok-C"/>
              </a:rPr>
              <a:t>l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盛到春娃娃的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里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5"/>
          <p:cNvSpPr txBox="1"/>
          <p:nvPr/>
        </p:nvSpPr>
        <p:spPr>
          <a:xfrm rot="978000">
            <a:off x="5802120" y="514080"/>
            <a:ext cx="2376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40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我会读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40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weihua14ke"/>
          <p:cNvPicPr/>
          <p:nvPr/>
        </p:nvPicPr>
        <p:blipFill>
          <a:blip r:embed="rId1"/>
          <a:srcRect l="0" t="0" r="11706" b="7383"/>
          <a:stretch/>
        </p:blipFill>
        <p:spPr>
          <a:xfrm>
            <a:off x="3708360" y="3573360"/>
            <a:ext cx="5435640" cy="3284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1592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春娃娃的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篮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儿去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夏哥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绿叶遮住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夏哥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绿叶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儿去了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姐姐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去做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姐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儿去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冬爷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子盖住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冬爷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子哪儿去了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盛到春娃娃的花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里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4"/>
          <p:cNvSpPr txBox="1"/>
          <p:nvPr/>
        </p:nvSpPr>
        <p:spPr>
          <a:xfrm rot="978000">
            <a:off x="5802120" y="514080"/>
            <a:ext cx="2376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40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我会读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40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weihua14ke"/>
          <p:cNvPicPr/>
          <p:nvPr/>
        </p:nvPicPr>
        <p:blipFill>
          <a:blip r:embed="rId1"/>
          <a:srcRect l="0" t="0" r="11706" b="7383"/>
          <a:stretch/>
        </p:blipFill>
        <p:spPr>
          <a:xfrm>
            <a:off x="4356000" y="3573360"/>
            <a:ext cx="4788000" cy="3284640"/>
          </a:xfrm>
          <a:prstGeom prst="rect">
            <a:avLst/>
          </a:prstGeom>
          <a:ln w="0">
            <a:noFill/>
          </a:ln>
        </p:spPr>
      </p:pic>
      <p:sp>
        <p:nvSpPr>
          <p:cNvPr id="146" name="WordArt 4"/>
          <p:cNvSpPr txBox="1"/>
          <p:nvPr/>
        </p:nvSpPr>
        <p:spPr>
          <a:xfrm rot="978000">
            <a:off x="6892560" y="-138240"/>
            <a:ext cx="165564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537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40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我会读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40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468360" y="98100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哪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2843280" y="98100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花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324000" y="263700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夏哥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2814480" y="2608200"/>
            <a:ext cx="30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秋姐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396720" y="4394160"/>
            <a:ext cx="21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借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5292720" y="256536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冬爷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5219640" y="90792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地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2840040" y="4365720"/>
            <a:ext cx="215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被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22"/>
          <p:cNvSpPr/>
          <p:nvPr/>
        </p:nvSpPr>
        <p:spPr>
          <a:xfrm>
            <a:off x="5575320" y="49766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weihua14ke"/>
          <p:cNvPicPr/>
          <p:nvPr/>
        </p:nvPicPr>
        <p:blipFill>
          <a:blip r:embed="rId1"/>
          <a:srcRect l="0" t="0" r="11706" b="7383"/>
          <a:stretch/>
        </p:blipFill>
        <p:spPr>
          <a:xfrm>
            <a:off x="3708360" y="3573360"/>
            <a:ext cx="5435640" cy="3284640"/>
          </a:xfrm>
          <a:prstGeom prst="rect">
            <a:avLst/>
          </a:prstGeom>
          <a:ln w="0">
            <a:noFill/>
          </a:ln>
        </p:spPr>
      </p:pic>
      <p:sp>
        <p:nvSpPr>
          <p:cNvPr id="157" name="WordArt 3"/>
          <p:cNvSpPr txBox="1"/>
          <p:nvPr/>
        </p:nvSpPr>
        <p:spPr>
          <a:xfrm rot="978000">
            <a:off x="5802120" y="514080"/>
            <a:ext cx="2376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3402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我会读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3402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11280" y="1197000"/>
            <a:ext cx="129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763640" y="1197000"/>
            <a:ext cx="11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篮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2916360" y="126828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夏   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468360" y="2565360"/>
            <a:ext cx="118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692360" y="2565360"/>
            <a:ext cx="93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2843280" y="256536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冬   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1692360" y="378936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539640" y="3860640"/>
            <a:ext cx="215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3"/>
          <p:cNvSpPr/>
          <p:nvPr/>
        </p:nvSpPr>
        <p:spPr>
          <a:xfrm>
            <a:off x="675360" y="83664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4"/>
          <p:cNvSpPr/>
          <p:nvPr/>
        </p:nvSpPr>
        <p:spPr>
          <a:xfrm>
            <a:off x="1835280" y="836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5"/>
          <p:cNvSpPr/>
          <p:nvPr/>
        </p:nvSpPr>
        <p:spPr>
          <a:xfrm>
            <a:off x="2989080" y="81432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xi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6"/>
          <p:cNvSpPr/>
          <p:nvPr/>
        </p:nvSpPr>
        <p:spPr>
          <a:xfrm>
            <a:off x="4347000" y="76500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g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7"/>
          <p:cNvSpPr/>
          <p:nvPr/>
        </p:nvSpPr>
        <p:spPr>
          <a:xfrm>
            <a:off x="675720" y="21765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i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8"/>
          <p:cNvSpPr/>
          <p:nvPr/>
        </p:nvSpPr>
        <p:spPr>
          <a:xfrm>
            <a:off x="1981080" y="21034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ji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9"/>
          <p:cNvSpPr/>
          <p:nvPr/>
        </p:nvSpPr>
        <p:spPr>
          <a:xfrm>
            <a:off x="2822040" y="1989000"/>
            <a:ext cx="117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dō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0"/>
          <p:cNvSpPr/>
          <p:nvPr/>
        </p:nvSpPr>
        <p:spPr>
          <a:xfrm>
            <a:off x="4357440" y="19605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1"/>
          <p:cNvSpPr/>
          <p:nvPr/>
        </p:nvSpPr>
        <p:spPr>
          <a:xfrm>
            <a:off x="685440" y="3471840"/>
            <a:ext cx="7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bè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2"/>
          <p:cNvSpPr/>
          <p:nvPr/>
        </p:nvSpPr>
        <p:spPr>
          <a:xfrm>
            <a:off x="1899000" y="340056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3" descr="21课山水做低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518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思考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116000" y="2420640"/>
            <a:ext cx="7437600" cy="23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四季是怎样变化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它们都给你留下了什么印象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春娃娃的花篮哪儿去了？</a:t>
            </a:r>
            <a:br>
              <a:rPr sz="4800"/>
            </a:b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春天的鲜花01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e00"/>
                </a:solidFill>
                <a:latin typeface="Arial"/>
              </a:rPr>
              <a:t>夏哥哥的绿叶遮住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夏天的草地01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6:06:2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9:15Z</dcterms:modified>
  <cp:revision>2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