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721E-4692-4EB0-B8D9-4803D5B5EE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8420-286C-4475-9AB5-FEBCFFDA1A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1AE-EED2-4240-92B8-22DF5A0C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CDC-593B-451F-8F08-C263111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DB9-18EC-4CF0-BFA2-B2FF4CF7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F53-AF73-4FEC-BF4F-4C46BE8A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366-19C8-45C3-9C8E-638BEB90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03B-E9A9-44FC-8C23-D19EB827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B5C-0B58-46DC-B592-8E461920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1EA-F461-48C1-A33F-D478841F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882-D422-42B9-B2EE-FBEE4B65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0AA-CB5C-47E2-B7BA-632EDD99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708-1AC4-418E-B33D-7D8437FC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2AA-F10A-4CEE-B014-4EC1F078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BB74-F7A3-4BAE-85B9-584E84B46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432880" y="685800"/>
            <a:ext cx="390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忘的小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35412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28600" y="3442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两首小诗，让同学们相亲相爱，令孩子们终生难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3635280" y="396252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7543800" y="42670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6705720" y="396252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33520" y="457200"/>
            <a:ext cx="4038480" cy="2133720"/>
          </a:xfrm>
          <a:prstGeom prst="cloudCallout">
            <a:avLst>
              <a:gd name="adj1" fmla="val -50824"/>
              <a:gd name="adj2" fmla="val 72171"/>
            </a:avLst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说为什么，这两首小诗会令孩子们终身难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864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爱满天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828800" y="2209680"/>
            <a:ext cx="152280" cy="243864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332880" y="2286000"/>
            <a:ext cx="16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朗诵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332880" y="3886200"/>
            <a:ext cx="16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和诗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7056360" y="27320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相亲相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7056360" y="36576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终身难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6222960" y="2209680"/>
            <a:ext cx="152280" cy="2438640"/>
          </a:xfrm>
          <a:custGeom>
            <a:avLst/>
            <a:gdLst>
              <a:gd name="textAreaLeft" fmla="*/ 0 w 152280"/>
              <a:gd name="textAreaRight" fmla="*/ 55080 w 1522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80880" y="457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9954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陶校长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训斥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也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责怪，他自有好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38098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一个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聪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胆的同学举手说：“我来和一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小诗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09"/>
          <p:cNvPicPr/>
          <p:nvPr/>
        </p:nvPicPr>
        <p:blipFill>
          <a:blip r:embed="rId1"/>
          <a:stretch/>
        </p:blipFill>
        <p:spPr>
          <a:xfrm>
            <a:off x="3962520" y="1143000"/>
            <a:ext cx="1315800" cy="26859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89080" y="37800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319640" y="249876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249560" y="439596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452680" y="3962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n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297680" y="439596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500800" y="3962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Times New Roman"/>
              </a:rPr>
              <a:t>à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9"/>
          <p:cNvPicPr/>
          <p:nvPr/>
        </p:nvPicPr>
        <p:blipFill>
          <a:blip r:embed="rId1"/>
          <a:stretch/>
        </p:blipFill>
        <p:spPr>
          <a:xfrm>
            <a:off x="3962520" y="1143000"/>
            <a:ext cx="1315800" cy="2685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4319640" y="249876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249560" y="439596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570400" y="396252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297680" y="439596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618160" y="396252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Times New Roman"/>
              </a:rPr>
              <a:t>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457200" y="380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img200809021529450"/>
          <p:cNvPicPr/>
          <p:nvPr/>
        </p:nvPicPr>
        <p:blipFill>
          <a:blip r:embed="rId1"/>
          <a:stretch/>
        </p:blipFill>
        <p:spPr>
          <a:xfrm>
            <a:off x="609480" y="1376280"/>
            <a:ext cx="3224160" cy="4105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4038480" y="2239920"/>
            <a:ext cx="4800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陶行知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89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946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，中国伟大的人民教育家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89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日生于安徽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歙县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91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年毕业于金陵大学，后赴美国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917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年回国，历任南京高等师范学校教授、教务主任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529F-C844-4E52-B132-71E3CC3392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04920" y="1891800"/>
            <a:ext cx="857880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才学校的老师、同学和工友，都相亲相爱得像一家人，因为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á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行知校长总是用“爱满天下”四个字来教育大家。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à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是，学生们毕竟都是孩子，聚在一起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 action="ppaction://hlinksldjump"/>
              </a:rPr>
              <a:t>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á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6" action="ppaction://hlinksldjump"/>
              </a:rPr>
              <a:t>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iǎ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会发生一些小摩擦。碰到这样的事，陶校长不训斥，也不责怪，他自有好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780000" y="428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难忘的小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5"/>
          <p:cNvSpPr/>
          <p:nvPr/>
        </p:nvSpPr>
        <p:spPr>
          <a:xfrm>
            <a:off x="1828800" y="4724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28600" y="1708200"/>
            <a:ext cx="8686800" cy="27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下午，两个同学为一件小事在走廊里争吵，最后竟互相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 action="ppaction://hlinksldjump"/>
              </a:rPr>
              <a:t>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了起来。恰巧陶校长经过这里，他走过去，不动声色地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zh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视着他俩。两个学生在校长面前都感到有些难为情，但又不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ā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示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ru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，互相瞪了对方一眼，扭头走开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第二天晨会上，陶校长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 action="ppaction://hlinksldjump"/>
              </a:rPr>
              <a:t>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ǎ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诵了一首题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小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你骂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我骂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骂来骂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只是借人的嘴骂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304920" y="719280"/>
            <a:ext cx="85341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同学们明白了小诗的意思，会意地笑起来。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j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聪明又大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ǎ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的同学举手说：“我来和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］一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小诗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你打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我打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打来打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只是借人的手打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同学们发出了赞赏的笑声，校长也连声称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28600" y="37641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这以后，同学中偶尔有谁要发火了，旁边立即就会有人朗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诗句，让他们消消气，清醒清醒头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两首小诗，让同学们相亲相爱，令孩子们终生难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1473120" y="5218200"/>
            <a:ext cx="568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04920" y="2942280"/>
            <a:ext cx="857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育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才学校的老师、同学和工友，都相亲相爱得像一家人，因为陶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á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行知校长总是用“爱满天下”四个字来教育大家。但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à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是，学生们毕竟都是孩子，聚在一起，难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á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免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iǎ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会发生一些小摩擦。碰到这样的事，陶校长不训斥，也不责怪，他自有好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下午，两个同学为一件小事在走廊里争吵，最后竟互相骂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了起来。恰巧陶校长经过这里，他走过去，不动声色地注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zh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视着他俩。两个学生在校长面前都感到有些难为情，但又不甘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ā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示弱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ru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，互相瞪了对方一眼，扭头走开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780000" y="428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难忘的小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52280" y="152280"/>
            <a:ext cx="3048120" cy="1524240"/>
          </a:xfrm>
          <a:prstGeom prst="cloudCallout">
            <a:avLst>
              <a:gd name="adj1" fmla="val -53125"/>
              <a:gd name="adj2" fmla="val 87500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什么一首小诗让人难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5638680" y="2286000"/>
            <a:ext cx="3124440" cy="1828800"/>
          </a:xfrm>
          <a:prstGeom prst="cloudCallout">
            <a:avLst>
              <a:gd name="adj1" fmla="val 49694"/>
              <a:gd name="adj2" fmla="val 76476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发生争吵以后，陶校长是怎么做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28600" y="80928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第二天晨会上，陶校长朗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ǎ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诵了一首题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小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你骂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我骂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骂来骂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只是借人的嘴骂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同学们明白了小诗的意思，会意地笑起来。一个既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j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聪明又大胆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ǎ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的同学举手说：“我来和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］一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小诗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你打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我打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打来打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只是借人的手打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5562720" y="3657600"/>
            <a:ext cx="3581280" cy="2209680"/>
          </a:xfrm>
          <a:prstGeom prst="cloudCallout">
            <a:avLst>
              <a:gd name="adj1" fmla="val 52791"/>
              <a:gd name="adj2" fmla="val 92745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读一读两首小诗，说说每一首小诗最后一句话的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752480" y="3048120"/>
            <a:ext cx="33530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1752480" y="601992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5556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爱满天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025720" y="2209680"/>
            <a:ext cx="152280" cy="243864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529800" y="2286000"/>
            <a:ext cx="16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朗诵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529800" y="3886200"/>
            <a:ext cx="16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和诗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04920" y="2664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同学们发出了赞赏的笑声，校长也连声称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这以后，同学中偶尔有谁要发火了，旁边立即就会有人朗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诗句，让他们消消气，清醒清醒头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457200" y="0"/>
            <a:ext cx="4114800" cy="228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陶校长这次没有训斥学生，而是用小诗来教育他们，收到了什么样的效果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13:37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9:15Z</dcterms:modified>
  <cp:revision>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