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759B-B5FB-47C9-B444-D454A994B8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A637-F00E-410C-82D7-005F61BCAC5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F32-A1BB-4F87-9CD6-2A4D693C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CEC-D571-49B7-B1FD-354E1DBE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C35-121D-4AEC-B696-5490BCF3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288-7598-4D92-A944-6855C82D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7EF9-1B78-4452-9AE0-7A451643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DF5A-8DFA-4423-A0A2-2876B2D1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0ED-D74F-4C52-A288-75F65659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C0A5-588A-4593-BBCA-3967E8CD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34CC-48CF-405B-B089-424EF1FE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B0F8-DD5E-4E19-B060-9F69795C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DB62-BFFF-49B6-9A1E-18DDA705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8D5-CD30-406E-A7FA-3DEE0F03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3FB3-8FCE-42A6-9A0A-281D58289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432880" y="685800"/>
            <a:ext cx="390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忘的小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354120" y="6019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28600" y="34426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两首小诗，让同学们相亲相爱，令孩子们终生难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3635280" y="3962520"/>
            <a:ext cx="1295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7543800" y="426708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6705720" y="3962520"/>
            <a:ext cx="14475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533520" y="457200"/>
            <a:ext cx="4038480" cy="2133720"/>
          </a:xfrm>
          <a:prstGeom prst="cloudCallout">
            <a:avLst>
              <a:gd name="adj1" fmla="val -50824"/>
              <a:gd name="adj2" fmla="val 72171"/>
            </a:avLst>
          </a:pr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说说为什么，这两首小诗会令孩子们终身难忘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58640" y="3124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爱满天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1828800" y="2209680"/>
            <a:ext cx="152280" cy="2438640"/>
          </a:xfrm>
          <a:custGeom>
            <a:avLst/>
            <a:gdLst>
              <a:gd name="textAreaLeft" fmla="*/ 97200 w 152280"/>
              <a:gd name="textAreaRight" fmla="*/ 152640 w 15228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332880" y="2286000"/>
            <a:ext cx="167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朗诵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骂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332880" y="3886200"/>
            <a:ext cx="167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和诗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打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7056360" y="27320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相亲相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7056360" y="36576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终身难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6222960" y="2209680"/>
            <a:ext cx="152280" cy="2438640"/>
          </a:xfrm>
          <a:custGeom>
            <a:avLst/>
            <a:gdLst>
              <a:gd name="textAreaLeft" fmla="*/ 0 w 152280"/>
              <a:gd name="textAreaRight" fmla="*/ 55080 w 15228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80880" y="4572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28600" y="19954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陶校长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训斥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也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责怪，他自有好办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28600" y="38098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一个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聪明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胆的同学举手说：“我来和一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打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小诗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9"/>
          <p:cNvPicPr/>
          <p:nvPr/>
        </p:nvPicPr>
        <p:blipFill>
          <a:blip r:embed="rId1"/>
          <a:stretch/>
        </p:blipFill>
        <p:spPr>
          <a:xfrm>
            <a:off x="3962520" y="1143000"/>
            <a:ext cx="1315800" cy="26859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289080" y="378000"/>
            <a:ext cx="16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音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319640" y="249876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249560" y="439596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452680" y="39625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ná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4297680" y="439596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5500800" y="39625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Times New Roman"/>
              </a:rPr>
              <a:t>à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9"/>
          <p:cNvPicPr/>
          <p:nvPr/>
        </p:nvPicPr>
        <p:blipFill>
          <a:blip r:embed="rId1"/>
          <a:stretch/>
        </p:blipFill>
        <p:spPr>
          <a:xfrm>
            <a:off x="3962520" y="1143000"/>
            <a:ext cx="1315800" cy="2685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4319640" y="249876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249560" y="439596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570400" y="3962520"/>
            <a:ext cx="63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297680" y="439596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618160" y="3962520"/>
            <a:ext cx="63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Times New Roman"/>
              </a:rPr>
              <a:t>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307800" y="5664240"/>
            <a:ext cx="679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457200" y="380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img200809021529450"/>
          <p:cNvPicPr/>
          <p:nvPr/>
        </p:nvPicPr>
        <p:blipFill>
          <a:blip r:embed="rId1"/>
          <a:stretch/>
        </p:blipFill>
        <p:spPr>
          <a:xfrm>
            <a:off x="609480" y="1376280"/>
            <a:ext cx="3224160" cy="4105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4038480" y="2239920"/>
            <a:ext cx="4800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陶行知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891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～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946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，中国伟大的人民教育家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891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日生于安徽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歙县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914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年毕业于金陵大学，后赴美国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917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年回国，历任南京高等师范学校教授、教务主任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B1EA-E901-42C0-B30D-7E72033840B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304920" y="1948320"/>
            <a:ext cx="857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y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才学校的老师、同学和工友，都相亲相爱得像一家人，因为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á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行知校长总是用“爱满天下”四个字来教育大家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à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是，学生们毕竟都是孩子，聚在一起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ná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iǎ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会发生一些小摩擦。碰到这样的事，陶校长不训斥，也不责怪，他自有好办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780000" y="4287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难忘的小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5"/>
          <p:cNvSpPr/>
          <p:nvPr/>
        </p:nvSpPr>
        <p:spPr>
          <a:xfrm>
            <a:off x="1828800" y="4724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28600" y="176472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天下午，两个同学为一件小事在走廊里争吵，最后竟互相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了起来。恰巧陶校长经过这里，他走过去，不动声色地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zh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视着他俩。两个学生在校长面前都感到有些难为情，但又不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ɡā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示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ru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，互相瞪了对方一眼，扭头走开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第二天晨会上，陶校长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lǎn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诵了一首题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骂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小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你骂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我骂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骂来骂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只是借人的嘴骂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304920" y="74736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同学们明白了小诗的意思，会意地笑起来。一个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j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聪明又大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ǎ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的同学举手说：“我来和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］一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打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小诗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你打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我打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打来打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只是借人的手打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同学们发出了赞赏的笑声，校长也连声称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28600" y="376416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从这以后，同学中偶尔有谁要发火了，旁边立即就会有人朗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骂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打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诗句，让他们消消气，清醒清醒头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两首小诗，让同学们相亲相爱，令孩子们终生难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04920" y="2942280"/>
            <a:ext cx="857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育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y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才学校的老师、同学和工友，都相亲相爱得像一家人，因为陶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á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行知校长总是用“爱满天下”四个字来教育大家。但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à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是，学生们毕竟都是孩子，聚在一起，难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ná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免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iǎ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会发生一些小摩擦。碰到这样的事，陶校长不训斥，也不责怪，他自有好办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天下午，两个同学为一件小事在走廊里争吵，最后竟互相骂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了起来。恰巧陶校长经过这里，他走过去，不动声色地注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zh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视着他俩。两个学生在校长面前都感到有些难为情，但又不甘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ɡā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示弱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ru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，互相瞪了对方一眼，扭头走开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780000" y="4287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难忘的小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152280" y="152280"/>
            <a:ext cx="3048120" cy="1524240"/>
          </a:xfrm>
          <a:prstGeom prst="cloudCallout">
            <a:avLst>
              <a:gd name="adj1" fmla="val -53125"/>
              <a:gd name="adj2" fmla="val 87500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为什么一首小诗让人难忘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638680" y="2286000"/>
            <a:ext cx="3124440" cy="1828800"/>
          </a:xfrm>
          <a:prstGeom prst="cloudCallout">
            <a:avLst>
              <a:gd name="adj1" fmla="val 49694"/>
              <a:gd name="adj2" fmla="val 76476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发生争吵以后，陶校长是怎么做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28600" y="809280"/>
            <a:ext cx="86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第二天晨会上，陶校长朗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lǎn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诵了一首题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骂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小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你骂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我骂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骂来骂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只是借人的嘴骂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同学们明白了小诗的意思，会意地笑起来。一个既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j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聪明又大胆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ǎ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的同学举手说：“我来和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］一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打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小诗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你打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我打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打来打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只是借人的手打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5562720" y="3657600"/>
            <a:ext cx="3581280" cy="2209680"/>
          </a:xfrm>
          <a:prstGeom prst="cloudCallout">
            <a:avLst>
              <a:gd name="adj1" fmla="val 52791"/>
              <a:gd name="adj2" fmla="val 92745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读一读两首小诗，说说每一首小诗最后一句话的意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1752480" y="3048120"/>
            <a:ext cx="33530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1752480" y="6019920"/>
            <a:ext cx="3276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655560" y="3124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爱满天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2025720" y="2209680"/>
            <a:ext cx="152280" cy="2438640"/>
          </a:xfrm>
          <a:custGeom>
            <a:avLst/>
            <a:gdLst>
              <a:gd name="textAreaLeft" fmla="*/ 97200 w 152280"/>
              <a:gd name="textAreaRight" fmla="*/ 152640 w 15228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529800" y="2286000"/>
            <a:ext cx="167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朗诵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骂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529800" y="3886200"/>
            <a:ext cx="167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和诗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打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304920" y="26647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同学们发出了赞赏的笑声，校长也连声称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从这以后，同学中偶尔有谁要发火了，旁边立即就会有人朗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骂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打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诗句，让他们消消气，清醒清醒头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457200" y="0"/>
            <a:ext cx="4114800" cy="2286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陶校长这次没有训斥学生，而是用小诗来教育他们，收到了什么样的效果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13:30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9:11Z</dcterms:modified>
  <cp:revision>9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