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FF10-FC39-4187-876E-89505FC8C3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9CD3-05BF-4D78-A76A-6EA26435B1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578-2881-4133-A3FC-82B10D2F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C4F-10B2-498F-8CE8-BBA36389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B25-D588-40F0-897D-CCCA820F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364-81B1-44EB-BCA6-23066131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4E81-3BD5-48D4-9485-19A31D35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BC97-6466-4D76-B324-D5209E78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6B39-A027-4E4D-9681-57F10D37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7402-3528-49F1-AD16-E7554B3F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3587-F768-41AE-90D3-AF24CCF1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5360-1E12-426B-84EB-9A48975B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6AD9-4665-48A3-B47E-DFC9F65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F7F-0589-4B55-AC23-547EA6FB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0120-BEDD-4053-8E72-23AFF86E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17F3-AF2A-4909-986B-40B807EE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5E81-2474-49B4-A07C-C84B57C8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C0C2-514B-4743-8AE3-FBE171EA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4662-0E38-4DEE-B8C1-919558FA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AF1-0CCE-41D1-B297-0FFD1BEB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15D-07F5-42B6-A33A-79DD6849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302-626E-4E9A-9B7F-413D9452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A9C-DA6A-49F8-A41A-14472C78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816-3B37-43AD-8F5E-3E9AF20E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05F-B3E0-41C3-9E70-93102195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39B-1596-4905-B014-A3219ED0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2D23-D3FA-4145-8FFA-C6AC01C282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941D-A2DC-44ED-B5F8-FA182E1D7F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1620720" y="2232000"/>
            <a:ext cx="6034320" cy="3772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1765440" y="5335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只松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1850040" y="60958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534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探究二：</a:t>
            </a:r>
            <a:br>
              <a:rPr sz="4800"/>
            </a:b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        这样大费周章地逮到的松鼠，我又为什么将它放了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松鼠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28600" y="304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然，我看到了它的目光：像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像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抗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像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乞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880" y="2788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绝望是对失去生命、失去自由的极度恐惧；抗拒是指责作者的做法不对；乞求是希望作者能放了它，给它一条生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63600" y="387360"/>
            <a:ext cx="169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38080" y="1752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绝望”什么？“抗拒”什么？“乞求”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28600" y="4869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绝望、抗拒、乞求”写出了小松鼠在困境中的求生欲望，而这种欲望是“我”从松鼠的目光中看出来的，这目光打动了“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3733920" cy="6019560"/>
            <a:chOff x="0" y="0"/>
            <a:chExt cx="3733920" cy="6019560"/>
          </a:xfrm>
        </p:grpSpPr>
        <p:pic>
          <p:nvPicPr>
            <p:cNvPr id="126" name="Picture 3" descr="a"/>
            <p:cNvPicPr/>
            <p:nvPr/>
          </p:nvPicPr>
          <p:blipFill>
            <a:blip r:embed="rId1"/>
            <a:stretch/>
          </p:blipFill>
          <p:spPr>
            <a:xfrm>
              <a:off x="219600" y="2000160"/>
              <a:ext cx="309348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4"/>
            <p:cNvSpPr txBox="1"/>
            <p:nvPr/>
          </p:nvSpPr>
          <p:spPr>
            <a:xfrm>
              <a:off x="0" y="0"/>
              <a:ext cx="3733920" cy="158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361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6600"/>
                    </a:solidFill>
                    <a:round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75000"/>
                      </a:srgbClr>
                    </a:outerShdw>
                  </a:effectLst>
                  <a:latin typeface="宋体"/>
                </a:rPr>
                <a:t>那只松鼠</a:t>
              </a:r>
              <a:endParaRPr b="0" lang="en-US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28" name="Text Box 5"/>
          <p:cNvSpPr/>
          <p:nvPr/>
        </p:nvSpPr>
        <p:spPr>
          <a:xfrm>
            <a:off x="2743200" y="13716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手触电般地缩回原处。我望着它，尽力体验着它的心情；它也直盯盯地望着我，猜不透在动什么样的脑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200400" y="50292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90920" y="3657600"/>
            <a:ext cx="655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，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咬咬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把它放了。我看着它蹿上树梢，又从这棵树梢跳到了那棵树梢，渐渐隐没在密林深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5791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13dd"/>
                </a:solidFill>
                <a:latin typeface="Arial"/>
              </a:rPr>
              <a:t>        “</a:t>
            </a:r>
            <a:r>
              <a:rPr b="1" lang="zh-CN" sz="3600" spc="-1" strike="noStrike">
                <a:solidFill>
                  <a:srgbClr val="0913dd"/>
                </a:solidFill>
                <a:latin typeface="Arial"/>
              </a:rPr>
              <a:t>咬咬牙”写出了“我”矛盾、犹豫、舍不得放掉松鼠时的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-3387600"/>
            <a:ext cx="7596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 rot="10800000">
            <a:off x="0" y="-720"/>
            <a:ext cx="85680" cy="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86200" y="320760"/>
            <a:ext cx="52578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我说不出为什么要这样做，但我非得这样做不可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松鼠"/>
          <p:cNvPicPr/>
          <p:nvPr/>
        </p:nvPicPr>
        <p:blipFill>
          <a:blip r:embed="rId1"/>
          <a:stretch/>
        </p:blipFill>
        <p:spPr>
          <a:xfrm>
            <a:off x="0" y="0"/>
            <a:ext cx="3809880" cy="6811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962520" y="35053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什么“说不出”？又为什么“非得这样做不可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-3387600"/>
            <a:ext cx="7596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 rot="10800000">
            <a:off x="0" y="-720"/>
            <a:ext cx="85680" cy="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86200" y="320760"/>
            <a:ext cx="52578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当我发现自己说漏了嘴，不安的看着女儿时，女儿竟一点也没有责怪我的意思，依旧稚气未脱的沉浸在我的故事里，并且饱含深情的问我： “ 爸爸，后来它回家了吗？它回到妈妈身边了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松鼠"/>
          <p:cNvPicPr/>
          <p:nvPr/>
        </p:nvPicPr>
        <p:blipFill>
          <a:blip r:embed="rId1"/>
          <a:stretch/>
        </p:blipFill>
        <p:spPr>
          <a:xfrm>
            <a:off x="0" y="0"/>
            <a:ext cx="3809880" cy="681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648320" y="1447920"/>
            <a:ext cx="4190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913dd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913dd"/>
                </a:solidFill>
                <a:latin typeface="Arial"/>
              </a:rPr>
              <a:t>我心里的一块石头落地了。看来，女儿和我一样也惦记着它</a:t>
            </a:r>
            <a:r>
              <a:rPr b="0" lang="en-US" sz="4000" spc="-1" strike="noStrike">
                <a:solidFill>
                  <a:srgbClr val="0913dd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913dd"/>
                </a:solidFill>
                <a:latin typeface="Arial"/>
              </a:rPr>
              <a:t>那只松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松鼠"/>
          <p:cNvPicPr/>
          <p:nvPr/>
        </p:nvPicPr>
        <p:blipFill>
          <a:blip r:embed="rId1"/>
          <a:stretch/>
        </p:blipFill>
        <p:spPr>
          <a:xfrm>
            <a:off x="0" y="0"/>
            <a:ext cx="4191120" cy="681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5998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913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913dd"/>
                </a:solidFill>
                <a:latin typeface="Arial"/>
              </a:rPr>
              <a:t>导学归纳</a:t>
            </a:r>
            <a:r>
              <a:rPr b="0" lang="zh-CN" sz="4000" spc="-1" strike="noStrike">
                <a:solidFill>
                  <a:srgbClr val="0913dd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通过学习课文，大胆地说一说这节课你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"/>
          <p:cNvSpPr/>
          <p:nvPr/>
        </p:nvSpPr>
        <p:spPr>
          <a:xfrm>
            <a:off x="1136520" y="5554800"/>
            <a:ext cx="62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28600" y="6858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拓展延伸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小练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今天我们学习的这篇课文通过对松鼠外形、神态和动作的细致描写，活灵活现地在我们面前再现了一只让人难忘的松鼠。请同学们学习这种写作方 法写一种你最喜欢的小动物，一定注意把你观察到小动物的外形、神态和动作写清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CB90-DC26-4D36-9F31-4C40D78FCD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44704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zh-CN" sz="3200" spc="-1" strike="noStrike">
                <a:solidFill>
                  <a:srgbClr val="0913dd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28600"/>
            <a:ext cx="914400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蹑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手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蹑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脚   活泼伶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俐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 随身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携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带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小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俘虏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         抗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拒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            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 乞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求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缩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回原处   说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漏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了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灰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褐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色        毛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茸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茸     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嗖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 瘫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坐</a:t>
            </a:r>
            <a:r>
              <a:rPr b="1" lang="zh-CN" sz="6000" spc="-1" strike="noStrike">
                <a:solidFill>
                  <a:srgbClr val="0913dd"/>
                </a:solidFill>
                <a:latin typeface="Arial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蹿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上树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44704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zh-CN" sz="3200" spc="-1" strike="noStrike">
                <a:solidFill>
                  <a:srgbClr val="0913dd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152280"/>
            <a:ext cx="883908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13dd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可怜巴巴      一动也不动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兴奋无比        东奔西跑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一动不动        得意忘形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稚气未脱        饱含深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神不知鬼不觉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0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松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57200" y="457200"/>
            <a:ext cx="73152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这篇课文以“那只松鼠”为线索，可以分成三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段）逮松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段）放松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（第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段）惦记松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6"/>
          <p:cNvSpPr txBox="1"/>
          <p:nvPr/>
        </p:nvSpPr>
        <p:spPr>
          <a:xfrm rot="2452200">
            <a:off x="6629040" y="68580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0086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知识性问题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0086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914400" y="6553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352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文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44704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zh-CN" sz="3200" spc="-1" strike="noStrike">
                <a:solidFill>
                  <a:srgbClr val="0913dd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2280" y="304920"/>
            <a:ext cx="88394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13dd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913dd"/>
                </a:solidFill>
                <a:latin typeface="Arial"/>
                <a:ea typeface="楷体_GB2312"/>
              </a:rPr>
              <a:t>在家时，女儿常常吵着要养一只小松鼠，可惜在城市的高楼大厦中，很难找到松鼠的一丝踪迹。没想到这次在山林路边等车，我却意外地逮到了一只。我心理异常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13dd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913dd"/>
                </a:solidFill>
                <a:latin typeface="Arial"/>
                <a:ea typeface="楷体_GB2312"/>
              </a:rPr>
              <a:t>我先是看到路对面的树干上有个灰褐色、毛茸茸的圆球在跳动，于是便蹑手蹑脚地过去。可是没等我接近，那个圆球就“嗖”地一下蹿上了树梢。哦，原来是一只活泼伶俐的小松鼠。我忽然又发现周围的一棵棵树上，几乎都有松鼠在跳动觅食。我兴奋无比，东奔西跑地去抓。那些小精灵呢，似乎是在故意逗我玩，“嗖嗖嗖”地直朝树梢蹿，然后又从这棵树梢跳到那棵树梢。当我累得直喘粗气，瘫坐在地上时，那些小精灵又神不知鬼不觉地出现在我面前的几棵树干上。待我再去抓时，它们又灵巧地逃之夭夭</a:t>
            </a:r>
            <a:r>
              <a:rPr b="1" lang="en-US" sz="3200" spc="-1" strike="noStrike">
                <a:solidFill>
                  <a:srgbClr val="0913dd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913dd"/>
                </a:solidFill>
                <a:latin typeface="Arial"/>
                <a:ea typeface="楷体_GB2312"/>
              </a:rPr>
              <a:t>后来，我用随身携带的网袋，总算网住了一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44704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zh-CN" sz="3200" spc="-1" strike="noStrike">
                <a:solidFill>
                  <a:srgbClr val="0913dd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90720" y="1066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13dd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913dd"/>
                </a:solidFill>
                <a:latin typeface="Arial"/>
                <a:ea typeface="楷体_GB2312"/>
              </a:rPr>
              <a:t>那只松鼠可伶巴巴地躺在我的网袋里，一动也不动，完全失去了几分钟前那股拼命逃窜的灵活劲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44704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zh-CN" sz="3200" spc="-1" strike="noStrike">
                <a:solidFill>
                  <a:srgbClr val="0913dd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0880" y="1066680"/>
            <a:ext cx="853452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13dd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探究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13dd"/>
                </a:solidFill>
                <a:latin typeface="Arial"/>
                <a:ea typeface="楷体_GB2312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        “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没想到这次在山林路边等车，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却意外地</a:t>
            </a:r>
            <a:r>
              <a:rPr b="1" lang="zh-CN" sz="4800" spc="-1" strike="noStrike">
                <a:solidFill>
                  <a:srgbClr val="0913dd"/>
                </a:solidFill>
                <a:latin typeface="Arial"/>
                <a:ea typeface="楷体_GB2312"/>
              </a:rPr>
              <a:t>逮到了一只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57200" y="32767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913dd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913dd"/>
                </a:solidFill>
                <a:latin typeface="Arial"/>
              </a:rPr>
              <a:t>我真的是‘意外’逮到松鼠的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8600" y="52578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用波浪线勾出写”我“逮松鼠时的动作、情态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44704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zh-CN" sz="3200" spc="-1" strike="noStrike">
                <a:solidFill>
                  <a:srgbClr val="0913dd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52280" y="304920"/>
            <a:ext cx="8839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13dd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913dd"/>
                </a:solidFill>
                <a:latin typeface="Arial"/>
                <a:ea typeface="楷体_GB2312"/>
              </a:rPr>
              <a:t>我先是看到路对面的树干上有个灰褐色、毛茸茸的圆球在跳动，于是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蹑手蹑脚</a:t>
            </a:r>
            <a:r>
              <a:rPr b="1" lang="zh-CN" sz="3600" spc="-1" strike="noStrike">
                <a:solidFill>
                  <a:srgbClr val="0913dd"/>
                </a:solidFill>
                <a:latin typeface="Arial"/>
                <a:ea typeface="楷体_GB2312"/>
              </a:rPr>
              <a:t>地过去。可是没等我接近，那个圆球就“嗖”地一下蹿上了树梢。哦，原来是一只活泼伶俐的小松鼠。我忽然又发现周围的一棵棵树上，几乎都有松鼠在跳动觅食。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兴奋无比，东奔西跑</a:t>
            </a:r>
            <a:r>
              <a:rPr b="1" lang="zh-CN" sz="3600" spc="-1" strike="noStrike">
                <a:solidFill>
                  <a:srgbClr val="0913dd"/>
                </a:solidFill>
                <a:latin typeface="Arial"/>
                <a:ea typeface="楷体_GB2312"/>
              </a:rPr>
              <a:t>地去抓。那些小精灵呢，似乎是在故意逗我玩，“嗖嗖嗖”地直朝树梢蹿，然后又从这棵树梢跳到那棵树梢。当我累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直喘粗气</a:t>
            </a:r>
            <a:r>
              <a:rPr b="1" lang="zh-CN" sz="3600" spc="-1" strike="noStrike">
                <a:solidFill>
                  <a:srgbClr val="0913dd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瘫坐</a:t>
            </a:r>
            <a:r>
              <a:rPr b="1" lang="zh-CN" sz="3600" spc="-1" strike="noStrike">
                <a:solidFill>
                  <a:srgbClr val="0913dd"/>
                </a:solidFill>
                <a:latin typeface="Arial"/>
                <a:ea typeface="楷体_GB2312"/>
              </a:rPr>
              <a:t>在地上时，那些小精灵又神不知鬼不觉地出现在我面前的几棵树干上。待我再去抓时，它们又灵巧地逃之夭夭</a:t>
            </a:r>
            <a:r>
              <a:rPr b="1" lang="en-US" sz="3600" spc="-1" strike="noStrike">
                <a:solidFill>
                  <a:srgbClr val="0913dd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913dd"/>
                </a:solidFill>
                <a:latin typeface="Arial"/>
                <a:ea typeface="楷体_GB2312"/>
              </a:rPr>
              <a:t>后来，我用随身携带的网袋，总算网住了一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从哪些语句可看出“我”很艰难才逮到小松鼠？  </a:t>
            </a:r>
            <a:r>
              <a:rPr b="1" lang="zh-CN" sz="2800" spc="-1" strike="noStrike">
                <a:solidFill>
                  <a:srgbClr val="ff00ff"/>
                </a:solidFill>
                <a:latin typeface="方正楷体_GBK"/>
                <a:ea typeface="方正楷体_GBK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971800" y="3429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松鼠非常难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446920" y="533412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”费了九牛二虎之力才逮到小松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929240" y="251460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跳”、“蹿”、“神不知鬼不觉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45840" y="43434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东奔西跑”、“蹑手蹑脚”、“直喘粗气”、“瘫坐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6:01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4:36Z</dcterms:modified>
  <cp:revision>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