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3A83-6ECE-4375-B2BC-3912359179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F7DC-C2BA-42B4-A00D-E684973751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374-7663-4E36-9F03-826A1AB2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5C9-A1FE-4563-8330-A1F91BCB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98A-AD79-4AF7-8ECB-231F8C9D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13A-885E-4617-AAFD-55083CA2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424-2940-477B-9BA8-A3596F6F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9F8-CC2C-4DBC-911F-1B36B3CE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6C6-E2F1-491B-B3C5-A39DFB3A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743-161F-4553-ADF2-193401F1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D76-EF9B-4EAE-8F79-9BDFF1D0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AE2-7FBF-4694-B29E-A790C2FA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951-5BC2-41F6-9C98-1316321B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EC8-50C4-4539-A1C7-DC111D81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91A2-BD13-424C-8FF9-F5A385536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3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2"/>
          <a:stretch/>
        </p:blipFill>
        <p:spPr>
          <a:xfrm>
            <a:off x="914400" y="1030320"/>
            <a:ext cx="6019920" cy="144612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943280" y="6002280"/>
            <a:ext cx="567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864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皮巧根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088400" y="31543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仍叫皮巧根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828800" y="167652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76520" y="18129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皮巧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106960" y="18129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搭木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3809880" y="2098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57652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村民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10696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造新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38098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576520" y="43275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修公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5106960" y="43275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架大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809880" y="461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6248520" y="1676520"/>
            <a:ext cx="228600" cy="3429000"/>
          </a:xfrm>
          <a:custGeom>
            <a:avLst/>
            <a:gdLst>
              <a:gd name="textAreaLeft" fmla="*/ 0 w 228600"/>
              <a:gd name="textAreaRight" fmla="*/ 8244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4876920" y="152280"/>
            <a:ext cx="3352680" cy="1752840"/>
          </a:xfrm>
          <a:prstGeom prst="cloudCallout">
            <a:avLst>
              <a:gd name="adj1" fmla="val 53550"/>
              <a:gd name="adj2" fmla="val 6159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人们为什么把后来修建的桥仍称做皮巧根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363760" y="2743200"/>
            <a:ext cx="866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皮巧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陡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踩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刺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搭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141960" y="2743200"/>
            <a:ext cx="6379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磨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斧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高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渐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栏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128960" y="22860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一比，组成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525680" y="198108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皮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坡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25680" y="350532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踩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彩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869080" y="198108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栏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烂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869080" y="3505320"/>
            <a:ext cx="162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根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艰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7"/>
          <p:cNvSpPr/>
          <p:nvPr/>
        </p:nvSpPr>
        <p:spPr>
          <a:xfrm>
            <a:off x="2590920" y="21621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957320" y="2286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你在括号里填入合适的量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15760" y="1981080"/>
            <a:ext cx="1628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小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白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树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830920" y="1981080"/>
            <a:ext cx="14000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（　）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513000" y="43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字填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341360" y="1614600"/>
            <a:ext cx="59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皮巧根想在小河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座桥。（搭   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2680" y="2903400"/>
            <a:ext cx="903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后来，白柳树渐渐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（烂   滥）说不定哪天就会让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断。（彩  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6320" y="4648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桥两边有漂亮的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杆。（栏   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1220760" y="6053040"/>
            <a:ext cx="55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844280" y="3808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把下列的两句话合并成一句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056120" y="1371600"/>
            <a:ext cx="104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）小象伸直鼻子。小象冲着满是污泥的车身喷起了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703680" y="3886200"/>
            <a:ext cx="169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）邻居们看到了这一家的变化。邻居们也开始粉刷房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533520" y="274320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533520" y="510552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37D7-1696-4C28-A3C9-2EF3695893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4960" y="1209600"/>
            <a:ext cx="8072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上学路上，同学们爱讲一些英雄故事。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iǎ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ē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总是不声不响地听着，他是个言语不多的孩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像所有同学一样，皮巧根也喜欢跳过急水河，抄近路上学。这是一条小河，两岸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ǒu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峭，要跳过去很不容易。去年有一个男孩，没能跳到河对岸，扑通一下掉进了河里。有两个小姑娘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ǎ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着刚结的冰过河，也落到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骨的河水里。大人们都不许孩子抄近路上学了，但谁愿意去走远路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皮巧根想在小河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座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040280" y="3049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巧根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1280" y="685800"/>
            <a:ext cx="7920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天放学回家，他在河边看见一株被大风刮倒的白柳。他赶忙跑回家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快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子，来到白柳树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粗大的树，他砍到第三天，才砍下一段结实的树干。树干圆圆的，树皮滑滑的，走上去还是会有危险。皮巧根就留下几根树枝儿，给过桥的人当扶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皮巧根请来爷爷帮忙，他俩用绳子拴住树干一头，站在对岸的高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上，拉呀，拉呀，把树干搭在小河中间，一座又安全又方便的木桥架起来了。从此以后，孩子和大人来来往往都走这条道了。大家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了这皮巧根桥，方便多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11280" y="1066680"/>
            <a:ext cx="79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后来，白柳树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i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渐朽烂，说不定哪天会让人踩断。村民们找来最好的木材，造起了一座新桥。这座桥的名字还是叫皮巧根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不多久，新修的公路要通过这里，一座大桥架起来了，桥面又宽又平，两边有漂亮的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栏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á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杆。这样的桥总得给个响亮的名儿吧？可人们还叫它的老名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巧根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4960" y="121932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上学路上，同学们爱讲一些英雄故事。皮巧根总是不声不响地听着，他是个言语不多的孩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像所有同学一样，皮巧根也喜欢跳过急水河，抄近路上学。这是一条小河，两岸陡峭，要跳过去很不容易。去年有一个男孩，没能跳到河对岸，扑通一下掉进了河里。有两个小姑娘踩着刚结的冰过河，也落到了刺骨的河水里。大人们都不许孩子抄近路上学了，但谁愿意去走远路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皮巧根想在小河上搭一座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024440" y="3049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巧根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1295280" y="4572000"/>
            <a:ext cx="3657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5410080" y="0"/>
            <a:ext cx="3200400" cy="1905120"/>
          </a:xfrm>
          <a:prstGeom prst="cloudCallout">
            <a:avLst>
              <a:gd name="adj1" fmla="val 50347"/>
              <a:gd name="adj2" fmla="val 70333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说说皮巧根是个怎样的孩子？你是从哪儿看出来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58640" y="3154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皮巧根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828800" y="167652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576520" y="18129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皮巧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106960" y="18129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搭木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809880" y="2098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11280" y="6858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天放学回家，他在河边看见一株被大风刮倒的白柳。他赶忙跑回家，磨快了斧子，来到白柳树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粗大的树，他砍到第三天，才砍下一段结实的树干。树干圆圆的，树皮滑滑的，走上去还是会有危险。皮巧根就留下几根树枝儿，给过桥的人当扶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皮巧根请来爷爷帮忙，他俩用绳子拴住树干一头，站在对岸的高坡上，拉呀，拉呀，把树干搭在小河中间，一座又安全又方便的木桥架起来了。从此以后，孩子和大人来来往往都走这条道了。大家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了这皮巧根桥，方便多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1295280" y="1447920"/>
            <a:ext cx="5867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645280" y="44136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一读，改一改，把下面的每组三句话合成一句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93760" y="1461960"/>
            <a:ext cx="12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赶忙跑回家。他磨快了斧子。他来到白柳树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95400" y="3886200"/>
            <a:ext cx="89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来到图书馆。我查阅资料。我找到了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边的小英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533520" y="3048120"/>
            <a:ext cx="81532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495360" y="5715000"/>
            <a:ext cx="81532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63560" y="1066680"/>
            <a:ext cx="76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后来，白柳树渐渐朽烂，说不定哪天会让人踩断。村民们找来最好的木材，造起了一座新桥。这座桥的名字还是叫皮巧根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不多久，新修的公路要通过这里，一座大桥架起来了，桥面又宽又平，两边有漂亮的铁栏杆。这样的桥总得给个响亮的名儿吧？可人们还叫它的老名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巧根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838080" y="1828800"/>
            <a:ext cx="5715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743200" y="259092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6781680" y="2590920"/>
            <a:ext cx="1524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4952880" y="327672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914400" y="365760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7772400" y="32767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51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4:18Z</dcterms:modified>
  <cp:revision>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