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BA53-92C9-4755-BCB1-86FF6A2517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6605-D059-4846-9240-F2E83DB5BE1A}" type="slidenum">
              <a:rPr b="0" lang="zh-CN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694-CE31-4980-82CD-7722FCAE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0CE-5995-491D-817A-EDB03E68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C961E-10BB-4893-A61B-5CEA53F5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B4073-5466-4DC6-87F8-D9EACA4E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36AAD-8C63-4421-9E49-1DAC2760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77B0B-D8C0-4850-8D5B-65199A74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9E5E7-E380-4944-A52F-AC6191D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5F41A-2A7E-41CC-9E22-6212CA8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7789B-23AA-47C2-9ABA-ADED967C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5CDAF-3042-442A-A1D5-8E872D1B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46081-50C5-4CF3-8BEA-2B86765A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A05D7-3735-47DE-970F-3D4DDF9D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50D-6D2A-4257-86BF-54380EFD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4DCA8-C0D6-4C82-B919-DD30C865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D492C-474F-489B-B163-09E4B9D8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ADFEE-716C-4D2F-9A3A-C1C5B26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351AB-178C-4B41-A933-E0A2362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059ED-E5C0-4A3E-A461-A3B61CCF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86481-9ABF-46EB-BDBE-B332E3C4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DD5D9-D5B7-4DE7-AF21-29EE19D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4019B-1BC9-4816-9603-4592604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EFD1-DF4C-4457-B930-4C68DF1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085C7-F282-4BF1-9D10-C72B919D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50B-8B06-476E-A1EB-C3F211CC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AEB6B-7B92-45B2-856C-58A10B20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F9CC8-B195-4E0F-9234-4F849860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FC15A-01E2-4913-9C86-00ABBDCA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C621D-D937-43CC-854F-2B03038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398EC-8378-4AF3-B70B-C59D1A7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D9B45-1836-472F-9EAC-B3CED057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53966-EC31-48FA-B2F3-31BB371F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EA0B1-16EA-4E81-8617-67C4AE6B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647EA-1E28-4C93-B16C-EBDFE9C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E31A4-0CA7-4F21-BFF9-E12D3757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D45F-56E3-4A48-AD17-13BD6BF0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FEA9F-AD73-4C11-974F-C6457DC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DFD9B-45C9-4C03-83DA-48A3FB94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F3F9E-BFB0-4A4C-BAFD-5175CBF2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02606-BCF8-40DE-AD5E-C14B697E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446D3-B060-460D-A47B-81F51EAA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8EC7D-9D3C-4CE0-948F-78BB8F5F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33493-A75E-42E6-90D3-3A06D11A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59856-140F-4E90-8134-01781682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D3C07-792A-4228-BE2F-C60E1EEB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E684E-1BBD-4D5A-B565-80FBC7FD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C45C-6E34-4455-94DA-73BBB109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E147C-A78C-4945-94A4-A9A3BAB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DE62D-DD26-4524-85F8-DB4FE2B6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3EE6E-521A-4916-9E84-56BB2296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E2702-4A4C-4A73-BFEE-F95811E1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BD16D-F30A-4C12-B21A-D2F7B2E6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C7428-DBA1-448F-B863-4A344F48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44CB1-74C8-4DF1-8761-1C5A86E8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F5C3C-07F4-4D73-A457-649F72C6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5A0E7-32EC-4205-AC29-69A3E014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2B9A3-6B96-49B6-85FB-BA1CCBA3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49D3-8D32-434B-A53C-D91AE20D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9033A-7927-4CDF-ACBB-2F62791A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8EC3B-DCDA-49A2-B410-B722031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4DC83-55CC-4D0F-9E39-E4558AC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59DE2-152C-4B83-B81A-AA26F12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55D06-7C31-46E0-94AD-15BAF20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15DDA-3283-487C-B903-45F5AE65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3C481-6B1C-4A7C-840B-EC6F341C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45669-8019-4229-9792-27FD7E47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D299F-13A5-4EFE-BC0C-7D2C3700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1E69D-6B00-414E-8FB3-E938EDCB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24A5-A341-4A55-8EB0-FDA1767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8B628-E6E8-4B1D-B44C-5DD576CC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A2E87-DCDC-428D-A6F4-158E482A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11D0B-571C-4DD1-BC13-4DF5D1B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12497-313B-4D6D-A59E-52AEF339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FA7FF-D0BF-46F7-9995-DF38ACB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D1865-14C3-4D82-A185-FCAEBD2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0F959-F38F-4ED8-A986-7A7DC017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3AD34-27ED-4D43-86E9-5D456D5A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FBA70-4B7F-46AD-B485-5E562EC6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FEB2-E0D5-4811-B139-C4F5F425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1C3D-87E1-4013-9B83-C87C561C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A93D-8EC1-4704-989A-AF8022FF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A21-9362-45D3-A581-16433482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3BAB-6EC4-40AB-A19F-25B35E88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16F2-AB0E-4119-85DC-C2996FC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70EA-DE41-4261-81AB-0FC8E8F3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C43C-45C6-476B-A416-F9E11502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3DF1-1DF0-4895-8F52-1C2D0AD1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EB7B-D584-4010-8346-BE69CD84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6195-08E9-47FA-9403-DB060FAF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EF12-E9F9-4034-BEA1-69D9E8BB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B275-2E84-439D-B412-272006D0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8D16-0EDB-42FD-B661-52BCC2ED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7F1-559E-4FFB-A268-323102E0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D6DF-439F-478C-B0D0-BA9B0FC8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DB97A-D548-43E8-9B26-02AA645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36DA-FB38-48CB-8F9B-9BE278D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1993-40BB-491E-839D-4BFAEAE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A34E-30AD-42F8-BEB4-32FCCB30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87FD-36F7-48B3-81CB-F9D0DE82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FE5D-8386-4B04-8C10-C50ABB77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7172-5D94-4DC4-A01C-D60AE4AC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56A4-76FD-4CD6-95D1-89FB4731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C405-915C-4C57-B6B2-B4FB02EA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C09-054C-4913-9D7A-03C7FD3A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153C-6013-499F-9C52-D8614AD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910B-EE24-47F5-966B-54EEE418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C51FF-A413-4F74-B2B9-FEC11A0E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D20A-B6C8-43AD-8C24-23BED85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6681-92AE-47C6-8AC9-F90A98D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9DA47-D769-41B8-9A77-1DDBC76F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6FDA5-B2E2-49EF-B2BC-36070AE2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9CD0-4770-4064-A3DE-C960FAB8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040D-EAED-46B9-BDB0-CF69A525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650F-AFDD-4B1D-B641-B4D7A6CB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EA1-D0C8-41A6-A897-9A16A36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2357-0A98-4283-81FC-6956A8C6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D45B1-7563-493E-B1AF-984F50FD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B3F5F-262A-40DD-A8BD-BD3066AA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8E933-3DE2-4DA6-8BA5-7F947D76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B38F8-AC6E-4241-89BA-44FF82D8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5195C-9CB2-49B4-A4E5-C6EBADDA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22960-A53A-46D2-BB1F-203459D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1DC7-0246-4432-A8BE-79F7CE4C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1983-E1F1-4992-9FB8-A58DA17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2F258-9844-4FE5-AC78-24721E2F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81B-66A0-4DC7-A13A-6A239E4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5032A-EAA2-4110-B7EA-7652F563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A6FC7-B294-48C4-A5B2-390BE219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2BC26-1F3A-431E-BD3A-19172B1D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18820-F7BC-4528-BDE4-7A26C1ED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1952-B068-4DFA-ABA5-42053E91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7550-43EF-4894-8FF2-DBDA629F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A3AD3-8F0B-4500-B94F-B9DA7E9D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CF42-494A-4D83-86AC-86835C82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073DC-4DF0-42EB-9932-2EF115B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BECB-9DB4-401A-A75E-1BE53E4C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350-E25C-4A07-8B66-4095CED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C4171-67FB-41EE-A230-EE7AED4B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A0F57-5981-408F-9393-7464B75B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E850-22C2-4515-A253-76E73659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6AC4-DBCF-475E-9079-F647DEA5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C011C-D3EC-4342-9064-C5353DD3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97E4F-F796-4637-8506-DA152AEC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CC4AB-5B0A-4F85-8F41-C8A6EB89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55D24-1921-4F48-8F2B-F6BD85BA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F49CB-EE79-4358-A364-21792088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F0E95-9C9E-4702-AB9A-F5B6F4E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98E-00CF-4F52-BE23-60956B70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81C65-B91E-4A3E-888C-BD97DFC3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798C7-E3A1-4E6F-B696-1495AC8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14EC-2EC8-4D01-8ACB-6ACBDF0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E2A73-2BE8-44DE-B2E1-19CEB551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E9E6E-BE75-4730-9978-B91983A7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1EE6E-084C-4077-A0CA-8BCCF978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5E4B1-D3D2-46D0-9211-47BE2634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71050-6B1A-4A1A-8134-10B7D15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52C17-A4C5-4ECF-892B-1570CD9F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FE63D-1994-48D3-AABD-6612BA7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D53-A1EE-4228-BF6D-85594B45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58D01-456C-463B-ADBE-4B3D2143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7B3F4-B73F-4B62-BB7A-B044B2C7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E093E-6D49-4219-B906-115A6E0E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C3281-C946-490E-BFB1-520119BD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92F76-B561-4960-90A5-C591136C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98D97-7013-40DE-B462-A4673438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8DDF0-1FD9-4D9B-A54F-964E4D58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7CAF6-B2DF-41AA-AFDF-B19FA846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7DD1-F5EC-4953-B751-C33D04C4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121D4-81FD-4723-9291-F0CA9BDF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026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Line 1030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EDB8-3E93-4A41-BBD5-27B08ACF4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BDCF-6898-4EBF-B44D-6F0B99E491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CCF2-B825-4198-9BEF-757CCAA94C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1633-D747-4530-A6F9-CAA3A4B490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6E13-F167-4BCD-8155-B2E61B1450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763D-5053-43AA-928E-CCBCE6101F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5C34-E4E7-495F-9EC2-8A7D7B76F6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026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Rectangle 1027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Line 1030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Rectangle 1031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7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B7CB-28CC-4AA9-8880-409D0FD33D62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17F6-66B3-43D2-B538-9A1D5F3B94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7F7E-33E6-46ED-BD13-A77CE6BB4B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BC9E-6B06-4544-BD22-5B391AC91B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A145-CE19-4C15-BA01-F6E85D1D0D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5170-2887-4ED6-A85F-D8CAC350FF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2181-CD85-425D-BA8E-AA5DA7EA77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12.qhimg.com/t01440acda68201134d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p11.qhimg.com/t0151dc3d48e3e0172b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6100"/>
                </a:solidFill>
                <a:latin typeface="华文中宋"/>
                <a:ea typeface="华文中宋"/>
              </a:rPr>
              <a:t>瘸  蝉</a:t>
            </a:r>
            <a:endParaRPr b="0" i="1" lang="en-US" sz="1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矩形 5"/>
          <p:cNvSpPr/>
          <p:nvPr/>
        </p:nvSpPr>
        <p:spPr>
          <a:xfrm>
            <a:off x="190620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1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1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808000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AB7-5F3E-4A4C-A7DA-8EE821C4CA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6"/>
          <p:cNvSpPr/>
          <p:nvPr/>
        </p:nvSpPr>
        <p:spPr>
          <a:xfrm>
            <a:off x="5862600" y="40384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moban/                  PPT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素材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背景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beijing/                   PPT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图表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xiazai/                     PPT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ziliao/                   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fanwen/            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shiti/                     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jiaoan/              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论坛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语文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yuwen/    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数学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shuxue/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英语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yingyu/    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美术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meishu/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科学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kexue/     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物理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wuli/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化学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huaxue/  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生物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shengwu/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地理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dili/          </a:t>
            </a:r>
            <a:r>
              <a:rPr b="0" lang="zh-CN" sz="100" spc="-1" strike="noStrike">
                <a:solidFill>
                  <a:srgbClr val="f1f7e9"/>
                </a:solidFill>
                <a:latin typeface="Times New Roman"/>
              </a:rPr>
              <a:t>历史课件：</a:t>
            </a:r>
            <a:r>
              <a:rPr b="0" lang="en-US" sz="100" spc="-1" strike="noStrike">
                <a:solidFill>
                  <a:srgbClr val="f1f7e9"/>
                </a:solidFill>
                <a:latin typeface="Times New Roman"/>
              </a:rPr>
              <a:t>www.1ppt.com/kejian/lishi/        </a:t>
            </a:r>
            <a:endParaRPr b="0" lang="en-US" sz="1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03" name="Picture 6" descr="苏格拉底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8440" y="800280"/>
            <a:ext cx="1962000" cy="24764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苏格拉底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48440" y="32767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1"/>
          <p:cNvSpPr/>
          <p:nvPr/>
        </p:nvSpPr>
        <p:spPr>
          <a:xfrm>
            <a:off x="152280" y="16477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苏格拉底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 （前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69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年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-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前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99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年）是古希腊时期的思想家、哲学家和教育家，又是一位个性鲜明、从古至今被人毁誉不一的著名历史人物。苏格拉底出生于伯里克利统治的雅典黄金时期，出身贫寒，苏格拉底是柏拉图的老师，他一生未曾著述，其言论和思想多见于柏拉图和色诺芬的著作，如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苏格拉底言行回忆录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。他的学生之一是柏拉图，他与柏拉图、亚里士多德并称“希腊三贤”。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47920" y="1676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生 字 词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523520" y="3048120"/>
            <a:ext cx="617220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瘸    抠    拙   陋   彻   沏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咖    啡    栅   剔   魄   蜕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糕     煎     熬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281952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3333ff"/>
                </a:solidFill>
                <a:latin typeface="Times New Roman"/>
              </a:rPr>
              <a:t>、选择自己喜欢的方式把课文读通顺。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3333ff"/>
                </a:solidFill>
                <a:latin typeface="Times New Roman"/>
              </a:rPr>
              <a:t>、重点品读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1" i="1" lang="zh-CN" sz="40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1" i="1" lang="zh-CN" sz="4000" spc="-1" strike="noStrike">
                <a:solidFill>
                  <a:srgbClr val="3333ff"/>
                </a:solidFill>
                <a:latin typeface="Times New Roman"/>
              </a:rPr>
              <a:t>重点段，边读边细细体会。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9" name="WordArt 5"/>
          <p:cNvSpPr txBox="1"/>
          <p:nvPr/>
        </p:nvSpPr>
        <p:spPr>
          <a:xfrm>
            <a:off x="1676520" y="1295280"/>
            <a:ext cx="48672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都爱读一读</a:t>
            </a:r>
            <a:endParaRPr b="1" i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088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、同学们想一想：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瘸蝉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这个故事的起因、经过、结果各是什么？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、小组讨论，共同分享自己的学习成果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1" name="WordArt 4"/>
          <p:cNvSpPr txBox="1"/>
          <p:nvPr/>
        </p:nvSpPr>
        <p:spPr>
          <a:xfrm>
            <a:off x="838080" y="1600200"/>
            <a:ext cx="64677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都爱想一想</a:t>
            </a:r>
            <a:endParaRPr b="1" i="1" lang="en-US" sz="7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5720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熟读课文，复述课文，提炼出写作层次，概括出文章主要内容。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3" name="WordArt 4"/>
          <p:cNvSpPr txBox="1"/>
          <p:nvPr/>
        </p:nvSpPr>
        <p:spPr>
          <a:xfrm>
            <a:off x="990720" y="1676520"/>
            <a:ext cx="646740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都爱说一说</a:t>
            </a:r>
            <a:endParaRPr b="1" i="1" lang="en-US" sz="7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第一部分（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-3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）苏格拉底获得了一次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观察蝉的机会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第二部分（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4-10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）苏格拉底观察蝉的脱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壳过程，并帮助其中一只脱了壳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第三部分（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1-1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）得到帮助的蝉成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一只瘸蝉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5" name="文本框 1"/>
          <p:cNvSpPr/>
          <p:nvPr/>
        </p:nvSpPr>
        <p:spPr>
          <a:xfrm>
            <a:off x="1146240" y="5964120"/>
            <a:ext cx="48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文章主要内容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课文叙述了苏格拉底观察蝉脱壳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发现蝉脱壳很痛苦所以帮助其中一只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蝉脱壳，最后自己脱壳的蝉飞走了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得到帮助的那只却成了不能飞的瘸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的故事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668160" y="1771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细读课文，请想一想：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苏格拉底为什么要帮助蝉？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他是怎样帮的？结果怎样？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体会到了什么道理？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结合有关语句说一说，并体会着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读一读。 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13:18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3:10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