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B1EE-AC00-4A19-B947-68DD2318A1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EECD-2BFB-47A6-A8E6-EDCE183314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EF2-367D-4A91-A5AA-67C8024E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25A-7965-4F90-B58C-BC55681B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7C23-1DA9-4F9D-83D2-CB41E758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F33-00EB-4AE1-85AC-03658A5D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688-D559-4682-80C5-9F74D918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1CC-9458-4DEA-AE5B-6E8983C3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77F-A5CD-4632-B3C6-8C64914C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FD6-EF2D-40B3-B532-DECD8A77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5DB-2BB0-4948-ACFC-0D386430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4FE-F662-4B5F-AEF7-B1DF8CBD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40C-B14D-490D-98BE-918275B3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C3A-CD33-4ABA-89DD-DA0A434A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3AFA-49EB-4790-9CF2-D1286B857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916720" y="76212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琴声叮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5" descr=""/>
          <p:cNvPicPr/>
          <p:nvPr/>
        </p:nvPicPr>
        <p:blipFill>
          <a:blip r:embed="rId2"/>
          <a:stretch/>
        </p:blipFill>
        <p:spPr>
          <a:xfrm>
            <a:off x="1773360" y="595476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718800" y="152388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我钦佩这个弹琴的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18800" y="274320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我羡慕这个弹琴的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718800" y="396252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我感谢这个弹琴的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1600200" y="1523880"/>
            <a:ext cx="228600" cy="2895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5638680" y="3886200"/>
            <a:ext cx="3124440" cy="1905120"/>
          </a:xfrm>
          <a:prstGeom prst="cloudCallout">
            <a:avLst>
              <a:gd name="adj1" fmla="val 46750"/>
              <a:gd name="adj2" fmla="val 57916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联系课文内容说说作者为什么要用上三个不同的词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2362320" y="2057400"/>
            <a:ext cx="7617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2362320" y="3276720"/>
            <a:ext cx="7617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2362320" y="4495680"/>
            <a:ext cx="7617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419040" y="243828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钦佩这个弹琴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晴朗的秋夜，月牙儿悄悄地挂在树梢，从那飘着橘黄色窗帘的窗口里，传出了悠扬的琴声。叮咚！叮咚！叮叮咚咚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羡慕这个弹琴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冬天的寒夜，有时刮风，有时飘雪。我深夜回来，走进这条寂静的胡同，忽然一阵熟悉的、使人感到温暖的琴声，迎接我这个风雪夜归人。叮咚！叮咚！叮叮咚咚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感谢这个弹琴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谁在弹琴呢？弹琴的是谁呢？我很想知道，并且想见一见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3048120" y="6172200"/>
            <a:ext cx="19047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7696080" y="6172200"/>
            <a:ext cx="990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457200" y="655308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7"/>
          <p:cNvSpPr/>
          <p:nvPr/>
        </p:nvSpPr>
        <p:spPr>
          <a:xfrm>
            <a:off x="985680" y="33084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55560" y="3154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琴声叮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388760" y="182880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想见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 flipV="1">
            <a:off x="1981080" y="213336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80880" y="32194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一天，我去听一场音乐会。榴红色的大幕徐徐开启，主持人牵着一个身穿白纱裙的小姑娘走上台来。只见她像只粉蝶儿，飘到钢琴前，凝神片刻，串串音符就从翩翩的小手间飞扬开来。弹完一曲后，在暴雨般的掌声中，她走到台前谢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琴声那样优美动听，有甜味儿，又是那样亲切熟悉，如逢故友。难道那弹琴的就是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2057400" y="5867280"/>
            <a:ext cx="2819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655560" y="3154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琴声叮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024440" y="3154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就是她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388760" y="182880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想见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 flipV="1">
            <a:off x="1981080" y="213336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2057400" y="3429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19040" y="285444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个黄昏，我踏着叮咚的琴声，轻快地走到家门口，忽然琴声停住了，我抬头一看，只见那紫罗兰色窗帘在轻轻飘动。一会儿，一个似曾见过一面的小姑娘，和一个头发花白、挟着一叠琴谱的老师，说说笑笑地从楼梯口走了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愣住了，真的就是她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回到家里，刚在书桌旁坐下来，流水般的琴声，又响在我的耳边，流淌在我的心里。叮咚！叮咚！叮叮咚咚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1066680" y="609480"/>
            <a:ext cx="2971800" cy="1752840"/>
          </a:xfrm>
          <a:prstGeom prst="cloudCallout">
            <a:avLst>
              <a:gd name="adj1" fmla="val -59828"/>
              <a:gd name="adj2" fmla="val 52537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作者在什么样的情况下见到了弹琴的人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2666880" y="4724280"/>
            <a:ext cx="1676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55560" y="3154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琴声叮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024440" y="3154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就是她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388760" y="182880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想见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024440" y="44197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就是她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5410080" y="1866960"/>
            <a:ext cx="228600" cy="3124080"/>
          </a:xfrm>
          <a:custGeom>
            <a:avLst/>
            <a:gdLst>
              <a:gd name="textAreaLeft" fmla="*/ 0 w 228600"/>
              <a:gd name="textAreaRight" fmla="*/ 82440 w 2286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554880" y="2879640"/>
            <a:ext cx="1095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勤学苦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琴技高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 flipV="1">
            <a:off x="1981080" y="213336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2057400" y="3429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>
            <a:off x="2057400" y="3581280"/>
            <a:ext cx="1600200" cy="1067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852560" y="2133720"/>
            <a:ext cx="543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叮咚　　一股　　喜悦　　钦佩　　羡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814400" y="3429000"/>
            <a:ext cx="551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熟悉　　开启　　凝神　　暴雨　　琴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80880" y="838080"/>
            <a:ext cx="13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-91080" y="1676520"/>
            <a:ext cx="2695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6386040" y="1676520"/>
            <a:ext cx="2695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2286000" y="1798560"/>
            <a:ext cx="152280" cy="213372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6629400" y="1798560"/>
            <a:ext cx="152280" cy="2133720"/>
          </a:xfrm>
          <a:custGeom>
            <a:avLst/>
            <a:gdLst>
              <a:gd name="textAreaLeft" fmla="*/ 97200 w 152280"/>
              <a:gd name="textAreaRight" fmla="*/ 152640 w 1522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897280" y="25909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的琴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488200" y="25909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琴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"/>
          <p:cNvSpPr/>
          <p:nvPr/>
        </p:nvSpPr>
        <p:spPr>
          <a:xfrm>
            <a:off x="2119320" y="4959360"/>
            <a:ext cx="56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055680" y="1981080"/>
            <a:ext cx="98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我钦佩这个弹琴的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815120" y="3154320"/>
            <a:ext cx="308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我羡慕这个弹琴的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055680" y="4419720"/>
            <a:ext cx="98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我感谢这个弹琴的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008600" y="9144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句子，联系课文内容说说作者为什么要用上不同的词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02"/>
          <p:cNvPicPr/>
          <p:nvPr/>
        </p:nvPicPr>
        <p:blipFill>
          <a:blip r:embed="rId1"/>
          <a:stretch/>
        </p:blipFill>
        <p:spPr>
          <a:xfrm>
            <a:off x="952560" y="858960"/>
            <a:ext cx="7238880" cy="5138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207320" y="6248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弹钢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152280" y="22860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9304c888be01d7d5a4c272a4"/>
          <p:cNvPicPr/>
          <p:nvPr/>
        </p:nvPicPr>
        <p:blipFill>
          <a:blip r:embed="rId1"/>
          <a:stretch/>
        </p:blipFill>
        <p:spPr>
          <a:xfrm>
            <a:off x="681120" y="1284120"/>
            <a:ext cx="2171520" cy="28576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3200400" y="1143000"/>
            <a:ext cx="5524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陈伯吹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(1906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997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，原名陈汝埙。上海宝山县人。是我国著名的儿童文学家、出版家、教育家、翻译家，中国现代儿童文学的先驱与奠基人之一。主要作品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阿丽思小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华家的儿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波罗乔少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中篇童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一只想飞的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短篇童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三门峡工地两少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散文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飞虎队与野猪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小说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等数十种，论文集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儿童文学简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作家和儿童文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等。在第二次全国少年儿童文艺创作评奖中被授予荣誉奖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7C5C-41B2-4104-92B8-430788DB2C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80880" y="3124080"/>
            <a:ext cx="838224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清晨、傍晚，我家斜对面高楼的窗口，常常传出阵阵动听的琴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叮咚！叮咚！叮叮咚咚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春天的日子多雨。琴声常常伴着雨点轻轻细细地洒在树叶上，洒在马路上，洒在行人的雨伞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常想，这个弹琴的人是谁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夏天的黄昏，屋子里还滞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zh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留着一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ɡ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热气。人们都到街上、湖滨、广场、公园去乘凉，然而在那摇曳着荷绿色窗帘的窗口里，仍然不断地传出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u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耳的琴声。叮咚！叮咚！叮叮咚咚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108240" y="2362320"/>
            <a:ext cx="30639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琴声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 action="ppaction://hlinksldjump"/>
              </a:rPr>
              <a:t>叮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ī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4191120" y="5410080"/>
            <a:ext cx="16761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5943600" y="2438280"/>
            <a:ext cx="2286000" cy="838440"/>
          </a:xfrm>
          <a:prstGeom prst="wedgeRoundRectCallout">
            <a:avLst>
              <a:gd name="adj1" fmla="val -72708"/>
              <a:gd name="adj2" fmla="val 2619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滞留：停留不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5715000" y="6095880"/>
            <a:ext cx="1676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7010280" y="4343400"/>
            <a:ext cx="1905120" cy="533520"/>
          </a:xfrm>
          <a:prstGeom prst="wedgeRoundRectCallout">
            <a:avLst>
              <a:gd name="adj1" fmla="val -66666"/>
              <a:gd name="adj2" fmla="val 22470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悦耳：好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19040" y="2286000"/>
            <a:ext cx="830592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ī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佩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pè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这个弹琴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晴朗的秋夜，月牙儿悄悄地挂在树梢，从那飘着橘黄色窗帘的窗口里，传出了悠扬的琴声。叮咚！叮咚！叮叮咚咚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i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慕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这个弹琴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冬天的寒夜，有时刮风，有时飘雪。我深夜回来，走进这条寂静的胡同，忽然一阵熟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、使人感到温暖的琴声，迎接我这个风雪夜归人。叮咚！叮咚！叮叮咚咚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感谢这个弹琴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谁在弹琴呢？弹琴的是谁呢？我很想知道，并且想见一见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1447920" y="2743200"/>
            <a:ext cx="16761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304920" y="838080"/>
            <a:ext cx="2400120" cy="533520"/>
          </a:xfrm>
          <a:prstGeom prst="wedgeRoundRectCallout">
            <a:avLst>
              <a:gd name="adj1" fmla="val 34125"/>
              <a:gd name="adj2" fmla="val 22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钦佩：敬重佩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1447920" y="419112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3657600" y="762120"/>
            <a:ext cx="2590920" cy="1447560"/>
          </a:xfrm>
          <a:prstGeom prst="wedgeRoundRectCallout">
            <a:avLst>
              <a:gd name="adj1" fmla="val -71018"/>
              <a:gd name="adj2" fmla="val 159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羡慕：看见别人有某种长处、好处或有利条件而希望自己也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80880" y="3200400"/>
            <a:ext cx="83822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一天，我去听一场音乐会。榴红色的大幕徐徐开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qǐ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主持人牵着一个身穿白纱裙的小姑娘走上台来。只见她像只粉蝶儿，飘到钢琴前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í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神片刻，串串音符就从翩翩的小手间飞扬开来。弹完一曲后，在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暴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à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雨般的掌声中，她走到台前谢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琴声那样优美动听，有甜味儿，又是那样亲切熟悉，如逢故友。难道那弹琴的就是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4876920" y="434340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6095880" y="2209680"/>
            <a:ext cx="2438640" cy="609840"/>
          </a:xfrm>
          <a:prstGeom prst="wedgeRoundRectCallout">
            <a:avLst>
              <a:gd name="adj1" fmla="val -61912"/>
              <a:gd name="adj2" fmla="val 2539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凝神：聚精会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19040" y="2854440"/>
            <a:ext cx="8305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个黄昏，我踏着叮咚的琴声，轻快地走到家门口，忽然琴声停住了，我抬头一看，只见那紫罗兰色窗帘在轻轻飘动。一会儿，一个似曾见过一面的小姑娘，和一个头发花白、挟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ié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着一叠琴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谱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p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老师，说说笑笑地从楼梯口走了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愣住了，真的就是她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回到家里，刚在书桌旁坐下来，流水般的琴声，又响在我的耳边，流淌在我的心里。叮咚！叮咚！叮叮咚咚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80880" y="38862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清晨、傍晚，我家斜对面高楼的窗口，常常传出阵阵动听的琴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叮咚！叮咚！叮叮咚咚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024440" y="2575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琴声叮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380880" y="533520"/>
            <a:ext cx="2971800" cy="1904760"/>
          </a:xfrm>
          <a:prstGeom prst="cloudCallout">
            <a:avLst>
              <a:gd name="adj1" fmla="val -48236"/>
              <a:gd name="adj2" fmla="val 61500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想一想，文章是按照什么线索来写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5257800" y="4648320"/>
            <a:ext cx="2819520" cy="1752480"/>
          </a:xfrm>
          <a:prstGeom prst="cloudCallout">
            <a:avLst>
              <a:gd name="adj1" fmla="val 50282"/>
              <a:gd name="adj2" fmla="val 53532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读完这一段，你感受到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80880" y="321948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春天的日子多雨。琴声常常伴着雨点轻轻细细地洒在树叶上，洒在马路上，洒在行人的雨伞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常想，这个弹琴的人是谁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夏天的黄昏，屋子里还滞留着一股热气。人们都到街上、湖滨、广场、公园去乘凉，然而在那摇曳着荷绿色窗帘的窗口里，仍然不断地传出悦耳的琴声。叮咚！叮咚！叮叮咚咚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457200" y="685800"/>
            <a:ext cx="2971800" cy="1905120"/>
          </a:xfrm>
          <a:prstGeom prst="cloudCallout">
            <a:avLst>
              <a:gd name="adj1" fmla="val -48236"/>
              <a:gd name="adj2" fmla="val 61500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作者是按照什么顺序来写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听琴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5257800" y="1066680"/>
            <a:ext cx="3200400" cy="1905120"/>
          </a:xfrm>
          <a:prstGeom prst="cloudCallout">
            <a:avLst>
              <a:gd name="adj1" fmla="val 50199"/>
              <a:gd name="adj2" fmla="val 5933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在每个季节里听到琴声，作者的心情一样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066680" y="36576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3657600" y="3657600"/>
            <a:ext cx="5029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457200" y="4038480"/>
            <a:ext cx="5334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143000" y="472428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4267080" y="54864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19040" y="243828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钦佩这个弹琴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晴朗的秋夜，月牙儿悄悄地挂在树梢，从那飘着橘黄色窗帘的窗口里，传出了悠扬的琴声。叮咚！叮咚！叮叮咚咚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羡慕这个弹琴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冬天的寒夜，有时刮风，有时飘雪。我深夜回来，走进这条寂静的胡同，忽然一阵熟悉的、使人感到温暖的琴声，迎接我这个风雪夜归人。叮咚！叮咚！叮叮咚咚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感谢这个弹琴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谁在弹琴呢？弹琴的是谁呢？我很想知道，并且想见一见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2057400" y="320040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3733920" y="3581280"/>
            <a:ext cx="16761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1066680" y="464832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6781680" y="5029200"/>
            <a:ext cx="15242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1066680" y="533520"/>
            <a:ext cx="2743200" cy="1752480"/>
          </a:xfrm>
          <a:prstGeom prst="cloudCallout">
            <a:avLst>
              <a:gd name="adj1" fmla="val -60648"/>
              <a:gd name="adj2" fmla="val 5253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为什么说琴声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温暖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1066680" y="2819520"/>
            <a:ext cx="2895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1066680" y="4343400"/>
            <a:ext cx="2895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1143000" y="5791320"/>
            <a:ext cx="2895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14:15:0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8:34Z</dcterms:modified>
  <cp:revision>10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