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C249-9931-4CDC-8D3F-0E36C76934F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874E-4A76-44CB-931F-558B9FE9695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498C-8AA2-40B7-B7ED-754E3490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A14-9702-41A4-BA9E-861E5AEA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A20-7EDD-4419-B631-5013DA30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80E-B12C-45F9-994F-BDF5F3EA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B028E-9650-4914-AF3A-83FEB924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5810A-1AC1-44D6-986F-651EEB67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BB305-2325-40CC-9E8B-5823C0D5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F9D55-C4DC-423E-B4BC-81B89028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CB806-9C80-4182-BB26-BF64888F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90CD6-ADE1-4247-9BA0-2596C0F6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54EEA-B907-4365-A4BA-87A87358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660D-6C16-49AF-AF79-BB15D849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103CD-AE1D-4F32-88F0-20A705B0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87EB2-6556-433E-B642-C8C3CF16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0A58B-E80A-413E-B295-3712B9C7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79B35-6B5E-45D8-B78C-CBC30B29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2196C-8A41-4DDD-81CE-9B2B3C45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507F4-16BE-4A46-BF37-BAC4F091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6B985-B3E9-459F-A785-8FA977AB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CC84F-B54A-44BD-9E0B-1EAE6955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1E73F-62D7-4DC0-9CA3-EF8736B8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AAEB2-E912-4C7F-AC96-1457BEB2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566-1AD9-4BC4-B728-B40104B7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52BF-7322-48D4-A6EE-F7B1E6B6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9BD0B-3747-413B-95DB-84390B1F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84EB3-FBE3-473F-9240-333C154A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503C1-D6B8-4C9C-9BEB-3FA874B7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B53E0-725E-43C4-9750-7F0935E5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AB31E-99CE-4788-BC89-B9A298C3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4DA19-14F6-4C79-B1D9-FCF698CE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89E13-1143-46CC-80E9-F95CCF98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97ED0-DE8F-44E6-891E-A991B709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C1DF1-5C42-4230-9620-CA686932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4AF-29FE-49C5-91CC-74520E88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3655B-9D9A-4968-832B-E179C73C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A809F-855F-483B-AA4E-1897CBD5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945BC-8D04-41DD-A56E-9E657DD6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772E3-2E5F-4055-9845-F4DF0B95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86D8E-F504-45F8-9B4F-ECFE6656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DA034-F3D3-481C-A8BA-2E38A1F2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97375-03A6-4503-AA6D-F22466A2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00AC9-D4B7-4466-B7C9-033389FC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39C31-922E-4EC6-BD4B-AAAE8AAF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5A827-430B-4632-B537-BA9632AD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B24-FFFF-4521-8EF1-A1D0F793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CBC6A-A5AC-4E73-9361-C636F9AB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85380-297B-4081-81BE-E8CF0CEB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BDDAD-8545-444B-8ECE-E484EB1D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05329-9CD7-4994-88D0-DF297F81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61B41-1FE2-4B00-817D-E189423D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54510-9F5D-4FC2-9BA4-3A48D08F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BF445-D2A3-4E96-A553-8FFDF741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15C82-182A-445B-AADE-343A874B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4F002-BAF5-45DC-93FF-82088F16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FE51E-008E-44A4-BE13-51E04D01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C8E6-F5D8-4866-AB00-38F9E232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6BC2E-5BAB-4A63-8F1A-DBE02AC3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4559-6ABE-421E-BD8A-76877216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8F1-712C-443A-BB58-DD9EDF1F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E48-4956-405E-82D3-FAF7CD85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23DB-AD09-4437-91C3-9D0AC6ADD4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F68E-E67B-43FD-BD84-93EBEED866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1AC9-0238-4130-9AE1-249F4CDBE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0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D612-DE9C-4EDE-B5F1-BDEC1FC6A5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C27E-486F-4369-839C-BBD14D7D42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7" descr="AA015302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WordArt 4"/>
          <p:cNvSpPr txBox="1"/>
          <p:nvPr/>
        </p:nvSpPr>
        <p:spPr>
          <a:xfrm>
            <a:off x="1511280" y="2492280"/>
            <a:ext cx="6121440" cy="16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球王贝利的童年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468360" y="134136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湘教版一年级语文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182700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468360" y="112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684360" y="2421000"/>
            <a:ext cx="802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果你是贝利的小伙伴，你打算帮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吗？怎么帮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MCj04245700000[1]"/>
          <p:cNvPicPr/>
          <p:nvPr/>
        </p:nvPicPr>
        <p:blipFill>
          <a:blip r:embed="rId1"/>
          <a:stretch/>
        </p:blipFill>
        <p:spPr>
          <a:xfrm>
            <a:off x="6732720" y="4149720"/>
            <a:ext cx="184140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468360" y="112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900000" y="2276640"/>
            <a:ext cx="734544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那时的小孩有没有零花钱？他们都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钱人的孩子吗？你怎么知道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6" descr="MCj04245720000[1]"/>
          <p:cNvPicPr/>
          <p:nvPr/>
        </p:nvPicPr>
        <p:blipFill>
          <a:blip r:embed="rId1"/>
          <a:stretch/>
        </p:blipFill>
        <p:spPr>
          <a:xfrm>
            <a:off x="6659640" y="4221000"/>
            <a:ext cx="184140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468360" y="112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755640" y="170028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正是由于贝利有了很多好朋友的帮助，所以他终于买了一个足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了球，他们就自主地成立了球队，贝利被大家选为队长，从此以后，他们刻苦训练。因此，贝利就成了一代球王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MCj04245740000[1]"/>
          <p:cNvPicPr/>
          <p:nvPr/>
        </p:nvPicPr>
        <p:blipFill>
          <a:blip r:embed="rId1"/>
          <a:stretch/>
        </p:blipFill>
        <p:spPr>
          <a:xfrm>
            <a:off x="6732720" y="4292640"/>
            <a:ext cx="184140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468360" y="112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755640" y="249228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了课文，你觉得贝利是个怎样的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你认为哪里最吸引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学生自由发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826920" y="220500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们从课文中了解到了球王贝利小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候的故事，除此以外，同学们还收集了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些球星的故事，大家一起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拓展学习"/>
          <p:cNvPicPr/>
          <p:nvPr/>
        </p:nvPicPr>
        <p:blipFill>
          <a:blip r:embed="rId1"/>
          <a:stretch/>
        </p:blipFill>
        <p:spPr>
          <a:xfrm>
            <a:off x="539640" y="1197000"/>
            <a:ext cx="2006640" cy="496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MCj00890340000[1]"/>
          <p:cNvPicPr/>
          <p:nvPr/>
        </p:nvPicPr>
        <p:blipFill>
          <a:blip r:embed="rId2"/>
          <a:stretch/>
        </p:blipFill>
        <p:spPr>
          <a:xfrm>
            <a:off x="6732720" y="4724280"/>
            <a:ext cx="17920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6638-C250-4E5E-A894-F1C8CA49DA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539640" y="285264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课文１６个生字，会写８个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主学习与小组学习相结合学习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掌握学字方法中得到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539640" y="1628640"/>
            <a:ext cx="223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"/>
          <p:cNvSpPr/>
          <p:nvPr/>
        </p:nvSpPr>
        <p:spPr>
          <a:xfrm>
            <a:off x="2382840" y="5246640"/>
            <a:ext cx="58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课文的生字，会写８个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朗读中体会球王贝利小时候的志趣在你成长中起的作用，以及他所付出的努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6"/>
          <p:cNvSpPr/>
          <p:nvPr/>
        </p:nvSpPr>
        <p:spPr>
          <a:xfrm>
            <a:off x="334800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755640" y="1125360"/>
            <a:ext cx="78501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贝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生于巴西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加入了他效力终生的巴西桑托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俱乐部。在他辉煌的足球生涯中，共参加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6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场比赛，射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球，代表巴西国家队出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在国际比赛中破门得分。他首次捧得世界杯时年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。此后他又三次出现在世界杯赛场上，帮助巴西队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两度夺魁。他至今仍保持着多项世界纪录，如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上演帽子戏法；在不少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场比赛中单场独中四元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贝利最终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，在一场有将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名记者出席的表演赛后，彻底地挂靴了。此后，他出演地多部好莱坞电影，创作过音乐，还担任过巴西体育部长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，他被命名为“世纪运动员”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，他名列拳王阿里之后，获“世纪体育家”大奖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268360" y="47628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球王贝利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5"/>
          <p:cNvSpPr/>
          <p:nvPr/>
        </p:nvSpPr>
        <p:spPr>
          <a:xfrm>
            <a:off x="395280" y="404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403280" y="213372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900000" y="981000"/>
            <a:ext cx="7850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g           j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ù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p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ò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qi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童            旧           破            穷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  <a:ea typeface="宋体"/>
              </a:rPr>
              <a:t>（儿童）   （破旧）  （破旧）   （穷人）</a:t>
            </a:r>
            <a:br>
              <a:rPr sz="3200"/>
            </a:br>
            <a:r>
              <a:rPr b="1" lang="zh-CN" sz="3200" spc="-1" strike="noStrike">
                <a:solidFill>
                  <a:srgbClr val="00007d"/>
                </a:solidFill>
                <a:latin typeface="Arial"/>
                <a:ea typeface="宋体"/>
              </a:rPr>
              <a:t> （童年）   （旧书）  （破坏）   （穷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hu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í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du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m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岁            回            队           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99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  <a:ea typeface="宋体"/>
              </a:rPr>
              <a:t>（岁月）   （回来）   （队长）  （收买）</a:t>
            </a:r>
            <a:br>
              <a:rPr sz="3200"/>
            </a:br>
            <a:r>
              <a:rPr b="1" lang="zh-CN" sz="3200" spc="-1" strike="noStrike">
                <a:solidFill>
                  <a:srgbClr val="00007d"/>
                </a:solidFill>
                <a:latin typeface="Arial"/>
                <a:ea typeface="宋体"/>
              </a:rPr>
              <a:t> （岁数）   （回答）   （队伍）  （买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468360" y="112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971640" y="2492280"/>
            <a:ext cx="72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同学们读课文并想想：课文写了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什么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IMG_5071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IMG_5072"/>
          <p:cNvPicPr/>
          <p:nvPr/>
        </p:nvPicPr>
        <p:blipFill>
          <a:blip r:embed="rId2"/>
          <a:stretch/>
        </p:blipFill>
        <p:spPr>
          <a:xfrm>
            <a:off x="4470480" y="0"/>
            <a:ext cx="467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IMG_5073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IMG_5074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1116000" y="234936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思考：贝利为了拥有一个足球，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了哪些办法？怎么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68360" y="112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06:47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8:16Z</dcterms:modified>
  <cp:revision>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