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CFA5-4D98-4D39-BAA9-B02456656C29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8F88-EF91-4240-864D-21994F136A4E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0A5-9F0B-4782-B887-E6B5AE1B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CFE-AB58-4057-BEAC-C6FDC479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C65-3DAB-498E-AA21-FD068B9C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CF0-A547-4FFA-AC01-805B647D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97D-5135-4E06-BCE8-87A35832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FA4-2B4F-4A89-AE23-157BAC17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C27-7EBB-416F-B740-55AA1C8F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365-5685-4353-AEE5-A2117FDB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733-6C37-42AF-8916-9F7268D5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D46-09A1-473B-8722-E69CC513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992-92B8-48A8-A56E-BC56C0F6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B33-281B-4222-8EB4-B71B5FF5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2AF0-7099-4890-90F2-3CCA42035C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397160" y="1854360"/>
            <a:ext cx="6264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华文新魏"/>
              </a:rPr>
              <a:t>倾斜的伞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99720" y="59832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有没有淋到呀？”外公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2700360" y="3284640"/>
            <a:ext cx="4967280" cy="1279440"/>
          </a:xfrm>
          <a:prstGeom prst="borderCallout1">
            <a:avLst>
              <a:gd name="adj1" fmla="val 18750"/>
              <a:gd name="adj2" fmla="val -8333"/>
              <a:gd name="adj3" fmla="val -5953"/>
              <a:gd name="adj4" fmla="val -17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公自己的肩膀湿透了，顾不上擦干，反而关心我有没有被雨淋到，体会到外公非常爱我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230560" y="1341360"/>
            <a:ext cx="428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外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笑眯眯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：“没歪呀！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731600" y="40464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外公笑了几次？用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划出相应句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666080" y="2708280"/>
            <a:ext cx="25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外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笑而不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697040" y="3879720"/>
            <a:ext cx="28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外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开心地笑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6"/>
          <p:cNvSpPr/>
          <p:nvPr/>
        </p:nvSpPr>
        <p:spPr>
          <a:xfrm>
            <a:off x="2987640" y="3860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讨论：为什么说：“那是把倾斜的伞，是把充满温情的伞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把打歪的伞把我整个儿都包住了，却让外公淋湿了肩膀，那把伞包含着外公对我无私的关爱，包含着外孙对长辈的孝顺，所以说那是把倾斜的伞，是把充满温情的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200661633652081"/>
          <p:cNvPicPr/>
          <p:nvPr/>
        </p:nvPicPr>
        <p:blipFill>
          <a:blip r:embed="rId1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"/>
          <p:cNvSpPr/>
          <p:nvPr/>
        </p:nvSpPr>
        <p:spPr>
          <a:xfrm>
            <a:off x="228600" y="609480"/>
            <a:ext cx="1600200" cy="2895840"/>
          </a:xfrm>
          <a:prstGeom prst="cloudCallout">
            <a:avLst>
              <a:gd name="adj1" fmla="val -74504"/>
              <a:gd name="adj2" fmla="val 5783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21280" y="914400"/>
            <a:ext cx="1094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想一想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828800" y="5364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想想自己的亲人为自己做过什么？如果你是文中的“我”，你会对外公说什么？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  <p:sndAc>
      <p:stSnd>
        <p:snd r:embed="rId2" name="chimes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684360" y="549360"/>
            <a:ext cx="38098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表演大闯关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19162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注意把第一自然段中的动词表现出来：跑、钻进、挽住、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9640" y="3573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注意人物的对话，可适当发挥自己的合理想象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课后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把今天所学的故事讲给自己的家人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预习第二篇短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风雪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2050920" y="2133720"/>
            <a:ext cx="5096160" cy="20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685C-FB12-4F96-8E02-2938EFCDEA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9363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549000"/>
            <a:ext cx="129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m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95280" y="2060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墨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132000" y="476280"/>
            <a:ext cx="15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ｗ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ǎ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916360" y="2060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挽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11280" y="1197000"/>
            <a:ext cx="9363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墨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11280" y="1197000"/>
            <a:ext cx="9363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墨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1280" y="1197000"/>
            <a:ext cx="9363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墨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611280" y="1197000"/>
            <a:ext cx="9363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墨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084720" y="47628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796000" y="9810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胳膊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48360" y="47628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Arial"/>
              </a:rPr>
              <a:t>ｇ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ē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b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3708360" y="407664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擦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211640" y="335772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995640" y="342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ｃ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851280" y="51577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擦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276720" y="981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挽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539640" y="404640"/>
            <a:ext cx="2592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词语闯关</a:t>
            </a:r>
            <a:endParaRPr b="1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24000" y="126828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挽住      胳膊       困惑      湿透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淋湿      充满       温情      珍惜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爱护    墨绿色    灰蒙蒙   笑而不语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68360" y="198900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倾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（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笑眯眯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（     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墨绿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     开心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（     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              一蹦一跳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3"/>
          <p:cNvSpPr txBox="1"/>
          <p:nvPr/>
        </p:nvSpPr>
        <p:spPr>
          <a:xfrm>
            <a:off x="468360" y="404640"/>
            <a:ext cx="1655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我能填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432880" y="206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伞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843280" y="3068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700360" y="3068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伞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24000" y="4005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伞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7308720" y="1916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7380360" y="306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7164360" y="3860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468360" y="26028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自读提示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781280" y="1989000"/>
            <a:ext cx="562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快速读课文，思考：课文主要讲了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件什么事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课文中令你感动的句子，划上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旁边写出自己的感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539640" y="549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主要内容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610640" y="2276640"/>
            <a:ext cx="56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讲述了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伞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己的事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470840" y="227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外公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199560" y="2276640"/>
            <a:ext cx="9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65760" y="27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淋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11280" y="234936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天空已变成一片墨绿色。抬头望去，外公头顶的天空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是墨绿色的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却是灰蒙蒙的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3995640" y="0"/>
            <a:ext cx="4319640" cy="2087640"/>
          </a:xfrm>
          <a:prstGeom prst="wedgeEllipseCallout">
            <a:avLst>
              <a:gd name="adj1" fmla="val -41472"/>
              <a:gd name="adj2" fmla="val 68175"/>
            </a:avLst>
          </a:prstGeom>
          <a:solidFill>
            <a:srgbClr val="00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会到外公把伞移向“我”这边，不让“我”淋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困惑了：“怎么没歪？明明是歪向我这边了呀！”外公笑而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3851280" y="2708280"/>
            <a:ext cx="4680000" cy="2376360"/>
          </a:xfrm>
          <a:prstGeom prst="cloudCallout">
            <a:avLst>
              <a:gd name="adj1" fmla="val -21981"/>
              <a:gd name="adj2" fmla="val 8093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会到外公明明把伞歪向“我”这边，但他却说没有歪，他是要外孙安心，别担心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4000" y="184464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回到家里，我发现外公的一边肩膀都湿透了。“外公，您肩膀都被淋湿了，快擦干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435640" y="620640"/>
            <a:ext cx="2952720" cy="1079640"/>
          </a:xfrm>
          <a:prstGeom prst="borderCallout1">
            <a:avLst>
              <a:gd name="adj1" fmla="val 18750"/>
              <a:gd name="adj2" fmla="val -8333"/>
              <a:gd name="adj3" fmla="val 70587"/>
              <a:gd name="adj4" fmla="val -171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会到“我”也很懂事，很孝顺外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24000" y="1844640"/>
            <a:ext cx="82296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回到家里，我发现外公的一边肩膀都湿透了。“外公，您肩膀都被淋湿了，快擦干呀！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06:50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0:34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