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E229-E872-4D2B-B744-30AB2B841E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BBC-E547-4D6C-B2A3-6DF9D32B16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0E6-E581-4C23-BF49-7B4C60A4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9B6-ECCA-457D-948F-4DD4E3A7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5F4-3DBF-41C8-A99D-1F51F661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323-4618-4A87-82E8-5C2D3603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3C5-3D93-496F-AAC9-2B4DF6E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8FA-510D-401F-807F-E6E88AC1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E6D-6ABE-415F-8083-79782A03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9E0-5EA2-4DD4-80CC-0BE77436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8FA-1884-4583-B564-DEAE293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099-B661-46E5-8A6F-D0BFCB4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813-C3A0-47D4-AD5D-E93DBD6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281-DD91-42A6-B3DB-6BC4350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C30D-A354-4D74-83D9-9630EED7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0&amp;tn=baiduimagedetail&amp;word=%C0%EE%C7%E5%D5%D5&amp;in=30690&amp;cl=2&amp;cm=1&amp;sc=0&amp;lm=-1&amp;pn=14&amp;rn=1&amp;di=630380812&amp;ln=2000&amp;fr=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0&amp;tn=baiduimagedetail&amp;word=%C0%EE%C7%E5%D5%D5&amp;in=30690&amp;cl=2&amp;cm=1&amp;sc=0&amp;lm=-1&amp;pn=14&amp;rn=1&amp;di=630380812&amp;ln=2000&amp;fr=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0&amp;tn=baiduimagedetail&amp;word=%C0%EE%C7%E5%D5%D5&amp;in=30690&amp;cl=2&amp;cm=1&amp;sc=0&amp;lm=-1&amp;pn=14&amp;rn=1&amp;di=630380812&amp;ln=2000&amp;fr=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30124liqingz2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4647600" y="2599920"/>
            <a:ext cx="419112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如梦令</a:t>
            </a:r>
            <a:endParaRPr b="0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4516560" y="6010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b904ad01e98736a6e950cdb0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845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知否、知否？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应是绿肥红瘦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应是”包含了女主人怎样的心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920" y="1828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既是对侍女的反诘，也象是自言自语：这个粗心的丫头，你知道不知道，园中的海棠应该是绿叶繁茂、红花稀少才是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应是”，表明词人对窗外景象的推测与判断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吻极当。因为她毕竟尚未亲眼目睹，所以说话时要留有余地。同时，这一词语中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暗含着“必然是”和“不得不是”之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19051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譬如中国古人形容暮春风物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暗红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绿代叶，红代花，暗代茂盛，稀代飘零，已经很妙了，而李清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肥红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更妙。因为肥瘦普通用以形容人类或动物，至于花草则万不能以此加之。今忽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肥红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从来不相联之观念，连结一处，所以觉得分外令人惊奇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24000" y="1557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886200" y="5029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象征派的创始者李金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457200"/>
            <a:ext cx="85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绿肥红瘦”一直为人称道，说说好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绿肥红瘦”一直为人称道，说说好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6002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借代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借代花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两种颜色的对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雨后的叶子因水份充足而茂盛肥大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雨后的花朵因不堪雨打而凋谢稀少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两种状态的对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来平平常常的四个字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经词人的搭配组合，竟显得如此色彩鲜明、形象生动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实在是语言运用上的一个创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这四个字生发联想，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正表明春天的渐渐消逝，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象征着绿叶成荫的盛夏的即将来临吗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极富概括性的语言，又实在令人叹为观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533520" y="1981080"/>
            <a:ext cx="7783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拟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“绿肥红瘦”中的“肥”和“瘦”用以拟写雨后海棠花的花和叶。形象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借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“绿肥红瘦”中的“绿”和“红”是叶和花的颜色，用以代指海棠的叶和花，十分贴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设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“知否”问得寻常，答以“绿肥红瘦”，妙语天成，奇妙无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反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“知否，知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技巧鉴赏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多种修辞方法的运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35280" y="2060640"/>
            <a:ext cx="6984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143000" y="114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这首词写了一件什么事，通过这件事表现出作者怎样的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43000" y="2743200"/>
            <a:ext cx="69343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宿酒醒后询问花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描写，曲折委婉地表达了词人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惜花伤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，语言清新，词义隽永，令人玩味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词人为什么这么惜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3320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人惜花，为花悲喜，为花醒醉，为花憎风恨雨，实际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含蓄地表达了青春韶光短暂、好花不常的惋惜之情，是对美好事物的珍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2073240" y="575136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这首词和韩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李词比韩诗更给人以意趣横生之感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懒起（节选）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韩偓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昨夜三更雨，临明一阵寒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海棠花在否，侧卧卷帘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27432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以“浓睡”、“残酒”搭桥，写出了白夜至晨的时间变化和心理演变。然后一个“卷帘”，点破日曙天明，巧妙得当。然而，问卷帘之人，却一字不提所问何事，只于答话中透露出谜底。增加了情节，曲折委婉，极有层次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词人因惜花而痛饮，因情知花谢却又抱一丝侥幸心理而“试问”，因不相信“卷帘人”的回答而再次反问，如此层层转折，步步深入，将惜花之情表达得摇曳多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韩偓的词也写到春雨后的海棠，也写到词人对海棠的关切，虽然含蓄，却比不上李词的意趣横生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272E-373D-4C2B-B506-4E69ED3D8E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403280" y="40464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作者简介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68360" y="1268280"/>
            <a:ext cx="8675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清照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84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5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著名女词人，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易安居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宋词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婉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豪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大派，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婉约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代表人物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一。李清照的父亲李格非，丈夫赵明诚都是当时的学者。她早年过着平静、优越的生活，诗词多表现欢娱。金兵南下，北宋灭亡，她饱受流亡之苦，诗词多表现哀伤。她的作品被后人编辑成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清照集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漱玉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漱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字反映李清照作品的风格：口吐珠玑，如清泉翠玉，剔透玲珑，晶莹秀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ic3"/>
          <p:cNvPicPr/>
          <p:nvPr/>
        </p:nvPicPr>
        <p:blipFill>
          <a:blip r:embed="rId1"/>
          <a:stretch/>
        </p:blipFill>
        <p:spPr>
          <a:xfrm>
            <a:off x="6732720" y="2602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7794fdfbc24d9d186c22ebd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0000" y="1440"/>
            <a:ext cx="472464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行楷"/>
                <a:ea typeface="华文行楷"/>
              </a:rPr>
              <a:t>如梦令</a:t>
            </a: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昨夜雨疏风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浓睡不消残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试问卷帘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却道海棠依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知否、知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行楷"/>
                <a:ea typeface="华文行楷"/>
              </a:rPr>
              <a:t>应是绿肥红瘦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04920" y="657360"/>
            <a:ext cx="633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昨夜雨狂风猛。当此芳春，名花正好，偏那风雨就来逼迫了，心绪如潮，不得入睡，只有借酒消愁。酒吃得多了，觉也睡得浓了。结果一觉醒来，天已大亮。但昨夜之心情，却已然如隔在胸，所以一起身便要询问意中悬悬之事。于是，她急问收拾房屋，启户卷帘的侍女：海棠花怎么样了？侍女看了一看，笑回道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还不错，一夜风雨，海棠一点儿没变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女主人听了，嗔叹道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傻丫头，你可知道那海棠花丛已是红的见少，绿的见多了吗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u=3445759162,2126834817&amp;fm=0&amp;gp=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1219320"/>
            <a:ext cx="2133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304920" y="304920"/>
            <a:ext cx="66024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据文献记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此词一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便立即受到读者的热烈欢迎。同时代人胡仔就很赞赏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尤其是当中的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绿肥红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一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此语甚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稍后的陈郁对此句更是备加推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天下称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此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历代的文人、读者对该词也都一直赞赏不绝。对于其中的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卷帘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古以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们都一致认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指的是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侍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鲜有二义。虽然最先主此说的人如今已难考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但可以肯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至少在明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此说便已盛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u=3445759162,2126834817&amp;fm=0&amp;gp=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1341360"/>
            <a:ext cx="1981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33520" y="685800"/>
            <a:ext cx="5924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历四十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6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印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余画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张依该词词意而作的绘画。画中即已明确地将卷帘人画成了一个侍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近几年出版的各种有关李清照诗词赏析的论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几乎都持这种“侍女”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极少例外。因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人们普遍认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首词的主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是通过女主人公与其侍女之间“凝炼的对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曲折地抒写了惜花的心情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u=3445759162,2126834817&amp;fm=0&amp;gp=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1341360"/>
            <a:ext cx="1981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"/>
          <p:cNvSpPr/>
          <p:nvPr/>
        </p:nvSpPr>
        <p:spPr>
          <a:xfrm>
            <a:off x="1828800" y="26668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作者为什么说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浓睡不消残酒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1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词的辞面上虽然只写了昨夜饮酒过量，翌日晨起宿酒尚未尽消，但在这个辞面的背后还潜藏着另一层意思，那就是昨夜酒醉是因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惜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位女词人不忍看到明朝海棠花谢，所以昨夜在海棠花下才饮了过量的酒，直到今朝尚有余醉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消残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惜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伏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女主人公为什么不自己去看，却问卷帘人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试问”的“试”字表现了词人怎样的心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人情知海棠不堪一夜骤风疏雨的揉损，窗外定是残红狼藉，落花满眼，却又不忍亲见，于是试着向正在卷帘的侍女问个究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“试”字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将词人关心花事却又害怕听到花落的消息、不忍亲见落花却又想知道究竟的矛盾心理，表达得贴切入微，曲折有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相比之下，周邦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年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一夕东风，海棠花谢，楼上卷帘看。”便显得粗俗不堪，味同嚼蜡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试问”的结果如何呢？“却”字有何内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——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却道海棠依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侍女的回答却让词人感到非常意外。本来以为经过一夜风雨，海棠花一定凋谢得不成样子了，可是侍女卷起窗帘，看了看外面之后，却漫不经心地答道：海棠花还是那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，既表明侍女对女主人委曲的心事毫无觉察，对窗外发生的变化无动于衷，也表明词人听到答话后感到疑惑不解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啊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疏风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后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这就非常自然地带出了结尾两句。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卷帘人对花事之淡漠对比反衬主人公惜花情深，又藏问于答，含多层曲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20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2:19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