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BA56-3780-4A9B-B0A7-3B56C75955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5427-2E02-4171-8321-1C01A204D7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93A-31A1-4ACB-B437-99A40C61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46B-DC5C-4684-AFEB-3413DF7F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8D5-80E8-4DAA-BA74-2BF178F6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DFD-2955-4A05-BD67-42DB966A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1A9-6DA8-4EFF-9ECD-62D0A14A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FDA-1C61-41A5-AC97-70DCD4EA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607-7EB1-40D9-B6A8-798EC403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21B-84B8-4C6B-9401-70D01894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3B7-3605-454D-962B-FC0216E5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3D9-5006-4546-8881-92E8793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960-8763-4FBB-88BA-B25965DD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8A4-99FC-4C81-B621-17B70375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0C6D-8B2A-458D-A280-A209F0833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384088_105918678168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619280" y="914400"/>
            <a:ext cx="6084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诗的材料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397400" y="5641920"/>
            <a:ext cx="311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447200" y="56134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2457331_091927942694_2框架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50920" y="15228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一）荷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些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目睹荷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那样的鲜美、纯洁。我听见的池塘里那流动的水声，是那样富有韵律、澄明。 那些年，我心是澄澈的，整片村庄也是。那开的欢的荷花，我摘一朵，就是一个梦想，我摘一片，就成了我整个童年的愿望。 那些年，我并不都是在寂夜里面对着荷花独自的开，我并不是走在村里的路上，独自面对漫长的旅途。我喜欢走出去看看，我喜欢问着爷爷：天外那边，有像荷花这么美吗？ 那些年，我就是这样喜欢听，喜欢问。那些年，我把荷花的洁白，荷花出淤泥而不染当成自己最大希望，继而当我走出家乡的门口，那些童年已经折断的事物，不管是枯木还是新枝的声音，都一步步向我传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2457331_091927942694_2框架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116000" y="0"/>
            <a:ext cx="7632720" cy="57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池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宋）  杨万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泉眼无声惜细流，树阴照水爱晴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荷才露尖尖角，早有蜻蜓立上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晓出净慈寺送林子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宋）杨万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毕竟西湖六月中，风光不与四时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接天莲叶无穷碧，映日荷花别样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2457331_091927942694_2框架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0" y="30240"/>
            <a:ext cx="914400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有效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照样子续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蜻蜓飞过来，告诉我清早飞行的快乐。小鱼在下边游走，告诉我昨夜做的好梦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过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告诉我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过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告诉我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想象自己就是一朵花、一条鱼、一棵树、一只鸟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把你的感受说一说，也可以写下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031840" y="2835360"/>
            <a:ext cx="508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2201-96CD-414A-B756-0E9DD94C44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2457331_091927942694_2框架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84360" y="444600"/>
            <a:ext cx="763272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材料   冒出来 破裂  隔壁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仿佛   衣裳   胸膛  舒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梦   扇子   扇动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展开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吗   拿来   解开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站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风飘动      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031840" y="2835360"/>
            <a:ext cx="508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2457331_091927942694_2框架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84360" y="620640"/>
            <a:ext cx="76327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阅读提示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从课文的哪些描写感受到是诗的材料？为什么？默读课文，用铅笔在文中勾画相关词句，在书的空白处简单地写出自己的阅读感受，并试着把自己的感受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-428400" y="32464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188440" y="3284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2717640" y="5807160"/>
            <a:ext cx="50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457331_091927942694_2框架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684360" y="62064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荷叶挨挨挤挤的，像一个个大圆盘，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碧绿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面，</a:t>
            </a:r>
            <a:r>
              <a:rPr b="1" lang="zh-CN" sz="44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淡绿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底。白荷花在这些大圆盘之间</a:t>
            </a:r>
            <a:r>
              <a:rPr b="1" lang="zh-CN" sz="44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冒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出来，有的才展开两三片花瓣儿；</a:t>
            </a:r>
            <a:r>
              <a:rPr b="1" lang="zh-CN" sz="44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有的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花瓣儿全都展开了，露出</a:t>
            </a:r>
            <a:r>
              <a:rPr b="1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嫩黄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色的小莲蓬；</a:t>
            </a:r>
            <a:r>
              <a:rPr b="1" lang="zh-CN" sz="44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有的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还是花骨朵儿，看起来饱胀得马上要破裂似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031840" y="2835360"/>
            <a:ext cx="508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3"/>
          <p:cNvSpPr/>
          <p:nvPr/>
        </p:nvSpPr>
        <p:spPr>
          <a:xfrm>
            <a:off x="1004760" y="17780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7445458_162654660188_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4104010_123913188132_2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2457331_091927942694_2框架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324000" y="620640"/>
            <a:ext cx="88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句子对比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白荷花在这些大圆盘之间（</a:t>
            </a:r>
            <a:r>
              <a:rPr b="1" lang="zh-CN" sz="4400" spc="-1" strike="noStrike">
                <a:solidFill>
                  <a:srgbClr val="ff9933"/>
                </a:solidFill>
                <a:latin typeface="Arial"/>
              </a:rPr>
              <a:t>长、钻、伸、露、探、冲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荷花在这些大圆盘之间</a:t>
            </a:r>
            <a:r>
              <a:rPr b="1" lang="zh-CN" sz="44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冒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457331_091927942694_2框架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0" y="33336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忽然觉得自己仿佛就是一朵荷花。一身雪白的衣裳，透着清香。阳光照着我，我解开衣裳，敞着胸膛，舒坦极了。一阵风吹来，我就迎风舞蹈，雪白的衣服随风飘动。不光是我一朵，一池的荷花都在舞蹈呢，这不就像电影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鹅湖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许多天鹅一齐舞蹈的场面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2457331_091927942694_2框架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55640" y="1108080"/>
            <a:ext cx="76327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1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风过了，我停止舞蹈，静静地站在那儿。蜻蜓飞过来，告诉我清早飞行的快乐。小鱼在下边游走，告诉我昨夜做的好梦</a:t>
            </a:r>
            <a:r>
              <a:rPr b="1" lang="en-US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031840" y="2835360"/>
            <a:ext cx="508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2T10:33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5:13Z</dcterms:modified>
  <cp:revision>10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