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C08D-F96F-4A7A-B8C0-2FBEF900884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D0A4-74AC-4F7D-AE73-0645C44EA1FE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35B-A799-4348-BBC6-AC815883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87F-806A-4CBD-B8F0-90614437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B00-4CCA-4D19-A750-2029C97D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B53-8A24-461F-9C5C-7F69818A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1B6F-A5BB-48D8-A76D-9BCD27A5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73A7-0C8C-485C-B737-1E34CA98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0C6C-D09E-4785-8CEB-B40EC6EA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8FA1-8F5F-42E7-AAA6-56C56DE0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541C-6AF2-4AD8-B6EA-079E1B18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5333-8B1C-40FF-B462-32CB7E5E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6FDD-4DA3-4CF4-BFEF-CECAD9A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AA8-CC4A-45E5-8A23-32D9D0E3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26BE-F799-4F72-8C3C-F7156283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2737-A182-4CCE-8854-875564F8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3EC8-4240-45F5-9B80-30B9977F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B0E6-AAAA-4BD1-94FE-A75B0917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73C1-C78D-4DD7-BCC3-8B68212C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1BC-14D1-456E-8E36-FFB90202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F9C-6236-4A04-97BD-F8AB97BC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A7F-0B90-49ED-89AA-F7AD76F6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003-1E87-45D9-869F-80A5986C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62A-11C9-4AB6-A9DC-E4238818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3F5-A6D2-4393-A9D1-2640DEC5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62B-20AA-43DD-935C-5B97EE81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AE22-1215-454D-A8C0-03E1118E1C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C74C-9015-4D82-9ACE-CFCE7BBB43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0" y="2362320"/>
            <a:ext cx="9144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Times New Roman"/>
                <a:ea typeface="隶书"/>
              </a:rPr>
              <a:t>十二生肖</a:t>
            </a:r>
            <a:endParaRPr b="0" lang="en-US" sz="11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6" descr="043"/>
          <p:cNvPicPr/>
          <p:nvPr/>
        </p:nvPicPr>
        <p:blipFill>
          <a:blip r:embed="rId1"/>
          <a:stretch/>
        </p:blipFill>
        <p:spPr>
          <a:xfrm>
            <a:off x="7323120" y="4295880"/>
            <a:ext cx="762120" cy="70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044"/>
          <p:cNvPicPr/>
          <p:nvPr/>
        </p:nvPicPr>
        <p:blipFill>
          <a:blip r:embed="rId2"/>
          <a:stretch/>
        </p:blipFill>
        <p:spPr>
          <a:xfrm>
            <a:off x="1835280" y="1515960"/>
            <a:ext cx="761760" cy="704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045"/>
          <p:cNvPicPr/>
          <p:nvPr/>
        </p:nvPicPr>
        <p:blipFill>
          <a:blip r:embed="rId3"/>
          <a:stretch/>
        </p:blipFill>
        <p:spPr>
          <a:xfrm>
            <a:off x="5943600" y="515772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046"/>
          <p:cNvPicPr/>
          <p:nvPr/>
        </p:nvPicPr>
        <p:blipFill>
          <a:blip r:embed="rId4"/>
          <a:stretch/>
        </p:blipFill>
        <p:spPr>
          <a:xfrm>
            <a:off x="1547640" y="505764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047"/>
          <p:cNvPicPr/>
          <p:nvPr/>
        </p:nvPicPr>
        <p:blipFill>
          <a:blip r:embed="rId5"/>
          <a:stretch/>
        </p:blipFill>
        <p:spPr>
          <a:xfrm>
            <a:off x="6948360" y="16938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048"/>
          <p:cNvPicPr/>
          <p:nvPr/>
        </p:nvPicPr>
        <p:blipFill>
          <a:blip r:embed="rId6"/>
          <a:stretch/>
        </p:blipFill>
        <p:spPr>
          <a:xfrm>
            <a:off x="3581280" y="464832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049"/>
          <p:cNvPicPr/>
          <p:nvPr/>
        </p:nvPicPr>
        <p:blipFill>
          <a:blip r:embed="rId7"/>
          <a:stretch/>
        </p:blipFill>
        <p:spPr>
          <a:xfrm>
            <a:off x="4572000" y="1484280"/>
            <a:ext cx="762120" cy="6778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3">
            <a:hlinkClick r:id="" action="ppaction://hlinkshowjump?jump=nextslide"/>
          </p:cNvPr>
          <p:cNvSpPr/>
          <p:nvPr/>
        </p:nvSpPr>
        <p:spPr>
          <a:xfrm>
            <a:off x="8604360" y="623736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14299" y="12345"/>
                </a:moveTo>
                <a:lnTo>
                  <a:pt x="3794" y="19351"/>
                </a:lnTo>
                <a:lnTo>
                  <a:pt x="3794" y="5338"/>
                </a:lnTo>
                <a:close/>
              </a:path>
              <a:path fill="darken" w="21600" h="24690">
                <a:moveTo>
                  <a:pt x="16144" y="5338"/>
                </a:moveTo>
                <a:lnTo>
                  <a:pt x="16144" y="19351"/>
                </a:lnTo>
                <a:lnTo>
                  <a:pt x="17806" y="19351"/>
                </a:lnTo>
                <a:lnTo>
                  <a:pt x="17806" y="533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矩形 11"/>
          <p:cNvSpPr/>
          <p:nvPr/>
        </p:nvSpPr>
        <p:spPr>
          <a:xfrm>
            <a:off x="1800720" y="60325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143000" y="7621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110f"/>
                </a:solidFill>
                <a:latin typeface="Times New Roman"/>
              </a:rPr>
              <a:t>怎样计算生肖呢</a:t>
            </a:r>
            <a:r>
              <a:rPr b="1" lang="zh-CN" sz="8000" spc="-1" strike="noStrike">
                <a:solidFill>
                  <a:srgbClr val="13110f"/>
                </a:solidFill>
                <a:latin typeface="Times New Roman"/>
              </a:rPr>
              <a:t>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143000" y="220968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记住自己的生肖，</a:t>
            </a:r>
            <a:r>
              <a:rPr b="0" lang="en-US" sz="2400" spc="-1" strike="noStrike">
                <a:solidFill>
                  <a:srgbClr val="13110f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13110f"/>
                </a:solidFill>
                <a:latin typeface="Times New Roman"/>
              </a:rPr>
              <a:t>年为一个轮回。不满一个轮回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110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13110f"/>
                </a:solidFill>
                <a:latin typeface="Times New Roman"/>
              </a:rPr>
              <a:t>的向前或向后推算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例如：我今年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岁，属猪。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岁的就也属猪。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的属兔。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岁的就属蛇。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岁的属马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找个参照年龄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例如：我爸今年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38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岁，出生于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，属羊。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岁的也属羊。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岁的就属蛇。</a:t>
            </a:r>
            <a:r>
              <a:rPr b="1" lang="en-US" sz="2400" spc="-1" strike="noStrike">
                <a:solidFill>
                  <a:srgbClr val="13110f"/>
                </a:solidFill>
                <a:latin typeface="Times New Roman"/>
              </a:rPr>
              <a:t>55</a:t>
            </a:r>
            <a:r>
              <a:rPr b="1" lang="zh-CN" sz="2400" spc="-1" strike="noStrike">
                <a:solidFill>
                  <a:srgbClr val="13110f"/>
                </a:solidFill>
                <a:latin typeface="Times New Roman"/>
              </a:rPr>
              <a:t>岁的就属虎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AutoShape 5">
            <a:hlinkClick r:id="" action="ppaction://hlinkshowjump?jump=next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3794" y="19343"/>
                </a:lnTo>
                <a:lnTo>
                  <a:pt x="3794" y="5330"/>
                </a:lnTo>
                <a:close/>
              </a:path>
              <a:path fill="darken" w="21600" h="24673">
                <a:moveTo>
                  <a:pt x="16144" y="5330"/>
                </a:moveTo>
                <a:lnTo>
                  <a:pt x="16144" y="19343"/>
                </a:lnTo>
                <a:lnTo>
                  <a:pt x="17806" y="19343"/>
                </a:lnTo>
                <a:lnTo>
                  <a:pt x="17806" y="53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1143000" y="914400"/>
            <a:ext cx="6172200" cy="12193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Bookman Old Style"/>
              </a:rPr>
              <a:t>Test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143000" y="274320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测测你的脑子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面有许多年份和年龄，请说出相应的生肖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143000" y="4114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143000" y="39625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7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7"/>
          <p:cNvSpPr/>
          <p:nvPr/>
        </p:nvSpPr>
        <p:spPr>
          <a:xfrm>
            <a:off x="2209680" y="419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8"/>
          <p:cNvSpPr/>
          <p:nvPr/>
        </p:nvSpPr>
        <p:spPr>
          <a:xfrm>
            <a:off x="22096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2209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2209680" y="5867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2096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5029200" y="419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502920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14"/>
          <p:cNvSpPr/>
          <p:nvPr/>
        </p:nvSpPr>
        <p:spPr>
          <a:xfrm>
            <a:off x="502920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Line 15"/>
          <p:cNvSpPr/>
          <p:nvPr/>
        </p:nvSpPr>
        <p:spPr>
          <a:xfrm>
            <a:off x="5029200" y="5867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Line 16"/>
          <p:cNvSpPr/>
          <p:nvPr/>
        </p:nvSpPr>
        <p:spPr>
          <a:xfrm>
            <a:off x="510552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28195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281952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28195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28195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819520" y="6324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23"/>
          <p:cNvSpPr/>
          <p:nvPr/>
        </p:nvSpPr>
        <p:spPr>
          <a:xfrm>
            <a:off x="548640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556272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55627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5562720" y="571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27"/>
          <p:cNvSpPr/>
          <p:nvPr/>
        </p:nvSpPr>
        <p:spPr>
          <a:xfrm>
            <a:off x="56386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AutoShape 28">
            <a:hlinkClick r:id="" action="ppaction://hlinkshowjump?jump=next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3794" y="19343"/>
                </a:lnTo>
                <a:lnTo>
                  <a:pt x="3794" y="5330"/>
                </a:lnTo>
                <a:close/>
              </a:path>
              <a:path fill="darken" w="21600" h="24673">
                <a:moveTo>
                  <a:pt x="16144" y="5330"/>
                </a:moveTo>
                <a:lnTo>
                  <a:pt x="16144" y="19343"/>
                </a:lnTo>
                <a:lnTo>
                  <a:pt x="17806" y="19343"/>
                </a:lnTo>
                <a:lnTo>
                  <a:pt x="17806" y="53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2"/>
          <p:cNvSpPr txBox="1"/>
          <p:nvPr/>
        </p:nvSpPr>
        <p:spPr>
          <a:xfrm>
            <a:off x="1908000" y="1844640"/>
            <a:ext cx="417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5" name="文本框 1"/>
          <p:cNvSpPr/>
          <p:nvPr/>
        </p:nvSpPr>
        <p:spPr>
          <a:xfrm>
            <a:off x="588960" y="1109520"/>
            <a:ext cx="50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33E2-1175-4160-B90E-A411E489E3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使学生知道十二生肖的十二种动物的排列顺序和有关的传说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知道十二生肖每十二年循环一次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知道自己和父母的属相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moban/                  PPT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素材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背景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beijing/                   PPT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图表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xiazai/                     PPT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ziliao/                   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shiti/                     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论坛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语文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yuwen/    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数学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英语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yingyu/    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美术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科学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kexue/     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物理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化学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huaxue/  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生物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地理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dili/          </a:t>
            </a:r>
            <a:r>
              <a:rPr b="0" lang="zh-CN" sz="100" spc="-1" strike="noStrike">
                <a:solidFill>
                  <a:srgbClr val="996600"/>
                </a:solidFill>
                <a:latin typeface="Tahoma"/>
              </a:rPr>
              <a:t>历史课件：</a:t>
            </a:r>
            <a:r>
              <a:rPr b="0" lang="en-US" sz="100" spc="-1" strike="noStrike">
                <a:solidFill>
                  <a:srgbClr val="996600"/>
                </a:solidFill>
                <a:latin typeface="Tahoma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001"/>
          <p:cNvPicPr/>
          <p:nvPr/>
        </p:nvPicPr>
        <p:blipFill>
          <a:blip r:embed="rId1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7"/>
          <p:cNvSpPr/>
          <p:nvPr/>
        </p:nvSpPr>
        <p:spPr>
          <a:xfrm>
            <a:off x="1143000" y="2835360"/>
            <a:ext cx="1327320" cy="83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2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牛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838080" y="2606760"/>
            <a:ext cx="52092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丑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1219320" y="5045040"/>
            <a:ext cx="1314360" cy="82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3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虎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914400" y="4892760"/>
            <a:ext cx="571680" cy="42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1028880" y="1281240"/>
            <a:ext cx="1314360" cy="74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bd71"/>
                </a:solidFill>
                <a:latin typeface="Times New Roman"/>
              </a:rPr>
              <a:t>1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鼠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762120" y="1082520"/>
            <a:ext cx="571320" cy="42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bbd71"/>
                </a:solidFill>
                <a:latin typeface="Times New Roman"/>
              </a:rPr>
              <a:t>子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3048120" y="3525840"/>
            <a:ext cx="1333440" cy="75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5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龙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2666880" y="3444840"/>
            <a:ext cx="571680" cy="42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15"/>
          <p:cNvSpPr/>
          <p:nvPr/>
        </p:nvSpPr>
        <p:spPr>
          <a:xfrm>
            <a:off x="4876920" y="2638440"/>
            <a:ext cx="1371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8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羊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Oval 16"/>
          <p:cNvSpPr/>
          <p:nvPr/>
        </p:nvSpPr>
        <p:spPr>
          <a:xfrm>
            <a:off x="4572000" y="2440080"/>
            <a:ext cx="571680" cy="42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未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Oval 17"/>
          <p:cNvSpPr/>
          <p:nvPr/>
        </p:nvSpPr>
        <p:spPr>
          <a:xfrm>
            <a:off x="5467320" y="1719360"/>
            <a:ext cx="123840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7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马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Oval 18"/>
          <p:cNvSpPr/>
          <p:nvPr/>
        </p:nvSpPr>
        <p:spPr>
          <a:xfrm>
            <a:off x="5086440" y="1600200"/>
            <a:ext cx="571320" cy="42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Oval 19"/>
          <p:cNvSpPr/>
          <p:nvPr/>
        </p:nvSpPr>
        <p:spPr>
          <a:xfrm>
            <a:off x="7620120" y="3809880"/>
            <a:ext cx="13334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12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猪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20"/>
          <p:cNvSpPr/>
          <p:nvPr/>
        </p:nvSpPr>
        <p:spPr>
          <a:xfrm>
            <a:off x="7277040" y="3676680"/>
            <a:ext cx="571680" cy="42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Oval 21"/>
          <p:cNvSpPr/>
          <p:nvPr/>
        </p:nvSpPr>
        <p:spPr>
          <a:xfrm>
            <a:off x="7277040" y="1955880"/>
            <a:ext cx="1333440" cy="71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11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狗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6972480" y="1803240"/>
            <a:ext cx="571320" cy="4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Oval 23"/>
          <p:cNvSpPr/>
          <p:nvPr/>
        </p:nvSpPr>
        <p:spPr>
          <a:xfrm>
            <a:off x="5391000" y="3994200"/>
            <a:ext cx="1390680" cy="74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9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猴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5029200" y="3825720"/>
            <a:ext cx="571680" cy="42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Oval 25"/>
          <p:cNvSpPr/>
          <p:nvPr/>
        </p:nvSpPr>
        <p:spPr>
          <a:xfrm>
            <a:off x="3619440" y="5273640"/>
            <a:ext cx="1314360" cy="74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6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蛇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Oval 26"/>
          <p:cNvSpPr/>
          <p:nvPr/>
        </p:nvSpPr>
        <p:spPr>
          <a:xfrm>
            <a:off x="3200400" y="5197320"/>
            <a:ext cx="571680" cy="42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Oval 27"/>
          <p:cNvSpPr/>
          <p:nvPr/>
        </p:nvSpPr>
        <p:spPr>
          <a:xfrm>
            <a:off x="2876400" y="1555920"/>
            <a:ext cx="1238400" cy="74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4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兔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28"/>
          <p:cNvSpPr/>
          <p:nvPr/>
        </p:nvSpPr>
        <p:spPr>
          <a:xfrm>
            <a:off x="2685960" y="1311120"/>
            <a:ext cx="571680" cy="42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bbd71"/>
                </a:solidFill>
                <a:latin typeface="Times New Roman"/>
              </a:rPr>
              <a:t>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val 29"/>
          <p:cNvSpPr/>
          <p:nvPr/>
        </p:nvSpPr>
        <p:spPr>
          <a:xfrm>
            <a:off x="6324480" y="5257800"/>
            <a:ext cx="1238400" cy="74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bd71"/>
                </a:solidFill>
                <a:latin typeface="Times New Roman"/>
              </a:rPr>
              <a:t>10.</a:t>
            </a:r>
            <a:r>
              <a:rPr b="1" lang="zh-CN" sz="3700" spc="-1" strike="noStrike">
                <a:solidFill>
                  <a:srgbClr val="dbbd71"/>
                </a:solidFill>
                <a:latin typeface="Times New Roman"/>
              </a:rPr>
              <a:t>鸡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Oval 30"/>
          <p:cNvSpPr/>
          <p:nvPr/>
        </p:nvSpPr>
        <p:spPr>
          <a:xfrm>
            <a:off x="5943600" y="5181480"/>
            <a:ext cx="571680" cy="42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bbd71"/>
                </a:solidFill>
                <a:latin typeface="Times New Roman"/>
              </a:rPr>
              <a:t>酉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31">
            <a:hlinkClick r:id="" action="ppaction://hlinkshowjump?jump=next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3794" y="19343"/>
                </a:lnTo>
                <a:lnTo>
                  <a:pt x="3794" y="5330"/>
                </a:lnTo>
                <a:close/>
              </a:path>
              <a:path fill="darken" w="21600" h="24673">
                <a:moveTo>
                  <a:pt x="16144" y="5330"/>
                </a:moveTo>
                <a:lnTo>
                  <a:pt x="16144" y="19343"/>
                </a:lnTo>
                <a:lnTo>
                  <a:pt x="17806" y="19343"/>
                </a:lnTo>
                <a:lnTo>
                  <a:pt x="17806" y="53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35"/>
          <p:cNvSpPr/>
          <p:nvPr/>
        </p:nvSpPr>
        <p:spPr>
          <a:xfrm>
            <a:off x="2819520" y="6094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十二生肖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026"/>
          <p:cNvSpPr/>
          <p:nvPr/>
        </p:nvSpPr>
        <p:spPr>
          <a:xfrm>
            <a:off x="609480" y="1143000"/>
            <a:ext cx="54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27"/>
          <p:cNvSpPr/>
          <p:nvPr/>
        </p:nvSpPr>
        <p:spPr>
          <a:xfrm>
            <a:off x="-819720" y="836640"/>
            <a:ext cx="18262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十二生肖的来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1028"/>
          <p:cNvSpPr/>
          <p:nvPr/>
        </p:nvSpPr>
        <p:spPr>
          <a:xfrm>
            <a:off x="971640" y="333360"/>
            <a:ext cx="817236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我国古籍中记载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国古代的中原地区，最初使用的是“干支 纪年法”，即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天干符号甲、乙、丙、丁、戊、己、庚、辛、壬、癸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地支符号子 、丑、寅、卯、辰、巳、午、未、申、酉、戌、亥相配合来纪年。在我国西北地区的少数游牧民族则以动物来纪年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唐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记载：“黠戛斯国以十二物纪年，如岁在寅，则曰虎年。”另外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宋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吐蕃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也记载说，吐蕃首领在叙事时，以物纪年，所谓“道旧事则数十二辰属日，兔年如此，马年如此。”以后，在中原同少数民族的交往中，两种纪年法相 互触合形成现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肖。正像清代赵翼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陔余丛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指出的那样，“盖北俗初无所谓子 丑寅卯之十二辰，但以鼠牛虎兔之类分纪岁时，浸寻流传于中国，遂相沿不废耳。”这种关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肖来历的解释，已经被许多人认可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1029">
            <a:hlinkClick r:id="" action="ppaction://hlinkshowjump?jump=next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3794" y="19343"/>
                </a:lnTo>
                <a:lnTo>
                  <a:pt x="3794" y="5330"/>
                </a:lnTo>
                <a:close/>
              </a:path>
              <a:path fill="darken" w="21600" h="24673">
                <a:moveTo>
                  <a:pt x="16144" y="5330"/>
                </a:moveTo>
                <a:lnTo>
                  <a:pt x="16144" y="19343"/>
                </a:lnTo>
                <a:lnTo>
                  <a:pt x="17806" y="19343"/>
                </a:lnTo>
                <a:lnTo>
                  <a:pt x="17806" y="53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另外，关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肖来历的说法还有：洪巽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阳谷漫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说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支中位居奇数者，以动物的指或蹄也为奇数相配，如子位居首位，与它相配的鼠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，地支中居偶数位的，则取相属之偶数以为名，如牛与丑相配，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爪。叶世杰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草木子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，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肖的来历解释为：术家以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肖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辰，每肖各有不足之形焉，如鼠无牙、牛无 齿、虎无脾、兔无唇、龙无耳、蛇无足、马无胆、羊无瞳、猴无臀、鸡无肾、犬无胃、猪无 筋、人则无不足。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其它的说法还有种种。诸如：黄帝要选拔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动物在天上按时值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过竞赛而选中了鼠 、牛、虎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动物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肖来源于原始社会一些氏族的图腾崇拜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肖可能是从天竺引 进的；或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星宿分布周天，以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时辰。每个星宿都以一种动物命名。从每个时辰值班的动物中挑选某种常见的作某一年的代称等等，不一而足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3">
            <a:hlinkClick r:id="" action="ppaction://hlinkshowjump?jump=next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3794" y="19343"/>
                </a:lnTo>
                <a:lnTo>
                  <a:pt x="3794" y="5330"/>
                </a:lnTo>
                <a:close/>
              </a:path>
              <a:path fill="darken" w="21600" h="24673">
                <a:moveTo>
                  <a:pt x="16144" y="5330"/>
                </a:moveTo>
                <a:lnTo>
                  <a:pt x="16144" y="19343"/>
                </a:lnTo>
                <a:lnTo>
                  <a:pt x="17806" y="19343"/>
                </a:lnTo>
                <a:lnTo>
                  <a:pt x="17806" y="53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3419640" y="4762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传 说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179280" y="1484280"/>
            <a:ext cx="89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你知道自己属什么吗？为什么有属老鼠的，没有属猫的呢？这里有个故事。很久很久以前，有一天，人们说：“我们要选十二种动物作为人的生肖，一年一种动物。”天下的动物有多少呀？怎么个选法呢？这样吧，定好一个日子，这一天，动物们来报名，就选先到的十二种动物为十二生肖。 　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       猫和老鼠是邻居，又是好朋友，它们都想去报名。猫说：“咱们得一早起来去报名，可是我爱睡懒觉，怎么办呢？”老鼠说：“别着急，别着急，你尽管睡你的大觉，我一醒来，就去叫你，咱们一块儿去。”猫听了很高兴，说：“你真是我的好朋友，谢谢你了。” 　　 　　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  到了报名那天早晨，老鼠早就醒来了，可是它光想到自己的事，把好朋友猫的事给忘了。就自己去报名了。 　　 　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   结果，老鼠被选上了。猫呢？猫因为睡懒觉，起床太迟了，等它赶到时，十二种动物已被选定了。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   猫没有被选上，就生老鼠的气，怪老鼠没有叫它，从这以后，猫见了老鼠就要吃它，老鼠就只好拼命地逃。现在还是这样。 　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       十二生肖的顺序是：鼠、牛、虎、兔、龙、蛇、马、羊、猴、鸡、狗、猪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16">
            <a:hlinkClick r:id="" action="ppaction://hlinkshowjump?jump=next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3794" y="19343"/>
                </a:lnTo>
                <a:lnTo>
                  <a:pt x="3794" y="5330"/>
                </a:lnTo>
                <a:close/>
              </a:path>
              <a:path fill="darken" w="21600" h="24673">
                <a:moveTo>
                  <a:pt x="16144" y="5330"/>
                </a:moveTo>
                <a:lnTo>
                  <a:pt x="16144" y="19343"/>
                </a:lnTo>
                <a:lnTo>
                  <a:pt x="17806" y="19343"/>
                </a:lnTo>
                <a:lnTo>
                  <a:pt x="17806" y="53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457200"/>
            <a:ext cx="830592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怎么让</a:t>
            </a:r>
            <a:r>
              <a:rPr b="1" lang="zh-CN" sz="4600" spc="-1" strike="noStrike">
                <a:solidFill>
                  <a:srgbClr val="ff0000"/>
                </a:solidFill>
                <a:latin typeface="Times New Roman"/>
              </a:rPr>
              <a:t>小小的老鼠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排在第一名呢</a:t>
            </a:r>
            <a:r>
              <a:rPr b="1" lang="zh-CN" sz="81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0" lang="en-US" sz="8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报名那天，老鼠起得很早，牛也起得很早。它们在路上碰到了。牛个头大，迈的步子也大，老鼠个头小，迈得步子也小，老鼠跑得上气不接下气，才刚刚跟上牛。老鼠心里想：路还远着呢，我快跑不动了，这可怎么办？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　  它脑子一动，想出个主意来，就对牛说：“牛兄弟，牛兄弟，我来给你唱个歌。”牛说：“好啊，你唱吧－－－咦，你怎么不唱呀？”老鼠说：“我在唱哩，你怎么没听见？哦，我的嗓们太细了，你没听见。这样吧，让我骑在你的脖子上，唱起歌来，你就听见了。”牛说：“行罗，行罗！”老鼠就沿着牛腿子一直爬上了牛脖子，让牛驮着它走，可舒服了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它摇头晃脑的，真的唱起歌来：牛兄弟，牛兄弟，过小河，爬山坡，驾，驾，快点儿罗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牛一听，乐了，撒开四条腿使劲跑，跑到报名的地方一看，谁也没来，高兴得昂昂地叫起来：“我是第一名，我是第一名！”牛还没吧话说完，老鼠从牛脖子上一蹦，蹦到地上，吱溜一蹿，蹿到牛前面去了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结果是老鼠得了第一名，牛得了第二名，所以，在十二生肖里，小小的老鼠给排在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最前面了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WordArt 3"/>
          <p:cNvSpPr txBox="1"/>
          <p:nvPr/>
        </p:nvSpPr>
        <p:spPr>
          <a:xfrm>
            <a:off x="6629400" y="5819760"/>
            <a:ext cx="13431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NO.1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AutoShape 4">
            <a:hlinkClick r:id="" action="ppaction://hlinkshowjump?jump=next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3794" y="19343"/>
                </a:lnTo>
                <a:lnTo>
                  <a:pt x="3794" y="5330"/>
                </a:lnTo>
                <a:close/>
              </a:path>
              <a:path fill="darken" w="21600" h="24673">
                <a:moveTo>
                  <a:pt x="16144" y="5330"/>
                </a:moveTo>
                <a:lnTo>
                  <a:pt x="16144" y="19343"/>
                </a:lnTo>
                <a:lnTo>
                  <a:pt x="17806" y="19343"/>
                </a:lnTo>
                <a:lnTo>
                  <a:pt x="17806" y="53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62120" y="1295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AutoShape 3"/>
          <p:cNvSpPr/>
          <p:nvPr/>
        </p:nvSpPr>
        <p:spPr>
          <a:xfrm rot="13927800">
            <a:off x="6516000" y="4608000"/>
            <a:ext cx="1901880" cy="1371600"/>
          </a:xfrm>
          <a:prstGeom prst="rightArrow">
            <a:avLst>
              <a:gd name="adj1" fmla="val 50000"/>
              <a:gd name="adj2" fmla="val 34646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 rot="19317600">
            <a:off x="7318800" y="472284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小调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4" name="Group 363"/>
          <p:cNvGrpSpPr/>
          <p:nvPr/>
        </p:nvGrpSpPr>
        <p:grpSpPr>
          <a:xfrm>
            <a:off x="1434960" y="981000"/>
            <a:ext cx="4889520" cy="5648400"/>
            <a:chOff x="1434960" y="981000"/>
            <a:chExt cx="4889520" cy="5648400"/>
          </a:xfrm>
        </p:grpSpPr>
        <p:grpSp>
          <p:nvGrpSpPr>
            <p:cNvPr id="215" name="Group 364"/>
            <p:cNvGrpSpPr/>
            <p:nvPr/>
          </p:nvGrpSpPr>
          <p:grpSpPr>
            <a:xfrm>
              <a:off x="1439640" y="985680"/>
              <a:ext cx="4879800" cy="5638680"/>
              <a:chOff x="1439640" y="985680"/>
              <a:chExt cx="4879800" cy="5638680"/>
            </a:xfrm>
          </p:grpSpPr>
          <p:grpSp>
            <p:nvGrpSpPr>
              <p:cNvPr id="216" name="Group 365"/>
              <p:cNvGrpSpPr/>
              <p:nvPr/>
            </p:nvGrpSpPr>
            <p:grpSpPr>
              <a:xfrm>
                <a:off x="1439640" y="985680"/>
                <a:ext cx="1003320" cy="762120"/>
                <a:chOff x="1439640" y="985680"/>
                <a:chExt cx="1003320" cy="762120"/>
              </a:xfrm>
            </p:grpSpPr>
            <p:sp>
              <p:nvSpPr>
                <p:cNvPr id="217" name="Rectangle 366"/>
                <p:cNvSpPr/>
                <p:nvPr/>
              </p:nvSpPr>
              <p:spPr>
                <a:xfrm>
                  <a:off x="1508040" y="985680"/>
                  <a:ext cx="866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5b5249"/>
                      </a:solidFill>
                      <a:latin typeface="Times New Roman"/>
                    </a:rPr>
                    <a:t>人物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Rectangle 367"/>
                <p:cNvSpPr/>
                <p:nvPr/>
              </p:nvSpPr>
              <p:spPr>
                <a:xfrm>
                  <a:off x="1439640" y="985680"/>
                  <a:ext cx="10033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9" name="Group 368"/>
              <p:cNvGrpSpPr/>
              <p:nvPr/>
            </p:nvGrpSpPr>
            <p:grpSpPr>
              <a:xfrm>
                <a:off x="2442960" y="985680"/>
                <a:ext cx="1336680" cy="762120"/>
                <a:chOff x="2442960" y="985680"/>
                <a:chExt cx="1336680" cy="762120"/>
              </a:xfrm>
            </p:grpSpPr>
            <p:sp>
              <p:nvSpPr>
                <p:cNvPr id="220" name="Rectangle 369"/>
                <p:cNvSpPr/>
                <p:nvPr/>
              </p:nvSpPr>
              <p:spPr>
                <a:xfrm>
                  <a:off x="2511360" y="985680"/>
                  <a:ext cx="11998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5b5249"/>
                      </a:solidFill>
                      <a:latin typeface="Times New Roman"/>
                    </a:rPr>
                    <a:t>年龄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Rectangle 370"/>
                <p:cNvSpPr/>
                <p:nvPr/>
              </p:nvSpPr>
              <p:spPr>
                <a:xfrm>
                  <a:off x="2442960" y="985680"/>
                  <a:ext cx="1336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2" name="Group 371"/>
              <p:cNvGrpSpPr/>
              <p:nvPr/>
            </p:nvGrpSpPr>
            <p:grpSpPr>
              <a:xfrm>
                <a:off x="3779640" y="985680"/>
                <a:ext cx="1403280" cy="762120"/>
                <a:chOff x="3779640" y="985680"/>
                <a:chExt cx="1403280" cy="762120"/>
              </a:xfrm>
            </p:grpSpPr>
            <p:sp>
              <p:nvSpPr>
                <p:cNvPr id="223" name="Rectangle 372"/>
                <p:cNvSpPr/>
                <p:nvPr/>
              </p:nvSpPr>
              <p:spPr>
                <a:xfrm>
                  <a:off x="3848040" y="985680"/>
                  <a:ext cx="1266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5b5249"/>
                      </a:solidFill>
                      <a:latin typeface="Times New Roman"/>
                    </a:rPr>
                    <a:t>出生年份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Rectangle 373"/>
                <p:cNvSpPr/>
                <p:nvPr/>
              </p:nvSpPr>
              <p:spPr>
                <a:xfrm>
                  <a:off x="3779640" y="985680"/>
                  <a:ext cx="14032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5" name="Group 374"/>
              <p:cNvGrpSpPr/>
              <p:nvPr/>
            </p:nvGrpSpPr>
            <p:grpSpPr>
              <a:xfrm>
                <a:off x="5182920" y="985680"/>
                <a:ext cx="1136520" cy="762120"/>
                <a:chOff x="5182920" y="985680"/>
                <a:chExt cx="1136520" cy="762120"/>
              </a:xfrm>
            </p:grpSpPr>
            <p:sp>
              <p:nvSpPr>
                <p:cNvPr id="226" name="Rectangle 375"/>
                <p:cNvSpPr/>
                <p:nvPr/>
              </p:nvSpPr>
              <p:spPr>
                <a:xfrm>
                  <a:off x="5251320" y="985680"/>
                  <a:ext cx="1000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5b5249"/>
                      </a:solidFill>
                      <a:latin typeface="Times New Roman"/>
                    </a:rPr>
                    <a:t>属相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Rectangle 376"/>
                <p:cNvSpPr/>
                <p:nvPr/>
              </p:nvSpPr>
              <p:spPr>
                <a:xfrm>
                  <a:off x="5182920" y="985680"/>
                  <a:ext cx="11365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8" name="Group 377"/>
              <p:cNvGrpSpPr/>
              <p:nvPr/>
            </p:nvGrpSpPr>
            <p:grpSpPr>
              <a:xfrm>
                <a:off x="1439640" y="1747800"/>
                <a:ext cx="1003320" cy="609480"/>
                <a:chOff x="1439640" y="1747800"/>
                <a:chExt cx="1003320" cy="609480"/>
              </a:xfrm>
            </p:grpSpPr>
            <p:sp>
              <p:nvSpPr>
                <p:cNvPr id="229" name="Rectangle 378"/>
                <p:cNvSpPr/>
                <p:nvPr/>
              </p:nvSpPr>
              <p:spPr>
                <a:xfrm>
                  <a:off x="1508040" y="1747800"/>
                  <a:ext cx="8665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爷爷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0" name="Rectangle 379"/>
                <p:cNvSpPr/>
                <p:nvPr/>
              </p:nvSpPr>
              <p:spPr>
                <a:xfrm>
                  <a:off x="1439640" y="1747800"/>
                  <a:ext cx="1003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1" name="Group 380"/>
              <p:cNvGrpSpPr/>
              <p:nvPr/>
            </p:nvGrpSpPr>
            <p:grpSpPr>
              <a:xfrm>
                <a:off x="2442960" y="1747800"/>
                <a:ext cx="1336680" cy="609480"/>
                <a:chOff x="2442960" y="1747800"/>
                <a:chExt cx="1336680" cy="609480"/>
              </a:xfrm>
            </p:grpSpPr>
            <p:sp>
              <p:nvSpPr>
                <p:cNvPr id="232" name="Rectangle 381"/>
                <p:cNvSpPr/>
                <p:nvPr/>
              </p:nvSpPr>
              <p:spPr>
                <a:xfrm>
                  <a:off x="2511360" y="174780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64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Rectangle 382"/>
                <p:cNvSpPr/>
                <p:nvPr/>
              </p:nvSpPr>
              <p:spPr>
                <a:xfrm>
                  <a:off x="2442960" y="174780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4" name="Group 383"/>
              <p:cNvGrpSpPr/>
              <p:nvPr/>
            </p:nvGrpSpPr>
            <p:grpSpPr>
              <a:xfrm>
                <a:off x="3779640" y="1747800"/>
                <a:ext cx="1403280" cy="609480"/>
                <a:chOff x="3779640" y="1747800"/>
                <a:chExt cx="1403280" cy="609480"/>
              </a:xfrm>
            </p:grpSpPr>
            <p:sp>
              <p:nvSpPr>
                <p:cNvPr id="235" name="Rectangle 384"/>
                <p:cNvSpPr/>
                <p:nvPr/>
              </p:nvSpPr>
              <p:spPr>
                <a:xfrm>
                  <a:off x="3848040" y="1747800"/>
                  <a:ext cx="1266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19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6" name="Rectangle 385"/>
                <p:cNvSpPr/>
                <p:nvPr/>
              </p:nvSpPr>
              <p:spPr>
                <a:xfrm>
                  <a:off x="3779640" y="1747800"/>
                  <a:ext cx="140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7" name="Group 386"/>
              <p:cNvGrpSpPr/>
              <p:nvPr/>
            </p:nvGrpSpPr>
            <p:grpSpPr>
              <a:xfrm>
                <a:off x="5182920" y="1747800"/>
                <a:ext cx="1136520" cy="609480"/>
                <a:chOff x="5182920" y="1747800"/>
                <a:chExt cx="1136520" cy="609480"/>
              </a:xfrm>
            </p:grpSpPr>
            <p:sp>
              <p:nvSpPr>
                <p:cNvPr id="238" name="Rectangle 387"/>
                <p:cNvSpPr/>
                <p:nvPr/>
              </p:nvSpPr>
              <p:spPr>
                <a:xfrm>
                  <a:off x="5251320" y="1747800"/>
                  <a:ext cx="10000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蛇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9" name="Rectangle 388"/>
                <p:cNvSpPr/>
                <p:nvPr/>
              </p:nvSpPr>
              <p:spPr>
                <a:xfrm>
                  <a:off x="5182920" y="1747800"/>
                  <a:ext cx="1136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0" name="Group 389"/>
              <p:cNvGrpSpPr/>
              <p:nvPr/>
            </p:nvGrpSpPr>
            <p:grpSpPr>
              <a:xfrm>
                <a:off x="1439640" y="2357280"/>
                <a:ext cx="1003320" cy="609480"/>
                <a:chOff x="1439640" y="2357280"/>
                <a:chExt cx="1003320" cy="609480"/>
              </a:xfrm>
            </p:grpSpPr>
            <p:sp>
              <p:nvSpPr>
                <p:cNvPr id="241" name="Rectangle 390"/>
                <p:cNvSpPr/>
                <p:nvPr/>
              </p:nvSpPr>
              <p:spPr>
                <a:xfrm>
                  <a:off x="1508040" y="2357280"/>
                  <a:ext cx="8665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奶奶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2" name="Rectangle 391"/>
                <p:cNvSpPr/>
                <p:nvPr/>
              </p:nvSpPr>
              <p:spPr>
                <a:xfrm>
                  <a:off x="1439640" y="2357280"/>
                  <a:ext cx="1003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3" name="Group 392"/>
              <p:cNvGrpSpPr/>
              <p:nvPr/>
            </p:nvGrpSpPr>
            <p:grpSpPr>
              <a:xfrm>
                <a:off x="2442960" y="2357280"/>
                <a:ext cx="1336680" cy="609480"/>
                <a:chOff x="2442960" y="2357280"/>
                <a:chExt cx="1336680" cy="609480"/>
              </a:xfrm>
            </p:grpSpPr>
            <p:sp>
              <p:nvSpPr>
                <p:cNvPr id="244" name="Rectangle 393"/>
                <p:cNvSpPr/>
                <p:nvPr/>
              </p:nvSpPr>
              <p:spPr>
                <a:xfrm>
                  <a:off x="2511360" y="235728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60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5" name="Rectangle 394"/>
                <p:cNvSpPr/>
                <p:nvPr/>
              </p:nvSpPr>
              <p:spPr>
                <a:xfrm>
                  <a:off x="2442960" y="235728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6" name="Group 395"/>
              <p:cNvGrpSpPr/>
              <p:nvPr/>
            </p:nvGrpSpPr>
            <p:grpSpPr>
              <a:xfrm>
                <a:off x="3779640" y="2357280"/>
                <a:ext cx="1403280" cy="609480"/>
                <a:chOff x="3779640" y="2357280"/>
                <a:chExt cx="1403280" cy="609480"/>
              </a:xfrm>
            </p:grpSpPr>
            <p:sp>
              <p:nvSpPr>
                <p:cNvPr id="247" name="Rectangle 396"/>
                <p:cNvSpPr/>
                <p:nvPr/>
              </p:nvSpPr>
              <p:spPr>
                <a:xfrm>
                  <a:off x="3848040" y="2357280"/>
                  <a:ext cx="1266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1944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8" name="Rectangle 397"/>
                <p:cNvSpPr/>
                <p:nvPr/>
              </p:nvSpPr>
              <p:spPr>
                <a:xfrm>
                  <a:off x="3779640" y="2357280"/>
                  <a:ext cx="140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9" name="Group 398"/>
              <p:cNvGrpSpPr/>
              <p:nvPr/>
            </p:nvGrpSpPr>
            <p:grpSpPr>
              <a:xfrm>
                <a:off x="5182920" y="2357280"/>
                <a:ext cx="1136520" cy="609480"/>
                <a:chOff x="5182920" y="2357280"/>
                <a:chExt cx="1136520" cy="609480"/>
              </a:xfrm>
            </p:grpSpPr>
            <p:sp>
              <p:nvSpPr>
                <p:cNvPr id="250" name="Rectangle 399"/>
                <p:cNvSpPr/>
                <p:nvPr/>
              </p:nvSpPr>
              <p:spPr>
                <a:xfrm>
                  <a:off x="5251320" y="2357280"/>
                  <a:ext cx="10000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鸡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1" name="Rectangle 400"/>
                <p:cNvSpPr/>
                <p:nvPr/>
              </p:nvSpPr>
              <p:spPr>
                <a:xfrm>
                  <a:off x="5182920" y="2357280"/>
                  <a:ext cx="1136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2" name="Group 401"/>
              <p:cNvGrpSpPr/>
              <p:nvPr/>
            </p:nvGrpSpPr>
            <p:grpSpPr>
              <a:xfrm>
                <a:off x="1439640" y="2966760"/>
                <a:ext cx="1003320" cy="609840"/>
                <a:chOff x="1439640" y="2966760"/>
                <a:chExt cx="1003320" cy="609840"/>
              </a:xfrm>
            </p:grpSpPr>
            <p:sp>
              <p:nvSpPr>
                <p:cNvPr id="253" name="Rectangle 402"/>
                <p:cNvSpPr/>
                <p:nvPr/>
              </p:nvSpPr>
              <p:spPr>
                <a:xfrm>
                  <a:off x="1508040" y="2966760"/>
                  <a:ext cx="8665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爸爸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Rectangle 403"/>
                <p:cNvSpPr/>
                <p:nvPr/>
              </p:nvSpPr>
              <p:spPr>
                <a:xfrm>
                  <a:off x="1439640" y="2966760"/>
                  <a:ext cx="10033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404"/>
              <p:cNvGrpSpPr/>
              <p:nvPr/>
            </p:nvGrpSpPr>
            <p:grpSpPr>
              <a:xfrm>
                <a:off x="2442960" y="2966760"/>
                <a:ext cx="1336680" cy="609840"/>
                <a:chOff x="2442960" y="2966760"/>
                <a:chExt cx="1336680" cy="609840"/>
              </a:xfrm>
            </p:grpSpPr>
            <p:sp>
              <p:nvSpPr>
                <p:cNvPr id="256" name="Rectangle 405"/>
                <p:cNvSpPr/>
                <p:nvPr/>
              </p:nvSpPr>
              <p:spPr>
                <a:xfrm>
                  <a:off x="2511360" y="2966760"/>
                  <a:ext cx="1199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38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7" name="Rectangle 406"/>
                <p:cNvSpPr/>
                <p:nvPr/>
              </p:nvSpPr>
              <p:spPr>
                <a:xfrm>
                  <a:off x="2442960" y="2966760"/>
                  <a:ext cx="13366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8" name="Group 407"/>
              <p:cNvGrpSpPr/>
              <p:nvPr/>
            </p:nvGrpSpPr>
            <p:grpSpPr>
              <a:xfrm>
                <a:off x="3779640" y="2966760"/>
                <a:ext cx="1403280" cy="609840"/>
                <a:chOff x="3779640" y="2966760"/>
                <a:chExt cx="1403280" cy="609840"/>
              </a:xfrm>
            </p:grpSpPr>
            <p:sp>
              <p:nvSpPr>
                <p:cNvPr id="259" name="Rectangle 408"/>
                <p:cNvSpPr/>
                <p:nvPr/>
              </p:nvSpPr>
              <p:spPr>
                <a:xfrm>
                  <a:off x="3848040" y="2966760"/>
                  <a:ext cx="1266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1966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0" name="Rectangle 409"/>
                <p:cNvSpPr/>
                <p:nvPr/>
              </p:nvSpPr>
              <p:spPr>
                <a:xfrm>
                  <a:off x="3779640" y="2966760"/>
                  <a:ext cx="14032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1" name="Group 410"/>
              <p:cNvGrpSpPr/>
              <p:nvPr/>
            </p:nvGrpSpPr>
            <p:grpSpPr>
              <a:xfrm>
                <a:off x="5182920" y="2966760"/>
                <a:ext cx="1136520" cy="609840"/>
                <a:chOff x="5182920" y="2966760"/>
                <a:chExt cx="1136520" cy="609840"/>
              </a:xfrm>
            </p:grpSpPr>
            <p:sp>
              <p:nvSpPr>
                <p:cNvPr id="262" name="Rectangle 411"/>
                <p:cNvSpPr/>
                <p:nvPr/>
              </p:nvSpPr>
              <p:spPr>
                <a:xfrm>
                  <a:off x="5251320" y="2966760"/>
                  <a:ext cx="10000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羊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3" name="Rectangle 412"/>
                <p:cNvSpPr/>
                <p:nvPr/>
              </p:nvSpPr>
              <p:spPr>
                <a:xfrm>
                  <a:off x="5182920" y="2966760"/>
                  <a:ext cx="1136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4" name="Group 413"/>
              <p:cNvGrpSpPr/>
              <p:nvPr/>
            </p:nvGrpSpPr>
            <p:grpSpPr>
              <a:xfrm>
                <a:off x="1439640" y="3576600"/>
                <a:ext cx="1003320" cy="609480"/>
                <a:chOff x="1439640" y="3576600"/>
                <a:chExt cx="1003320" cy="609480"/>
              </a:xfrm>
            </p:grpSpPr>
            <p:sp>
              <p:nvSpPr>
                <p:cNvPr id="265" name="Rectangle 414"/>
                <p:cNvSpPr/>
                <p:nvPr/>
              </p:nvSpPr>
              <p:spPr>
                <a:xfrm>
                  <a:off x="1508040" y="3576600"/>
                  <a:ext cx="8665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妈妈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6" name="Rectangle 415"/>
                <p:cNvSpPr/>
                <p:nvPr/>
              </p:nvSpPr>
              <p:spPr>
                <a:xfrm>
                  <a:off x="1439640" y="3576600"/>
                  <a:ext cx="1003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416"/>
              <p:cNvGrpSpPr/>
              <p:nvPr/>
            </p:nvGrpSpPr>
            <p:grpSpPr>
              <a:xfrm>
                <a:off x="2442960" y="3576600"/>
                <a:ext cx="1336680" cy="609480"/>
                <a:chOff x="2442960" y="3576600"/>
                <a:chExt cx="1336680" cy="609480"/>
              </a:xfrm>
            </p:grpSpPr>
            <p:sp>
              <p:nvSpPr>
                <p:cNvPr id="268" name="Rectangle 417"/>
                <p:cNvSpPr/>
                <p:nvPr/>
              </p:nvSpPr>
              <p:spPr>
                <a:xfrm>
                  <a:off x="2511360" y="357660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9" name="Rectangle 418"/>
                <p:cNvSpPr/>
                <p:nvPr/>
              </p:nvSpPr>
              <p:spPr>
                <a:xfrm>
                  <a:off x="2442960" y="357660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70" name="Group 419"/>
              <p:cNvGrpSpPr/>
              <p:nvPr/>
            </p:nvGrpSpPr>
            <p:grpSpPr>
              <a:xfrm>
                <a:off x="3779640" y="3576600"/>
                <a:ext cx="1403280" cy="609480"/>
                <a:chOff x="3779640" y="3576600"/>
                <a:chExt cx="1403280" cy="609480"/>
              </a:xfrm>
            </p:grpSpPr>
            <p:sp>
              <p:nvSpPr>
                <p:cNvPr id="271" name="Rectangle 420"/>
                <p:cNvSpPr/>
                <p:nvPr/>
              </p:nvSpPr>
              <p:spPr>
                <a:xfrm>
                  <a:off x="3848040" y="3576600"/>
                  <a:ext cx="1266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1967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2" name="Rectangle 421"/>
                <p:cNvSpPr/>
                <p:nvPr/>
              </p:nvSpPr>
              <p:spPr>
                <a:xfrm>
                  <a:off x="3779640" y="3576600"/>
                  <a:ext cx="140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73" name="Group 422"/>
              <p:cNvGrpSpPr/>
              <p:nvPr/>
            </p:nvGrpSpPr>
            <p:grpSpPr>
              <a:xfrm>
                <a:off x="5182920" y="3576600"/>
                <a:ext cx="1136520" cy="609480"/>
                <a:chOff x="5182920" y="3576600"/>
                <a:chExt cx="1136520" cy="609480"/>
              </a:xfrm>
            </p:grpSpPr>
            <p:sp>
              <p:nvSpPr>
                <p:cNvPr id="274" name="Rectangle 423"/>
                <p:cNvSpPr/>
                <p:nvPr/>
              </p:nvSpPr>
              <p:spPr>
                <a:xfrm>
                  <a:off x="5251320" y="3576600"/>
                  <a:ext cx="10000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马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5" name="Rectangle 424"/>
                <p:cNvSpPr/>
                <p:nvPr/>
              </p:nvSpPr>
              <p:spPr>
                <a:xfrm>
                  <a:off x="5182920" y="3576600"/>
                  <a:ext cx="1136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76" name="Group 425"/>
              <p:cNvGrpSpPr/>
              <p:nvPr/>
            </p:nvGrpSpPr>
            <p:grpSpPr>
              <a:xfrm>
                <a:off x="1439640" y="4186080"/>
                <a:ext cx="1003320" cy="609480"/>
                <a:chOff x="1439640" y="4186080"/>
                <a:chExt cx="1003320" cy="609480"/>
              </a:xfrm>
            </p:grpSpPr>
            <p:sp>
              <p:nvSpPr>
                <p:cNvPr id="277" name="Rectangle 426"/>
                <p:cNvSpPr/>
                <p:nvPr/>
              </p:nvSpPr>
              <p:spPr>
                <a:xfrm>
                  <a:off x="1508040" y="4186080"/>
                  <a:ext cx="8665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我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8" name="Rectangle 427"/>
                <p:cNvSpPr/>
                <p:nvPr/>
              </p:nvSpPr>
              <p:spPr>
                <a:xfrm>
                  <a:off x="1439640" y="4186080"/>
                  <a:ext cx="1003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79" name="Group 428"/>
              <p:cNvGrpSpPr/>
              <p:nvPr/>
            </p:nvGrpSpPr>
            <p:grpSpPr>
              <a:xfrm>
                <a:off x="2442960" y="4186080"/>
                <a:ext cx="1336680" cy="609480"/>
                <a:chOff x="2442960" y="4186080"/>
                <a:chExt cx="1336680" cy="609480"/>
              </a:xfrm>
            </p:grpSpPr>
            <p:sp>
              <p:nvSpPr>
                <p:cNvPr id="280" name="Rectangle 429"/>
                <p:cNvSpPr/>
                <p:nvPr/>
              </p:nvSpPr>
              <p:spPr>
                <a:xfrm>
                  <a:off x="2511360" y="418608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1" name="Rectangle 430"/>
                <p:cNvSpPr/>
                <p:nvPr/>
              </p:nvSpPr>
              <p:spPr>
                <a:xfrm>
                  <a:off x="2442960" y="418608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2" name="Group 431"/>
              <p:cNvGrpSpPr/>
              <p:nvPr/>
            </p:nvGrpSpPr>
            <p:grpSpPr>
              <a:xfrm>
                <a:off x="3779640" y="4186080"/>
                <a:ext cx="1403280" cy="609480"/>
                <a:chOff x="3779640" y="4186080"/>
                <a:chExt cx="1403280" cy="609480"/>
              </a:xfrm>
            </p:grpSpPr>
            <p:sp>
              <p:nvSpPr>
                <p:cNvPr id="283" name="Rectangle 432"/>
                <p:cNvSpPr/>
                <p:nvPr/>
              </p:nvSpPr>
              <p:spPr>
                <a:xfrm>
                  <a:off x="3848040" y="4186080"/>
                  <a:ext cx="1266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1994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4" name="Rectangle 433"/>
                <p:cNvSpPr/>
                <p:nvPr/>
              </p:nvSpPr>
              <p:spPr>
                <a:xfrm>
                  <a:off x="3779640" y="4186080"/>
                  <a:ext cx="140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5" name="Group 434"/>
              <p:cNvGrpSpPr/>
              <p:nvPr/>
            </p:nvGrpSpPr>
            <p:grpSpPr>
              <a:xfrm>
                <a:off x="5182920" y="4186080"/>
                <a:ext cx="1136520" cy="609480"/>
                <a:chOff x="5182920" y="4186080"/>
                <a:chExt cx="1136520" cy="609480"/>
              </a:xfrm>
            </p:grpSpPr>
            <p:sp>
              <p:nvSpPr>
                <p:cNvPr id="286" name="Rectangle 435"/>
                <p:cNvSpPr/>
                <p:nvPr/>
              </p:nvSpPr>
              <p:spPr>
                <a:xfrm>
                  <a:off x="5251320" y="4186080"/>
                  <a:ext cx="10000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猪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7" name="Rectangle 436"/>
                <p:cNvSpPr/>
                <p:nvPr/>
              </p:nvSpPr>
              <p:spPr>
                <a:xfrm>
                  <a:off x="5182920" y="4186080"/>
                  <a:ext cx="1136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8" name="Group 437"/>
              <p:cNvGrpSpPr/>
              <p:nvPr/>
            </p:nvGrpSpPr>
            <p:grpSpPr>
              <a:xfrm>
                <a:off x="1439640" y="4795560"/>
                <a:ext cx="1003320" cy="609840"/>
                <a:chOff x="1439640" y="4795560"/>
                <a:chExt cx="1003320" cy="609840"/>
              </a:xfrm>
            </p:grpSpPr>
            <p:sp>
              <p:nvSpPr>
                <p:cNvPr id="289" name="Rectangle 438"/>
                <p:cNvSpPr/>
                <p:nvPr/>
              </p:nvSpPr>
              <p:spPr>
                <a:xfrm>
                  <a:off x="1508040" y="4795560"/>
                  <a:ext cx="8665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0" name="Rectangle 439"/>
                <p:cNvSpPr/>
                <p:nvPr/>
              </p:nvSpPr>
              <p:spPr>
                <a:xfrm>
                  <a:off x="1439640" y="4795560"/>
                  <a:ext cx="10033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1" name="Group 440"/>
              <p:cNvGrpSpPr/>
              <p:nvPr/>
            </p:nvGrpSpPr>
            <p:grpSpPr>
              <a:xfrm>
                <a:off x="2442960" y="4795560"/>
                <a:ext cx="1336680" cy="609840"/>
                <a:chOff x="2442960" y="4795560"/>
                <a:chExt cx="1336680" cy="609840"/>
              </a:xfrm>
            </p:grpSpPr>
            <p:sp>
              <p:nvSpPr>
                <p:cNvPr id="292" name="Rectangle 441"/>
                <p:cNvSpPr/>
                <p:nvPr/>
              </p:nvSpPr>
              <p:spPr>
                <a:xfrm>
                  <a:off x="2511360" y="4795560"/>
                  <a:ext cx="1199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" name="Rectangle 442"/>
                <p:cNvSpPr/>
                <p:nvPr/>
              </p:nvSpPr>
              <p:spPr>
                <a:xfrm>
                  <a:off x="2442960" y="4795560"/>
                  <a:ext cx="13366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4" name="Group 443"/>
              <p:cNvGrpSpPr/>
              <p:nvPr/>
            </p:nvGrpSpPr>
            <p:grpSpPr>
              <a:xfrm>
                <a:off x="3779640" y="4795560"/>
                <a:ext cx="1403280" cy="609840"/>
                <a:chOff x="3779640" y="4795560"/>
                <a:chExt cx="1403280" cy="609840"/>
              </a:xfrm>
            </p:grpSpPr>
            <p:sp>
              <p:nvSpPr>
                <p:cNvPr id="295" name="Rectangle 444"/>
                <p:cNvSpPr/>
                <p:nvPr/>
              </p:nvSpPr>
              <p:spPr>
                <a:xfrm>
                  <a:off x="3848040" y="4795560"/>
                  <a:ext cx="1266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" name="Rectangle 445"/>
                <p:cNvSpPr/>
                <p:nvPr/>
              </p:nvSpPr>
              <p:spPr>
                <a:xfrm>
                  <a:off x="3779640" y="4795560"/>
                  <a:ext cx="14032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7" name="Group 446"/>
              <p:cNvGrpSpPr/>
              <p:nvPr/>
            </p:nvGrpSpPr>
            <p:grpSpPr>
              <a:xfrm>
                <a:off x="5182920" y="4795560"/>
                <a:ext cx="1136520" cy="609840"/>
                <a:chOff x="5182920" y="4795560"/>
                <a:chExt cx="1136520" cy="609840"/>
              </a:xfrm>
            </p:grpSpPr>
            <p:sp>
              <p:nvSpPr>
                <p:cNvPr id="298" name="Rectangle 447"/>
                <p:cNvSpPr/>
                <p:nvPr/>
              </p:nvSpPr>
              <p:spPr>
                <a:xfrm>
                  <a:off x="5251320" y="4795560"/>
                  <a:ext cx="10000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9" name="Rectangle 448"/>
                <p:cNvSpPr/>
                <p:nvPr/>
              </p:nvSpPr>
              <p:spPr>
                <a:xfrm>
                  <a:off x="5182920" y="4795560"/>
                  <a:ext cx="1136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0" name="Group 449"/>
              <p:cNvGrpSpPr/>
              <p:nvPr/>
            </p:nvGrpSpPr>
            <p:grpSpPr>
              <a:xfrm>
                <a:off x="1439640" y="5405400"/>
                <a:ext cx="1003320" cy="609480"/>
                <a:chOff x="1439640" y="5405400"/>
                <a:chExt cx="1003320" cy="609480"/>
              </a:xfrm>
            </p:grpSpPr>
            <p:sp>
              <p:nvSpPr>
                <p:cNvPr id="301" name="Rectangle 450"/>
                <p:cNvSpPr/>
                <p:nvPr/>
              </p:nvSpPr>
              <p:spPr>
                <a:xfrm>
                  <a:off x="1508040" y="5405400"/>
                  <a:ext cx="8665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2" name="Rectangle 451"/>
                <p:cNvSpPr/>
                <p:nvPr/>
              </p:nvSpPr>
              <p:spPr>
                <a:xfrm>
                  <a:off x="1439640" y="5405400"/>
                  <a:ext cx="1003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3" name="Group 452"/>
              <p:cNvGrpSpPr/>
              <p:nvPr/>
            </p:nvGrpSpPr>
            <p:grpSpPr>
              <a:xfrm>
                <a:off x="2442960" y="5405400"/>
                <a:ext cx="1336680" cy="609480"/>
                <a:chOff x="2442960" y="5405400"/>
                <a:chExt cx="1336680" cy="609480"/>
              </a:xfrm>
            </p:grpSpPr>
            <p:sp>
              <p:nvSpPr>
                <p:cNvPr id="304" name="Rectangle 453"/>
                <p:cNvSpPr/>
                <p:nvPr/>
              </p:nvSpPr>
              <p:spPr>
                <a:xfrm>
                  <a:off x="2511360" y="540540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5" name="Rectangle 454"/>
                <p:cNvSpPr/>
                <p:nvPr/>
              </p:nvSpPr>
              <p:spPr>
                <a:xfrm>
                  <a:off x="2442960" y="540540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6" name="Group 455"/>
              <p:cNvGrpSpPr/>
              <p:nvPr/>
            </p:nvGrpSpPr>
            <p:grpSpPr>
              <a:xfrm>
                <a:off x="3779640" y="5405400"/>
                <a:ext cx="1403280" cy="609480"/>
                <a:chOff x="3779640" y="5405400"/>
                <a:chExt cx="1403280" cy="609480"/>
              </a:xfrm>
            </p:grpSpPr>
            <p:sp>
              <p:nvSpPr>
                <p:cNvPr id="307" name="Rectangle 456"/>
                <p:cNvSpPr/>
                <p:nvPr/>
              </p:nvSpPr>
              <p:spPr>
                <a:xfrm>
                  <a:off x="3848040" y="5405400"/>
                  <a:ext cx="1266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8" name="Rectangle 457"/>
                <p:cNvSpPr/>
                <p:nvPr/>
              </p:nvSpPr>
              <p:spPr>
                <a:xfrm>
                  <a:off x="3779640" y="5405400"/>
                  <a:ext cx="140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9" name="Group 458"/>
              <p:cNvGrpSpPr/>
              <p:nvPr/>
            </p:nvGrpSpPr>
            <p:grpSpPr>
              <a:xfrm>
                <a:off x="5182920" y="5405400"/>
                <a:ext cx="1136520" cy="609480"/>
                <a:chOff x="5182920" y="5405400"/>
                <a:chExt cx="1136520" cy="609480"/>
              </a:xfrm>
            </p:grpSpPr>
            <p:sp>
              <p:nvSpPr>
                <p:cNvPr id="310" name="Rectangle 459"/>
                <p:cNvSpPr/>
                <p:nvPr/>
              </p:nvSpPr>
              <p:spPr>
                <a:xfrm>
                  <a:off x="5251320" y="5405400"/>
                  <a:ext cx="10000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1" name="Rectangle 460"/>
                <p:cNvSpPr/>
                <p:nvPr/>
              </p:nvSpPr>
              <p:spPr>
                <a:xfrm>
                  <a:off x="5182920" y="5405400"/>
                  <a:ext cx="1136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2" name="Group 461"/>
              <p:cNvGrpSpPr/>
              <p:nvPr/>
            </p:nvGrpSpPr>
            <p:grpSpPr>
              <a:xfrm>
                <a:off x="1439640" y="6014880"/>
                <a:ext cx="1003320" cy="609480"/>
                <a:chOff x="1439640" y="6014880"/>
                <a:chExt cx="1003320" cy="609480"/>
              </a:xfrm>
            </p:grpSpPr>
            <p:sp>
              <p:nvSpPr>
                <p:cNvPr id="313" name="Rectangle 462"/>
                <p:cNvSpPr/>
                <p:nvPr/>
              </p:nvSpPr>
              <p:spPr>
                <a:xfrm>
                  <a:off x="1508040" y="6014880"/>
                  <a:ext cx="8665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4" name="Rectangle 463"/>
                <p:cNvSpPr/>
                <p:nvPr/>
              </p:nvSpPr>
              <p:spPr>
                <a:xfrm>
                  <a:off x="1439640" y="6014880"/>
                  <a:ext cx="1003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5" name="Group 464"/>
              <p:cNvGrpSpPr/>
              <p:nvPr/>
            </p:nvGrpSpPr>
            <p:grpSpPr>
              <a:xfrm>
                <a:off x="2442960" y="6014880"/>
                <a:ext cx="1336680" cy="609480"/>
                <a:chOff x="2442960" y="6014880"/>
                <a:chExt cx="1336680" cy="609480"/>
              </a:xfrm>
            </p:grpSpPr>
            <p:sp>
              <p:nvSpPr>
                <p:cNvPr id="316" name="Rectangle 465"/>
                <p:cNvSpPr/>
                <p:nvPr/>
              </p:nvSpPr>
              <p:spPr>
                <a:xfrm>
                  <a:off x="2511360" y="601488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7" name="Rectangle 466"/>
                <p:cNvSpPr/>
                <p:nvPr/>
              </p:nvSpPr>
              <p:spPr>
                <a:xfrm>
                  <a:off x="2442960" y="601488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8" name="Group 467"/>
              <p:cNvGrpSpPr/>
              <p:nvPr/>
            </p:nvGrpSpPr>
            <p:grpSpPr>
              <a:xfrm>
                <a:off x="3779640" y="6014880"/>
                <a:ext cx="1403280" cy="609480"/>
                <a:chOff x="3779640" y="6014880"/>
                <a:chExt cx="1403280" cy="609480"/>
              </a:xfrm>
            </p:grpSpPr>
            <p:sp>
              <p:nvSpPr>
                <p:cNvPr id="319" name="Rectangle 468"/>
                <p:cNvSpPr/>
                <p:nvPr/>
              </p:nvSpPr>
              <p:spPr>
                <a:xfrm>
                  <a:off x="3848040" y="6014880"/>
                  <a:ext cx="1266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0" name="Rectangle 469"/>
                <p:cNvSpPr/>
                <p:nvPr/>
              </p:nvSpPr>
              <p:spPr>
                <a:xfrm>
                  <a:off x="3779640" y="6014880"/>
                  <a:ext cx="140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1" name="Group 470"/>
              <p:cNvGrpSpPr/>
              <p:nvPr/>
            </p:nvGrpSpPr>
            <p:grpSpPr>
              <a:xfrm>
                <a:off x="5182920" y="6014880"/>
                <a:ext cx="1136520" cy="609480"/>
                <a:chOff x="5182920" y="6014880"/>
                <a:chExt cx="1136520" cy="609480"/>
              </a:xfrm>
            </p:grpSpPr>
            <p:sp>
              <p:nvSpPr>
                <p:cNvPr id="322" name="Rectangle 471"/>
                <p:cNvSpPr/>
                <p:nvPr/>
              </p:nvSpPr>
              <p:spPr>
                <a:xfrm>
                  <a:off x="5251320" y="6014880"/>
                  <a:ext cx="10000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3" name="Rectangle 472"/>
                <p:cNvSpPr/>
                <p:nvPr/>
              </p:nvSpPr>
              <p:spPr>
                <a:xfrm>
                  <a:off x="5182920" y="6014880"/>
                  <a:ext cx="1136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4" name="Rectangle 473"/>
            <p:cNvSpPr/>
            <p:nvPr/>
          </p:nvSpPr>
          <p:spPr>
            <a:xfrm>
              <a:off x="1434960" y="981000"/>
              <a:ext cx="4889520" cy="5648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5" name="AutoShape 474">
            <a:hlinkClick r:id="" action="ppaction://hlinkshowjump?jump=next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3794" y="19343"/>
                </a:lnTo>
                <a:lnTo>
                  <a:pt x="3794" y="5330"/>
                </a:lnTo>
                <a:close/>
              </a:path>
              <a:path fill="darken" w="21600" h="24673">
                <a:moveTo>
                  <a:pt x="16144" y="5330"/>
                </a:moveTo>
                <a:lnTo>
                  <a:pt x="16144" y="19343"/>
                </a:lnTo>
                <a:lnTo>
                  <a:pt x="17806" y="19343"/>
                </a:lnTo>
                <a:lnTo>
                  <a:pt x="17806" y="53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08:10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4:53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