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FDC8-DED1-4F14-BD19-12D05A71CC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EAE-6D74-446A-9870-4C71B15D04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8A3-8401-48FC-A77A-C0C5C531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1E1-2969-4DA9-9CA1-9598FAE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C60-CB51-438A-A71C-FF090103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2A9-B5B4-43B2-AC8C-2FE5A26B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FF2-D017-4D4F-84E1-C93E3CB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916-68EE-4302-B5D4-106079D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653-7888-4C31-AAA2-2D578642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B1A-0431-4722-9C2D-3AB2B2B0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D4B-FAB5-4578-A80B-32EA33F2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8AD-6706-408D-B24A-C70853F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CBA-900C-49EB-BEC4-9F72A27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7C3-0003-412B-8BEB-2F74D09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C557-9824-4316-8C05-8FB974D1A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9280" y="1523880"/>
            <a:ext cx="8155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收购废话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338560" y="5867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15840" y="609480"/>
            <a:ext cx="457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由朗读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38080" y="2590920"/>
            <a:ext cx="73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自由朗读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自然段，找出老猴说的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24080" y="12193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个孤猴独自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关门闭户掩柴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u=2607835525,3350449141&amp;fm=15&amp;gp=0"/>
          <p:cNvPicPr/>
          <p:nvPr/>
        </p:nvPicPr>
        <p:blipFill>
          <a:blip r:embed="rId2"/>
          <a:stretch/>
        </p:blipFill>
        <p:spPr>
          <a:xfrm>
            <a:off x="0" y="609480"/>
            <a:ext cx="3048120" cy="5411880"/>
          </a:xfrm>
          <a:prstGeom prst="rect">
            <a:avLst/>
          </a:prstGeom>
          <a:ln w="0">
            <a:noFill/>
          </a:ln>
        </p:spPr>
      </p:pic>
      <p:pic>
        <p:nvPicPr>
          <p:cNvPr id="86" name="猴子废话.mp3" descr="猴子废话"/>
          <p:cNvPicPr/>
          <p:nvPr/>
        </p:nvPicPr>
        <p:blipFill>
          <a:blip r:embed="rId3"/>
          <a:stretch/>
        </p:blipFill>
        <p:spPr>
          <a:xfrm>
            <a:off x="7924680" y="5791320"/>
            <a:ext cx="99216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352680" y="4495680"/>
            <a:ext cx="4724640" cy="2057400"/>
          </a:xfrm>
          <a:prstGeom prst="cloudCallout">
            <a:avLst>
              <a:gd name="adj1" fmla="val -67328"/>
              <a:gd name="adj2" fmla="val 8146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想想老猴的话有什么毛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82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6002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来到郊外，看见一座寂静的小房子。一只老猴打开柴草编成的院门，走进去，还吟了几句诗：“一个孤猴独自归，关门闭户掩柴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羊站长又录下了这段话，说：“‘一个’‘孤’‘独自’意思差不多，‘关门’‘闭户’‘掩柴扉’意思也一样，这样重复毫无用处，全是废话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“没必要的重复也是废话。”小熊记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146240" y="5111640"/>
            <a:ext cx="3962160" cy="324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860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内容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四个同学为一组，选择喜欢的方式（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可以复述，可以分角色朗读，也可以创造性的表演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来表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914400" y="588960"/>
            <a:ext cx="33526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演一演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7200" y="1905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　　跟羊站长跑了一天，小熊知道了什么是废话。后来，他的工作干得越来越出色，收购了很多废话，帮助大家把话说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黑体"/>
              </a:rPr>
              <a:t>简洁明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914400" y="588960"/>
            <a:ext cx="33526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齐读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066680" y="2133720"/>
            <a:ext cx="746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啰啰嗦嗦就是废话，自相矛盾是废话，重复也是废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咱们说话要简洁明了，这样别人才会更明白我们要表达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685800" y="762120"/>
            <a:ext cx="33526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685800" y="1066680"/>
            <a:ext cx="33526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学习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686240" y="2286000"/>
            <a:ext cx="599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组合作学习，分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组，每个组修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同的废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修改和大家分享，并说一说这样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55800" y="30492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熊把收购好的废话送进了医院，快来为它们治治病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794600" y="990720"/>
            <a:ext cx="58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我喝了一斤白酒，一斤就是十两，如果用二两的杯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是五杯。今天真过瘾，真开心，真快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80880" y="259092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30481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湖水泛起蔚蓝色的白浪，我想乘一叶小小的大船，在湖面慢慢地疾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80880" y="464832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4920" y="4952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个孤猴独自归，关门闭户掩柴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19040" y="61722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4175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我快乐地度过了愉快的六一儿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87480" y="5029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重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04000" y="3049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羊站长收购到的废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45240" y="2117880"/>
            <a:ext cx="13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我基本上全部完成了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53920" y="2895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相矛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2165400" y="5943600"/>
            <a:ext cx="56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46120" y="1600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咱们生活中的废话可不止这么一点，羊站长或许还有一些废话没有收购，那么同学们下课后来帮助羊站长收购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536400" y="210960"/>
            <a:ext cx="33530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后作业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6094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　　小熊从学校毕业后，分在废话收购站当收购员。什么样的话才叫废话呢？小熊还不大清楚。羊站长带小熊出外收购废话，好让小熊熟悉业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895480" y="4038480"/>
            <a:ext cx="4343400" cy="2135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想想小熊提出了什么样的疑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4800600" y="1905120"/>
            <a:ext cx="38098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149400" y="2438280"/>
            <a:ext cx="2207880" cy="12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444680" y="1517760"/>
            <a:ext cx="4267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</a:t>
            </a:r>
            <a:endParaRPr b="1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2C15-E3C4-4B37-9064-058278EE2A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1371600"/>
            <a:ext cx="81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同学们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默读的时候用自己喜欢的方式画出猪先生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990720" y="210960"/>
            <a:ext cx="33526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默读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57200" y="1066680"/>
            <a:ext cx="822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刚走出收购站，他们就碰上喝醉了酒的猪先生。猪先生打着饱嗝说：“我喝了一斤白酒，一斤就是十两，如果用二两的杯子，就是五杯。今天真过瘾，真开心，真快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羊站长赶紧用录音机录下了这些酒话，告诉小熊：“这个人啰啰唆唆说了一大堆废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“啰唆就是废话。”小熊记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4952880" y="587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7314727_124752018312_2"/>
          <p:cNvPicPr/>
          <p:nvPr/>
        </p:nvPicPr>
        <p:blipFill>
          <a:blip r:embed="rId2"/>
          <a:stretch/>
        </p:blipFill>
        <p:spPr>
          <a:xfrm>
            <a:off x="0" y="0"/>
            <a:ext cx="330192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581280" y="228600"/>
            <a:ext cx="52578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333399"/>
                </a:solidFill>
                <a:latin typeface="黑体"/>
                <a:ea typeface="黑体"/>
              </a:rPr>
              <a:t>猪先生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打着饱嗝说：“我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了一斤白酒，一斤就是十两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果用二两的杯子，就是五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今天真过瘾，真开心，真快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809880" y="3886200"/>
            <a:ext cx="5257800" cy="2438280"/>
          </a:xfrm>
          <a:prstGeom prst="cloudCallout">
            <a:avLst>
              <a:gd name="adj1" fmla="val -57499"/>
              <a:gd name="adj2" fmla="val 6658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从猪先生的话中你你发现了什么毛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猪先生的废话.mp3" descr="猪先生的废话"/>
          <p:cNvPicPr/>
          <p:nvPr/>
        </p:nvPicPr>
        <p:blipFill>
          <a:blip r:embed="rId3"/>
          <a:stretch/>
        </p:blipFill>
        <p:spPr>
          <a:xfrm>
            <a:off x="490680" y="5997600"/>
            <a:ext cx="763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51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762120"/>
            <a:ext cx="822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刚走出收购站，他们就碰上喝醉了酒的猪先生。猪先生打着饱嗝说：“我喝了一斤白酒，一斤就是十两，如果用二两的杯子，就是五杯。今天真过瘾，真开心，真快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羊站长赶紧用录音机录下了这些酒话，告诉小熊：“这个人啰啰唆唆说了一大堆废话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“啰唆就是废话。”小熊记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4876920" y="4572000"/>
            <a:ext cx="4267080" cy="2133720"/>
          </a:xfrm>
          <a:prstGeom prst="cloudCallout">
            <a:avLst>
              <a:gd name="adj1" fmla="val -57499"/>
              <a:gd name="adj2" fmla="val 6658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熊明白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676520" y="5716440"/>
            <a:ext cx="3124080" cy="180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914400" y="590400"/>
            <a:ext cx="4419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学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5-7</a:t>
            </a: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然段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8600" y="2057400"/>
            <a:ext cx="983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~~~~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画出鹭鸶当时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复朗读，想像鹭鸶当时的心情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u=2783891155,3667628879&amp;fm=23&amp;gp=0"/>
          <p:cNvPicPr/>
          <p:nvPr/>
        </p:nvPicPr>
        <p:blipFill>
          <a:blip r:embed="rId2"/>
          <a:stretch/>
        </p:blipFill>
        <p:spPr>
          <a:xfrm>
            <a:off x="-139680" y="-444600"/>
            <a:ext cx="9354960" cy="7680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457200" y="68580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鹭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站在湖边，朗读自己写的诗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湖水泛起蔚蓝色的白浪，我想乘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叶小小的大船，在湖面慢慢地疾驶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736080" y="17524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78880" y="17524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574160" y="17524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745360" y="17524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23800" y="2870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41400" y="28447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640120" y="27432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338200" y="2870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132160" y="276876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453000" y="279396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1143000" y="4343400"/>
            <a:ext cx="4871880" cy="1752480"/>
          </a:xfrm>
          <a:prstGeom prst="cloudCallout">
            <a:avLst>
              <a:gd name="adj1" fmla="val -68694"/>
              <a:gd name="adj2" fmla="val 814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鹭鸶的话有什么毛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838080"/>
            <a:ext cx="769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走出城，面前是一望无际的湖。鹭鸶站在湖边，朗读自己写的诗歌：“湖水泛起蔚蓝色的白浪，我想乘一叶小小的大船，在湖面慢慢地疾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羊站长说：“这些话乱加一些不准确的形容词，画蛇添足，自相矛盾，反而让人弄不明白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“自相矛盾，也是废话。”小熊记住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832040" y="5869080"/>
            <a:ext cx="42670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6:59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5:00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