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drumroll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0442-1188-4B6F-9182-EA611406C5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B32C-6C5B-4198-B4FF-4A302BCCE59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8DB-8940-49A3-984C-8C86BB22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F22-59E3-4871-9681-3AE8BF1C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1AA-F176-4FCC-9DB6-1D695148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ECF3-CD97-466F-9014-3F5ABB56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2F3F-DFB9-4FF5-873B-C023AD3D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E390-96CC-4D5F-B95C-6CD06504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6F77-6E24-4322-940A-DE7DDC73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B1C4-FC7D-4B9B-9949-A969DFAE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99C8-9E78-4531-9EFD-4F342C93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BE87-8CBA-4C92-A63B-5013B5B8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1A8A-2A12-49B7-B95B-384D35E8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ABB-6010-484B-A355-48FE89D7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36A3-E2C8-441B-86E0-46F109D0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392E-B7D9-4996-93CD-AD02428E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1CA9-A350-4922-A34B-0AB77FB6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4711-433C-4822-A26A-77B6B3C5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B10B-25A6-4543-B214-D78CECC8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B5BB-6067-4319-BB2C-5545AC8D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F7437-F867-4994-9EE6-D063663A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87EC7-3B66-4BF5-8720-CE0947BE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155A-0F2B-4089-B90B-B04A0AB9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747F9-4922-4FE0-8E5A-99E94D85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861-7761-4AE3-9D45-E626382A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5F343-4132-4A23-A97D-8F7E968C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65CCA-0260-4B18-97AA-E167D045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494A6-7734-4F15-84A5-18E90995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CCC4F-546F-4F5F-AF97-4104F355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2A870-23FA-4C70-8372-2396CDE7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40AF8-2CAB-4304-9C87-5E4D9EC2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D9C48-38D4-425D-A6D7-41070E87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C12-7CFC-48DB-B430-EB9815BC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4AE-9205-4692-87D9-1E2FA54F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BCF-5BDA-41CD-9690-B7E3D93A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211-A275-49DC-AE1A-C132B912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089-896B-43C5-85B1-292AC9C3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4D3-820A-45AA-ADA6-7E09A12E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E287-9FB1-4389-8041-3B2B769CC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2C99-B70F-4128-8A07-CB97D67ABF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252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08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78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796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3760" y="22320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240" y="4317840"/>
            <a:ext cx="981000" cy="1160280"/>
            <a:chOff x="7797240" y="4317840"/>
            <a:chExt cx="981000" cy="116028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240" y="4317840"/>
              <a:ext cx="981000" cy="1160280"/>
              <a:chOff x="7797240" y="4317840"/>
              <a:chExt cx="981000" cy="116028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360" y="4650480"/>
                <a:ext cx="1058760" cy="4950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6280" y="4757400"/>
                <a:ext cx="74952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3640" y="45597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2920" y="475920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88A7-5BD6-499E-AAA7-FF7200D3ED6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2427120" y="2308320"/>
            <a:ext cx="55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 </a:t>
            </a:r>
            <a:r>
              <a:rPr b="1" lang="zh-CN" sz="9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树 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5"/>
          <p:cNvSpPr txBox="1"/>
          <p:nvPr/>
        </p:nvSpPr>
        <p:spPr>
          <a:xfrm>
            <a:off x="2610000" y="846000"/>
            <a:ext cx="61560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（湘教版）二年级语文下册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01" name="矩形 5"/>
          <p:cNvSpPr/>
          <p:nvPr/>
        </p:nvSpPr>
        <p:spPr>
          <a:xfrm>
            <a:off x="1827000" y="55641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Oval 8"/>
          <p:cNvSpPr/>
          <p:nvPr/>
        </p:nvSpPr>
        <p:spPr>
          <a:xfrm>
            <a:off x="3492360" y="0"/>
            <a:ext cx="1224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2916360" y="0"/>
            <a:ext cx="62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403280" y="0"/>
            <a:ext cx="76327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老太太）                    （烧 饭 ）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        ）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树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（         ）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        ）                    （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>
            <a:off x="3851280" y="119700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3924360" y="2276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1"/>
          <p:cNvSpPr/>
          <p:nvPr/>
        </p:nvSpPr>
        <p:spPr>
          <a:xfrm flipH="1">
            <a:off x="3851280" y="2421000"/>
            <a:ext cx="720720" cy="936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6300720" y="2349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6300360" y="1197000"/>
            <a:ext cx="792360" cy="1008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6300720" y="2492280"/>
            <a:ext cx="792360" cy="865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2291400" y="18939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木  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2174040" y="3111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艺术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7430400" y="19591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做小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7503480" y="3111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做根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66596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太太、木匠、艺术家的想法为什么不一样？你的想法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332000" y="2565000"/>
            <a:ext cx="76327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为他们的观察角度不同，生活体验不同，利用树根的方式也不同，所以想法不一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想用这颗树根做笔筒或花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1476000" y="2565000"/>
            <a:ext cx="74516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拓展延伸、熏陶感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人们看到这件优美的根雕作品时，会怎样称赞？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太太和老伴也来看儿子的根雕作品，他们会有些什么表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5843520" cy="20746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件优秀作品放在展览馆里，受到了人们的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称赞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"/>
          <p:cNvSpPr/>
          <p:nvPr/>
        </p:nvSpPr>
        <p:spPr>
          <a:xfrm>
            <a:off x="1711440" y="5977080"/>
            <a:ext cx="52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2050920" y="260280"/>
            <a:ext cx="709308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人物对树根的不同态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艺术家把它雕刻成了艺术品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这个艺术品到底有什么价值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艺术品是人类聪明、才智的结晶，它的创造要花费大量的精力，它的价值体现在它能给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类美的享受或有益的启发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908000" y="1268280"/>
            <a:ext cx="72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词语积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丢开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丢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     ) (     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位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) (     ) (     )    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伴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 ) (      ) (     ) (     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美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) (     ) (     ) 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填数量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树根         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凳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艺术品       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木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（   ）老鹰       一（  ）雄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4067280" y="33336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巩   固  练  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2436-D59A-427F-9E41-AC0D5648FA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149480" y="907920"/>
            <a:ext cx="799308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认识本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生字，会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生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解老太太、木匠、艺术家分别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拿树根干什么，懂得普通事物中往往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含着美的价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书要有疑，从疑而悟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2340000" y="170028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同学们，在你们的印象中人们通常是怎样对待那些树根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2086560" y="3789360"/>
            <a:ext cx="6767280" cy="2775240"/>
          </a:xfrm>
          <a:prstGeom prst="rect">
            <a:avLst/>
          </a:prstGeom>
          <a:noFill/>
          <a:ln w="2844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Arial"/>
              </a:rPr>
              <a:t>huāng    cǎi     pī     shǎo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荒野　  理睬　劈开　 烧饭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00b200"/>
                </a:solidFill>
                <a:latin typeface="Arial"/>
              </a:rPr>
              <a:t>jī       jià zhí        jī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激动　价 值　      精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20760" y="0"/>
            <a:ext cx="7209720" cy="3748680"/>
          </a:xfrm>
          <a:prstGeom prst="rect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iū qì     wèi     bàn      y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丢  弃    一位    老伴   艺术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ěi        yú    yōu xi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美丽    终于     优 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1547640" y="1268280"/>
            <a:ext cx="777744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棵普通的树根，丢弃在荒野上，很久没人理睬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851280" y="115920"/>
            <a:ext cx="4465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2 </a:t>
            </a:r>
            <a:r>
              <a:rPr b="1" lang="zh-CN" sz="8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树 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3851280" y="263700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4500720" y="2637000"/>
            <a:ext cx="21564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7667640" y="263700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8317080" y="2637000"/>
            <a:ext cx="21564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6156360" y="400536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6804000" y="400536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457200" y="164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948040" y="3691080"/>
            <a:ext cx="415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华文行楷"/>
                <a:ea typeface="华文行楷"/>
              </a:rPr>
              <a:t>新坊九年制学校  李雄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花边~19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7"/>
          <p:cNvSpPr/>
          <p:nvPr/>
        </p:nvSpPr>
        <p:spPr>
          <a:xfrm>
            <a:off x="611280" y="1916280"/>
            <a:ext cx="853272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位老太太看见了，把它抱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， 高兴地说：“嘿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树根，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开来能烧饭呢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8028000" y="263700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2124000" y="393372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2700360" y="393372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2843280" y="404640"/>
            <a:ext cx="55814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老太太的老伴是木匠。他发现了树根，连忙拣出来，笑着说：“这树根，能做两张小凳子呢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3132000" y="328464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708360" y="328464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284720" y="328464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6516720" y="328464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266920" y="620640"/>
            <a:ext cx="687708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老太太的儿子是艺术家。他看见树根，眼睛一亮，激动地说：“啊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树根长得很奇特，很美，是多么有价值的材料啊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5867280" y="270828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443640" y="270828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7020000" y="270828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7596360" y="2708280"/>
            <a:ext cx="21564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2484360" y="371628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3059280" y="3716280"/>
            <a:ext cx="21564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268360" y="0"/>
            <a:ext cx="6875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望着树根仔细琢磨，顺着它的形状精心雕刻，花了很多时间，终于把树根雕成了一只振翅飞翔的老鹰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508040" y="1447920"/>
            <a:ext cx="377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6877080" y="155736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7524720" y="148428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7451640" y="263700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7956720" y="2637000"/>
            <a:ext cx="21564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651640" y="350028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227640" y="350028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0"/>
          <p:cNvSpPr/>
          <p:nvPr/>
        </p:nvSpPr>
        <p:spPr>
          <a:xfrm>
            <a:off x="2484360" y="436572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1"/>
          <p:cNvSpPr/>
          <p:nvPr/>
        </p:nvSpPr>
        <p:spPr>
          <a:xfrm>
            <a:off x="3132000" y="443700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5:43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0:53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