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CD03-5715-45B3-A59D-8F5420FCE5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C5D9-6590-48A4-BA51-DF8DF75530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296-9805-47DB-8460-044F27DC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426-388B-4488-A368-4B6C36F7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3AD-0D8D-4B6F-A7E8-1B1D2349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DBF-03CD-48E7-B676-DF38BEC7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C76-CD7E-4176-AB79-E0CED35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42F-1DCA-4DCA-B4C3-19B806CF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EF1-DA8D-4767-8A72-3D891E2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38A-39EB-4667-892A-19D582B8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1F0-F115-4470-B8F7-977CC581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FB3-4CF7-4377-812F-71231AB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94F-38F8-4597-BD85-F01E02E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D0A-30DC-4B10-A693-FFE32AB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2EA1-2A80-44EB-8413-34E0F93E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990880" y="6858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借芭蕉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593720" y="593712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2925720"/>
            <a:ext cx="132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三借芭蕉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345120" y="184788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541760" y="1828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被扇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2590920" y="20574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6094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像断了线的风筝，在天上飘呀，飘呀，飘了很久很久，掉在一座山上。这里住着好心的灵吉菩萨，他给孙悟空一颗定风丹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把它含在嘴里，铁扇公主就扇不动你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把定风丹含在嘴里，又到翠云山去。铁扇公主看见孙悟空，觉得很奇怪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咦，这猴子怎么又来了？这次我使劲扇，叫他再也回不来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拿出芭蕉扇，扇了一下，孙悟空一动也不动。接连扇了几下，孙悟空还是一动不动。她吓坏了，赶快逃进山洞，砰的一声，把大门关得紧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摇身一变，变作一只小飞虫，从门缝里飞了进去。看见铁扇公主正在喝茶，他就飞到她的茶杯里。铁扇公主没留神，咕噜咕噜把孙悟空也喝到肚子里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7524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扇公主，快把你的芭蕉扇借给我老孙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还当孙悟空在大门外面叫唤呢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借，不借，就是不借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这就不客气，在铁扇公主的肚子里翻起跟头来，疼得铁扇公主在地上直打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哎哟，哎哟，饶命呀！我把扇子借给你，你快出来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爬到铁扇公主的嘴里，把头伸到外面瞧了瞧，看见铁扇公主手里拿着芭蕉扇，这才呼的一下跳出来。他接过扇子，回火焰山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57200" y="1143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唐僧、猪八戒和沙和尚都等急了，看见孙悟空扛着芭蕉扇回来，高兴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举起芭蕉扇，朝火焰山一扇。咦，火焰没有熄灭，反而直往上冒！他以为自己没使上劲，又狠狠地一扇。不好了，那火焰冒起几丈高，烧得更厉害了。孙悟空再一扇，不得了，那火焰冒起千丈高，把天空都烧红了。孙悟空赶快扔下扇子，转身往回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11280" y="2925720"/>
            <a:ext cx="132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三借芭蕉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345120" y="184788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541760" y="1828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被扇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306960" y="3067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二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541760" y="304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得假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590920" y="20574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57200" y="8380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挠挠头，摇身一变，变作铁扇公主的丈夫牛魔王的模样，重新来到翠云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见了，还当他是真的牛魔王呢。这个假牛魔王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说孙悟空来借芭蕉扇，我心里可着急了。你把扇子借给他了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给他一把假芭蕉扇，这会儿呀，那猴子也许让火烧死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假牛魔王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的芭蕉扇呢？拿来给我瞧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儿呢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扇公主说着，从嘴里吐出小扇子，晃了一晃，变作大扇子，递给假牛魔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1238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假牛魔王接过扇子，把脸一抹，变成孙悟空了。孙悟空背起扇子就走，铁扇公主气得话也说不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拿了芭蕉扇，回到火焰山。他朝着火焰一扇，把火焰压下去了；又一扇，火焰熄灭了；再一扇，天空起了乌云，沙沙地下起雨来，好凉快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把芭蕉扇还给铁扇公主。师徒四人过了火焰山，继续西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11280" y="2925720"/>
            <a:ext cx="132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三借芭蕉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345120" y="184788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541760" y="1828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被扇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306960" y="3067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二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541760" y="304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得假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06960" y="4210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三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541760" y="4191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骗真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59440" y="2925720"/>
            <a:ext cx="109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不怕困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勇于斗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590920" y="20574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5867280" y="19810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0492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，注意有下划线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93640" y="1413000"/>
            <a:ext cx="77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前面有一座大山，呼呼地燃着大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09480" y="3048120"/>
            <a:ext cx="77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铁扇公主没留神，咕噜咕噜把孙悟空也喝到肚子里去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3640" y="4952880"/>
            <a:ext cx="77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天空起了乌云，沙沙地下起雨来，好凉快哟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800600" y="1981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800600" y="35812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4419720" y="54864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僧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3200400" y="3505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9078559-1_o"/>
          <p:cNvPicPr/>
          <p:nvPr/>
        </p:nvPicPr>
        <p:blipFill>
          <a:blip r:embed="rId1"/>
          <a:stretch/>
        </p:blipFill>
        <p:spPr>
          <a:xfrm>
            <a:off x="2743200" y="768240"/>
            <a:ext cx="3657600" cy="5321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068720" y="6248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游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b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芭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iā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蕉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p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菩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p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砰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ná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挠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810ede50f975cf1e43a75bee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325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8cc48e5a7ea463172934f0dd"/>
          <p:cNvPicPr/>
          <p:nvPr/>
        </p:nvPicPr>
        <p:blipFill>
          <a:blip r:embed="rId2"/>
          <a:stretch/>
        </p:blipFill>
        <p:spPr>
          <a:xfrm>
            <a:off x="4267080" y="228600"/>
            <a:ext cx="4876920" cy="3600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52280" y="152280"/>
            <a:ext cx="16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64000" y="601992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游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2954160" y="585000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CF3-A705-4CC1-BC97-DE2A553DA3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3017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唐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ē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师徒四人去西天取经。有一天，他们来到一个地方，看见前面有一座大山，呼呼地燃着大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一打听，才知道这是火焰山。想过火焰山，得找铁扇公主借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扇，对着火焰山扇三下，火焰就会熄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父，我借芭蕉扇去，你们在这儿等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悟空翻了一个跟头，来到了翠云山。他向铁扇公主行了个礼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被火焰山挡住了去路，请你把芭蕉扇借我老孙一用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哪里肯借，故意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等着，你等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从嘴里吐出一把树叶大的扇子，拿在手里一晃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u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就变得席子那么大了。铁扇公主举起芭蕉扇，朝孙悟空一扇，扇起一阵狂风，把孙悟空吹刮到天上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909960" y="304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借芭蕉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4920" y="609480"/>
            <a:ext cx="8534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像断了线的风筝，在天上飘呀，飘呀，飘了很久很久，掉在一座山上。这里住着好心的灵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萨，他给孙悟空一颗定风丹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把它含在嘴里，铁扇公主就扇不动你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把定风丹含在嘴里，又到翠云山去。铁扇公主看见孙悟空，觉得很奇怪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咦，这猴子怎么又来了？这次我使劲扇，叫他再也回不来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拿出芭蕉扇，扇了一下，孙悟空一动也不动。接连扇了几下，孙悟空还是一动不动。她吓坏了，赶快逃进山洞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ē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把大门关得紧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摇身一变，变作一只小飞虫，从门缝里飞了进去。看见铁扇公主正在喝茶，他就飞到她的茶杯里。铁扇公主没留神，咕噜咕噜把孙悟空也喝到肚子里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7524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扇公主，快把你的芭蕉扇借给我老孙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还当孙悟空在大门外面叫唤呢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借，不借，就是不借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这就不客气，在铁扇公主的肚子里翻起跟头来，疼得铁扇公主在地上直打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哎哟，哎哟，饶命呀！我把扇子借给你，你快出来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爬到铁扇公主的嘴里，把头伸到外面瞧了瞧，看见铁扇公主手里拿着芭蕉扇，这才呼的一下跳出来。他接过扇子，回火焰山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57200" y="38088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唐僧、猪八戒和沙和尚都等急了，看见孙悟空扛着芭蕉扇回来，高兴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举起芭蕉扇，朝火焰山一扇。咦，火焰没有熄灭，反而直往上冒！他以为自己没使上劲，又狠狠地一扇。不好了，那火焰冒起几丈高，烧得更厉害了。孙悟空再一扇，不得了，那火焰冒起千丈高，把天空都烧红了。孙悟空赶快扔下扇子，转身往回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挠头，摇身一变，变作铁扇公主的丈夫牛魔王的模样，重新来到翠云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见了，还当他是真的牛魔王呢。这个假牛魔王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说孙悟空来借芭蕉扇，我心里可着急了。你把扇子借给他了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1238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给他一把假芭蕉扇，这会儿呀，那猴子也许让火烧死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假牛魔王接过扇子，把脸一抹，变成孙悟空了。孙悟空背起扇子就走，铁扇公主气得话也说不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拿了芭蕉扇，回到火焰山。他朝着火焰一扇，把火焰压下去了；又一扇，火焰熄灭了；再一扇，天空起了乌云，沙沙地下起雨来，好凉快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把芭蕉扇还给铁扇公主。师徒四人过了火焰山，继续西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唐僧师徒四人去西天取经。有一天，他们来到一个地方，看见前面有一座大山，呼呼地燃着大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悟空一打听，才知道这是火焰山。想过火焰山，得找铁扇公主借芭蕉扇，对着火焰山扇三下，火焰就会熄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909960" y="304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借芭蕉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914400" y="3809880"/>
            <a:ext cx="2971800" cy="1676520"/>
          </a:xfrm>
          <a:prstGeom prst="cloudCallout">
            <a:avLst>
              <a:gd name="adj1" fmla="val -42787"/>
              <a:gd name="adj2" fmla="val 7547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孙悟空每次借芭蕉扇有什么不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13906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父，我借芭蕉扇去，你们在这儿等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悟空翻了一个跟头，来到了翠云山。他向铁扇公主行了个礼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被火焰山挡住了去路，请你把芭蕉扇借我老孙一用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铁扇公主哪里肯借，故意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等着，你等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从嘴里吐出一把树叶大的扇子，拿在手里一晃，就变得席子那么大了。铁扇公主举起芭蕉扇，朝孙悟空一扇，扇起一阵狂风，把孙悟空吹刮到天上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990720" y="3657600"/>
            <a:ext cx="7848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80880" y="4038480"/>
            <a:ext cx="2895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23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30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