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9018-CAD0-4F93-84CD-E3FFC26367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D779-E38E-479E-89D8-F86928051F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A76-372B-45B3-89A5-AE3832B1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4201-E041-4110-A4F5-D084B80B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369-B159-4C7F-BC96-EC4B4A7B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39F-D16D-4C33-B7EF-27A04D9C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9CA-C108-4EE7-8414-D9BBEF2E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7196-3FC8-48D5-B8AE-FAB902B9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1CB5-8AAF-4D65-88A3-D4290BA3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123-7F8C-468E-B41D-E79A740B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C8C-B20C-4800-AB0E-432BA4F1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A47-E1B7-45D1-A134-D1B05F3B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79C-94A2-4B0E-B0C9-BF590582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CD6-62E5-437F-9C0D-D5B0AEB8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3326-4310-42DD-9BD0-B595B80A9E7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17F3-D1E5-4A53-95BC-59354E6426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" descr=""/>
          <p:cNvPicPr/>
          <p:nvPr/>
        </p:nvPicPr>
        <p:blipFill>
          <a:blip r:embed="rId1"/>
          <a:stretch/>
        </p:blipFill>
        <p:spPr>
          <a:xfrm>
            <a:off x="3254400" y="2550960"/>
            <a:ext cx="3079800" cy="3067200"/>
          </a:xfrm>
          <a:prstGeom prst="rect">
            <a:avLst/>
          </a:prstGeom>
          <a:ln w="0">
            <a:noFill/>
          </a:ln>
        </p:spPr>
      </p:pic>
      <p:sp>
        <p:nvSpPr>
          <p:cNvPr id="49" name="矩形 3"/>
          <p:cNvSpPr/>
          <p:nvPr/>
        </p:nvSpPr>
        <p:spPr>
          <a:xfrm>
            <a:off x="1669320" y="564516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1492200" y="1057320"/>
            <a:ext cx="63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三借芭蕉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t01726dc85701d67037"/>
          <p:cNvPicPr/>
          <p:nvPr/>
        </p:nvPicPr>
        <p:blipFill>
          <a:blip r:embed="rId1"/>
          <a:stretch/>
        </p:blipFill>
        <p:spPr>
          <a:xfrm>
            <a:off x="-54000" y="-3240"/>
            <a:ext cx="9350280" cy="700884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3"/>
          <p:cNvSpPr/>
          <p:nvPr/>
        </p:nvSpPr>
        <p:spPr>
          <a:xfrm>
            <a:off x="252360" y="333360"/>
            <a:ext cx="3600360" cy="1584360"/>
          </a:xfrm>
          <a:prstGeom prst="irregularSeal1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角色扮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73120" y="2781360"/>
            <a:ext cx="31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位男同学演孙悟空，一位女同学演铁扇公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感情的朗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—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5580000" y="5518080"/>
            <a:ext cx="1656000" cy="574920"/>
          </a:xfrm>
          <a:prstGeom prst="flowChartDisplay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t01ce57ca92b8b5ab8e"/>
          <p:cNvPicPr/>
          <p:nvPr/>
        </p:nvPicPr>
        <p:blipFill>
          <a:blip r:embed="rId1"/>
          <a:stretch/>
        </p:blipFill>
        <p:spPr>
          <a:xfrm>
            <a:off x="-23760" y="-1440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3"/>
          <p:cNvSpPr/>
          <p:nvPr/>
        </p:nvSpPr>
        <p:spPr>
          <a:xfrm>
            <a:off x="468360" y="189000"/>
            <a:ext cx="1366920" cy="129708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1835280" y="333360"/>
            <a:ext cx="223524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latin typeface="宋体"/>
              </a:rPr>
              <a:t>品重点句</a:t>
            </a:r>
            <a:endParaRPr b="0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latin typeface="宋体"/>
              <a:ea typeface="宋体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-23760" y="1486080"/>
            <a:ext cx="870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孙悟空摇身一变，变成一只小虫子，从门缝飞进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看见铁扇公主正在喝茶，他就飞到她的茶杯里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666440" y="2925720"/>
            <a:ext cx="571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孙悟空这就不客气，在铁扇公主的肚子里翻起跟斗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疼得铁扇公主在地上直打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823840" y="4221000"/>
            <a:ext cx="30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“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孙悟空爬到铁扇公主的嘴里，把头伸到外面瞧一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。。。。。。这才呼的一下跳出来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102560" y="534816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（机智、灵活、勇于斗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t01726dc85701d67037"/>
          <p:cNvPicPr/>
          <p:nvPr/>
        </p:nvPicPr>
        <p:blipFill>
          <a:blip r:embed="rId1"/>
          <a:stretch/>
        </p:blipFill>
        <p:spPr>
          <a:xfrm>
            <a:off x="-54000" y="-3240"/>
            <a:ext cx="9350280" cy="70088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3878280" y="2444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三借芭蕉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41440" y="1203480"/>
          <a:ext cx="8136000" cy="4381200"/>
        </p:xfrm>
        <a:graphic>
          <a:graphicData uri="http://schemas.openxmlformats.org/drawingml/2006/table">
            <a:tbl>
              <a:tblPr/>
              <a:tblGrid>
                <a:gridCol w="2711520"/>
                <a:gridCol w="2711520"/>
                <a:gridCol w="2712960"/>
              </a:tblGrid>
              <a:tr h="880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孙悟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铁扇公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一借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160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二借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2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三借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7" name="Text Box 48">
            <a:hlinkClick r:id="rId2" action="ppaction://hlinksldjump"/>
          </p:cNvPr>
          <p:cNvSpPr/>
          <p:nvPr/>
        </p:nvSpPr>
        <p:spPr>
          <a:xfrm>
            <a:off x="4329000" y="2349360"/>
            <a:ext cx="5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9">
            <a:hlinkClick r:id="rId3" action="ppaction://hlinksldjump"/>
          </p:cNvPr>
          <p:cNvSpPr/>
          <p:nvPr/>
        </p:nvSpPr>
        <p:spPr>
          <a:xfrm>
            <a:off x="4411080" y="3502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6905880" y="2349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不肯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6905880" y="3502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给假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t01726dc85701d67037"/>
          <p:cNvPicPr/>
          <p:nvPr/>
        </p:nvPicPr>
        <p:blipFill>
          <a:blip r:embed="rId1"/>
          <a:stretch/>
        </p:blipFill>
        <p:spPr>
          <a:xfrm>
            <a:off x="-54000" y="-3240"/>
            <a:ext cx="9350280" cy="70088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878280" y="2444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三借芭蕉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41440" y="1203480"/>
          <a:ext cx="8136000" cy="4381200"/>
        </p:xfrm>
        <a:graphic>
          <a:graphicData uri="http://schemas.openxmlformats.org/drawingml/2006/table">
            <a:tbl>
              <a:tblPr/>
              <a:tblGrid>
                <a:gridCol w="2711520"/>
                <a:gridCol w="2711520"/>
                <a:gridCol w="2712960"/>
              </a:tblGrid>
              <a:tr h="880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孙悟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铁扇公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一借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160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二借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2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三借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4" name="Text Box 48">
            <a:hlinkClick r:id="rId2" action="ppaction://hlinksldjump"/>
          </p:cNvPr>
          <p:cNvSpPr/>
          <p:nvPr/>
        </p:nvSpPr>
        <p:spPr>
          <a:xfrm>
            <a:off x="4329000" y="2349360"/>
            <a:ext cx="5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9">
            <a:hlinkClick r:id="rId3" action="ppaction://hlinksldjump"/>
          </p:cNvPr>
          <p:cNvSpPr/>
          <p:nvPr/>
        </p:nvSpPr>
        <p:spPr>
          <a:xfrm>
            <a:off x="4411080" y="3502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0"/>
          <p:cNvSpPr/>
          <p:nvPr/>
        </p:nvSpPr>
        <p:spPr>
          <a:xfrm>
            <a:off x="4411080" y="4730760"/>
            <a:ext cx="4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6905880" y="2349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不肯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905880" y="3502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给假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6636600" y="47307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被骗走真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t01b7c56429b39f4493"/>
          <p:cNvPicPr/>
          <p:nvPr/>
        </p:nvPicPr>
        <p:blipFill>
          <a:blip r:embed="rId1"/>
          <a:stretch/>
        </p:blipFill>
        <p:spPr>
          <a:xfrm>
            <a:off x="1440" y="-17640"/>
            <a:ext cx="9215640" cy="69040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3"/>
          <p:cNvSpPr/>
          <p:nvPr/>
        </p:nvSpPr>
        <p:spPr>
          <a:xfrm>
            <a:off x="425520" y="406440"/>
            <a:ext cx="2274840" cy="1368360"/>
          </a:xfrm>
          <a:prstGeom prst="flowChartMultidocumen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107720" y="747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启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923760" y="2565360"/>
            <a:ext cx="6583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逼、骗并不是我们要学习的品质，我们做人还是要礼字当先。但对于敌人，我们要机智勇敢，不但要敢于斗争，还要善于斗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645560" y="442260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评孙悟空：有勇有谋，不怕困难，勇于斗争，善于斗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569680" y="177480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礼、逼、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借芭蕉扇的过程中我们要明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t01c3e98ebac3ecedcd"/>
          <p:cNvPicPr/>
          <p:nvPr/>
        </p:nvPicPr>
        <p:blipFill>
          <a:blip r:embed="rId1"/>
          <a:stretch/>
        </p:blipFill>
        <p:spPr>
          <a:xfrm>
            <a:off x="3240" y="-309600"/>
            <a:ext cx="9405720" cy="70358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1038240" y="117360"/>
            <a:ext cx="18874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后练习第二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927520" y="1038240"/>
            <a:ext cx="11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前面有一座大山，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呼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地燃着大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668760" y="15573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021400" y="1571760"/>
            <a:ext cx="335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呼呼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象声词，写出了火燃烧的旺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936440" y="2289240"/>
            <a:ext cx="53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铁扇公主没留神，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咕噜咕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孙悟空也喝到肚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里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755000" y="363060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空起了乌云，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沙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地下起雨来，好凉快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2737080" y="3233880"/>
            <a:ext cx="34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咕噜咕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 象声词，写出了铁扇公主喝水很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242520" y="4356000"/>
            <a:ext cx="60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沙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象声词，写的是雨水落地的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t0190f6a45acb3a59b5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6888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828720" y="566640"/>
            <a:ext cx="36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团队合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44720" y="2355840"/>
            <a:ext cx="72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四个人一组，把“一借”芭蕉扇的过程像说故事一样复述出来，要求把过程说清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t0190f6a45acb3a59b5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68882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1238040" y="917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再练复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26920" y="2349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四人小组，再练习复述“一借”过程，要求不仅把过程说清楚，再加上人物的表情、相关的细节，把内容说得更生动、更精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"/>
          <p:cNvSpPr/>
          <p:nvPr/>
        </p:nvSpPr>
        <p:spPr>
          <a:xfrm>
            <a:off x="631800" y="5556240"/>
            <a:ext cx="56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D420-CAED-49CF-B550-2CEF65451D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2356920" y="1576440"/>
            <a:ext cx="347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听音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这是哪部动画里的主题曲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张伟进 - 猴哥 - 动画片西游记.mp3" descr="张伟进 - 猴哥 - 动画片西游记"/>
          <p:cNvPicPr/>
          <p:nvPr/>
        </p:nvPicPr>
        <p:blipFill>
          <a:blip r:embed="rId1"/>
          <a:stretch/>
        </p:blipFill>
        <p:spPr>
          <a:xfrm>
            <a:off x="5864400" y="6165720"/>
            <a:ext cx="531720" cy="5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98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966240" y="1268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自读提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95280" y="2637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朗读课文，找出生字，注意生字词的读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1781280" y="15112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08000" y="1638360"/>
            <a:ext cx="31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035080" y="1765440"/>
            <a:ext cx="31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162160" y="189216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289240" y="201924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416320" y="214632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543040" y="2273400"/>
            <a:ext cx="31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289240" y="132876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111680" y="1069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990000" y="5526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b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2670120" y="240048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4478760" y="11001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4357440" y="62856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j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2214360" y="1238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芭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5659200" y="1238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香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1178280" y="27669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4478760" y="27669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3497400" y="3076560"/>
            <a:ext cx="363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1166760" y="4614840"/>
            <a:ext cx="68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4478760" y="46148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990000" y="224784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2317680" y="30765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2360520" y="30765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2797200" y="252720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2275560" y="2949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唐僧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8"/>
          <p:cNvSpPr/>
          <p:nvPr/>
        </p:nvSpPr>
        <p:spPr>
          <a:xfrm>
            <a:off x="4515840" y="2259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p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9"/>
          <p:cNvSpPr/>
          <p:nvPr/>
        </p:nvSpPr>
        <p:spPr>
          <a:xfrm>
            <a:off x="5659200" y="2949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菩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0"/>
          <p:cNvSpPr/>
          <p:nvPr/>
        </p:nvSpPr>
        <p:spPr>
          <a:xfrm>
            <a:off x="1082520" y="409572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p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1"/>
          <p:cNvSpPr/>
          <p:nvPr/>
        </p:nvSpPr>
        <p:spPr>
          <a:xfrm>
            <a:off x="2311200" y="4797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砰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4371840" y="40957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n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5659200" y="4797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挠痒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uoyanshan"/>
          <p:cNvPicPr/>
          <p:nvPr/>
        </p:nvPicPr>
        <p:blipFill>
          <a:blip r:embed="rId1"/>
          <a:stretch/>
        </p:blipFill>
        <p:spPr>
          <a:xfrm>
            <a:off x="-28440" y="0"/>
            <a:ext cx="5194080" cy="3960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5364000" y="455760"/>
            <a:ext cx="361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僧师徒四人去西天取经。有一天，他们来到一个地方，看见前面有一座大山，呼呼地燃着大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299880" y="4723920"/>
            <a:ext cx="3103560" cy="2206440"/>
            <a:chOff x="299880" y="4723920"/>
            <a:chExt cx="3103560" cy="2206440"/>
          </a:xfrm>
        </p:grpSpPr>
        <p:sp>
          <p:nvSpPr>
            <p:cNvPr id="89" name="AutoShape 5"/>
            <p:cNvSpPr/>
            <p:nvPr/>
          </p:nvSpPr>
          <p:spPr>
            <a:xfrm flipV="1" rot="15840000">
              <a:off x="895680" y="4366800"/>
              <a:ext cx="1911600" cy="29196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6"/>
            <p:cNvSpPr/>
            <p:nvPr/>
          </p:nvSpPr>
          <p:spPr>
            <a:xfrm>
              <a:off x="1057680" y="54187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怎么办呢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7"/>
          <p:cNvGrpSpPr/>
          <p:nvPr/>
        </p:nvGrpSpPr>
        <p:grpSpPr>
          <a:xfrm>
            <a:off x="4645080" y="4221000"/>
            <a:ext cx="3454200" cy="1800360"/>
            <a:chOff x="4645080" y="4221000"/>
            <a:chExt cx="3454200" cy="1800360"/>
          </a:xfrm>
        </p:grpSpPr>
        <p:sp>
          <p:nvSpPr>
            <p:cNvPr id="92" name="AutoShape 8"/>
            <p:cNvSpPr/>
            <p:nvPr/>
          </p:nvSpPr>
          <p:spPr>
            <a:xfrm>
              <a:off x="4645080" y="4221000"/>
              <a:ext cx="3454200" cy="1800360"/>
            </a:xfrm>
            <a:prstGeom prst="flowChartPunchedTap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5771520" y="4652640"/>
              <a:ext cx="140004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00"/>
                  </a:solidFill>
                  <a:latin typeface="Arial"/>
                </a:rPr>
                <a:t>借芭蕉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曹灿-西游记经典故事14 三借芭蕉扇.mp3" descr="曹灿-西游记经典故事14 三借芭蕉扇"/>
          <p:cNvPicPr/>
          <p:nvPr/>
        </p:nvPicPr>
        <p:blipFill>
          <a:blip r:embed="rId3"/>
          <a:stretch/>
        </p:blipFill>
        <p:spPr>
          <a:xfrm>
            <a:off x="7794720" y="6022800"/>
            <a:ext cx="59364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78264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t01d121139812994d4a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754200" y="5375160"/>
            <a:ext cx="119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39640" y="549360"/>
            <a:ext cx="2376720" cy="863640"/>
          </a:xfrm>
          <a:prstGeom prst="rect">
            <a:avLst/>
          </a:prstGeom>
          <a:gradFill rotWithShape="0">
            <a:gsLst>
              <a:gs pos="0">
                <a:srgbClr val="66cc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1459080" y="1917720"/>
            <a:ext cx="976320" cy="48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947960" y="896760"/>
            <a:ext cx="7196040" cy="5040360"/>
          </a:xfrm>
          <a:prstGeom prst="irregularSeal2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462480" y="2709720"/>
            <a:ext cx="352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文章中的“三借”分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出现在第几自然段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t01726dc85701d67037"/>
          <p:cNvPicPr/>
          <p:nvPr/>
        </p:nvPicPr>
        <p:blipFill>
          <a:blip r:embed="rId1"/>
          <a:stretch/>
        </p:blipFill>
        <p:spPr>
          <a:xfrm>
            <a:off x="-54000" y="-3240"/>
            <a:ext cx="9350280" cy="7008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3878280" y="2444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三借芭蕉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41440" y="1203480"/>
          <a:ext cx="8136000" cy="4381200"/>
        </p:xfrm>
        <a:graphic>
          <a:graphicData uri="http://schemas.openxmlformats.org/drawingml/2006/table">
            <a:tbl>
              <a:tblPr/>
              <a:tblGrid>
                <a:gridCol w="2711520"/>
                <a:gridCol w="2711520"/>
                <a:gridCol w="2712960"/>
              </a:tblGrid>
              <a:tr h="880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孙悟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铁扇公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一借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160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2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4" name="AutoShape 48">
            <a:hlinkClick r:id="rId2" action="ppaction://hlinksldjump"/>
          </p:cNvPr>
          <p:cNvSpPr/>
          <p:nvPr/>
        </p:nvSpPr>
        <p:spPr>
          <a:xfrm>
            <a:off x="5889600" y="6165720"/>
            <a:ext cx="576360" cy="576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9"/>
          <p:cNvSpPr/>
          <p:nvPr/>
        </p:nvSpPr>
        <p:spPr>
          <a:xfrm>
            <a:off x="1476360" y="244440"/>
            <a:ext cx="646200" cy="639720"/>
          </a:xfrm>
          <a:custGeom>
            <a:avLst/>
            <a:gdLst>
              <a:gd name="textAreaLeft" fmla="*/ 266400 w 646200"/>
              <a:gd name="textAreaRight" fmla="*/ 379800 w 646200"/>
              <a:gd name="textAreaTop" fmla="*/ 263520 h 639720"/>
              <a:gd name="textAreaBottom" fmla="*/ 376200 h 639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0"/>
          <p:cNvSpPr/>
          <p:nvPr/>
        </p:nvSpPr>
        <p:spPr>
          <a:xfrm>
            <a:off x="8677440" y="620640"/>
            <a:ext cx="618840" cy="582840"/>
          </a:xfrm>
          <a:custGeom>
            <a:avLst/>
            <a:gdLst>
              <a:gd name="textAreaLeft" fmla="*/ 254880 w 618840"/>
              <a:gd name="textAreaRight" fmla="*/ 363960 w 618840"/>
              <a:gd name="textAreaTop" fmla="*/ 240120 h 582840"/>
              <a:gd name="textAreaBottom" fmla="*/ 342720 h 58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1"/>
          <p:cNvSpPr/>
          <p:nvPr/>
        </p:nvSpPr>
        <p:spPr>
          <a:xfrm>
            <a:off x="691560" y="3406680"/>
            <a:ext cx="24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二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2"/>
          <p:cNvSpPr/>
          <p:nvPr/>
        </p:nvSpPr>
        <p:spPr>
          <a:xfrm>
            <a:off x="692280" y="469584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三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831960" y="2759040"/>
            <a:ext cx="75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他向铁扇公主行了个礼说：“我们被火焰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挡住了去路，请你把芭蕉扇借我老孙一用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187280" y="333360"/>
            <a:ext cx="3889440" cy="1295280"/>
          </a:xfrm>
          <a:prstGeom prst="irregularSeal2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品重点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12960" y="50864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有礼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880920" y="4051440"/>
            <a:ext cx="699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体会到孙悟空是个怎么的人？从哪些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以看出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986120" y="1805040"/>
            <a:ext cx="473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—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然段中哪句是写孙悟空向铁扇公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借芭蕉扇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371680" y="5086440"/>
            <a:ext cx="220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礼、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t01726dc85701d67037"/>
          <p:cNvPicPr/>
          <p:nvPr/>
        </p:nvPicPr>
        <p:blipFill>
          <a:blip r:embed="rId1"/>
          <a:stretch/>
        </p:blipFill>
        <p:spPr>
          <a:xfrm>
            <a:off x="-54000" y="-3240"/>
            <a:ext cx="9350280" cy="700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878280" y="2444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三借芭蕉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41440" y="1203480"/>
          <a:ext cx="8136000" cy="4381200"/>
        </p:xfrm>
        <a:graphic>
          <a:graphicData uri="http://schemas.openxmlformats.org/drawingml/2006/table">
            <a:tbl>
              <a:tblPr/>
              <a:tblGrid>
                <a:gridCol w="2711520"/>
                <a:gridCol w="2711520"/>
                <a:gridCol w="2712960"/>
              </a:tblGrid>
              <a:tr h="880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孙悟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铁扇公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一借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1160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二借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2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三借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8" name="Text Box 48">
            <a:hlinkClick r:id="rId2" action="ppaction://hlinksldjump"/>
          </p:cNvPr>
          <p:cNvSpPr/>
          <p:nvPr/>
        </p:nvSpPr>
        <p:spPr>
          <a:xfrm>
            <a:off x="4329000" y="2349360"/>
            <a:ext cx="5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alibri"/>
              </a:rPr>
              <a:t>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9"/>
          <p:cNvSpPr/>
          <p:nvPr/>
        </p:nvSpPr>
        <p:spPr>
          <a:xfrm>
            <a:off x="6905880" y="2349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不肯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0"/>
          <p:cNvSpPr/>
          <p:nvPr/>
        </p:nvSpPr>
        <p:spPr>
          <a:xfrm>
            <a:off x="1403280" y="244440"/>
            <a:ext cx="793800" cy="639720"/>
          </a:xfrm>
          <a:custGeom>
            <a:avLst/>
            <a:gdLst>
              <a:gd name="textAreaLeft" fmla="*/ 326880 w 793800"/>
              <a:gd name="textAreaRight" fmla="*/ 466920 w 793800"/>
              <a:gd name="textAreaTop" fmla="*/ 263520 h 639720"/>
              <a:gd name="textAreaBottom" fmla="*/ 376200 h 639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1"/>
          <p:cNvSpPr/>
          <p:nvPr/>
        </p:nvSpPr>
        <p:spPr>
          <a:xfrm>
            <a:off x="8677440" y="620640"/>
            <a:ext cx="466560" cy="865440"/>
          </a:xfrm>
          <a:custGeom>
            <a:avLst/>
            <a:gdLst>
              <a:gd name="textAreaLeft" fmla="*/ 192240 w 466560"/>
              <a:gd name="textAreaRight" fmla="*/ 274320 w 466560"/>
              <a:gd name="textAreaTop" fmla="*/ 356400 h 865440"/>
              <a:gd name="textAreaBottom" fmla="*/ 509040 h 865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2"/>
          <p:cNvSpPr/>
          <p:nvPr/>
        </p:nvSpPr>
        <p:spPr>
          <a:xfrm>
            <a:off x="4559400" y="6021360"/>
            <a:ext cx="647640" cy="720720"/>
          </a:xfrm>
          <a:custGeom>
            <a:avLst/>
            <a:gdLst>
              <a:gd name="textAreaLeft" fmla="*/ 266760 w 647640"/>
              <a:gd name="textAreaRight" fmla="*/ 380880 w 64764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2:24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